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5.jpeg" ContentType="image/jpeg"/>
  <Override PartName="/ppt/media/image24.jpeg" ContentType="image/jpeg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14.gif" ContentType="image/gif"/>
  <Override PartName="/ppt/media/image31.jpeg" ContentType="image/jpeg"/>
  <Override PartName="/ppt/media/image23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0.png" ContentType="image/png"/>
  <Override PartName="/ppt/media/image37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27.jpeg" ContentType="image/jpeg"/>
  <Override PartName="/ppt/media/image33.jpeg" ContentType="image/jpeg"/>
  <Override PartName="/ppt/media/image4.gif" ContentType="image/gif"/>
  <Override PartName="/ppt/media/image35.jpeg" ContentType="image/jpeg"/>
  <Override PartName="/ppt/media/image1.jpeg" ContentType="image/jpeg"/>
  <Override PartName="/ppt/media/image22.jpeg" ContentType="image/jpeg"/>
  <Override PartName="/ppt/media/image40.jpeg" ContentType="image/jpeg"/>
  <Override PartName="/ppt/media/image13.jpeg" ContentType="image/jpeg"/>
  <Override PartName="/ppt/media/image3.wmf" ContentType="image/x-wmf"/>
  <Override PartName="/ppt/media/image15.jpeg" ContentType="image/jpeg"/>
  <Override PartName="/ppt/media/image36.jpeg" ContentType="image/jpeg"/>
  <Override PartName="/ppt/media/image2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DF79-35C0-4619-9DAA-B8D1FE38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98D1-5348-45C0-9A47-8D3B45C5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F13D-238E-423B-8D3A-8FDB2EBBF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1254-A22E-4014-9E74-3EFA58C5D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FCDD-9E17-4006-A08A-E580BF31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FBD8-2B72-41D9-94EA-CEAD839C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6F00-3689-43C7-9C0B-0F407D95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5231-A807-45C0-BD95-42451E98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3657-712B-4918-87C4-E5AF6EED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1F3D-A585-4515-8CE3-56935DE1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960B-E501-4F06-9720-145E664C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CFA4-57BC-4436-8F2E-B91EECE7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A531-FEB7-458C-9404-5D177FAD3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ps.prenhall.com/wps/media/objects/477/488878/st1101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ps.prenhall.com/wps/media/objects/1054/1079422/media/c5s4i3/c5s4i3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ps.prenhall.com/wps/media/objects/1054/1079422/media/c5s5i5/c5s5i5.html" TargetMode="Externa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ps.prenhall.com/wps/media/objects/1054/1079422/media/c6s3item76/c6s3item76.html" TargetMode="Externa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ps.prenhall.com/wps/media/objects/1054/1079422/media/c6s9item83/c6s9item83.html" TargetMode="External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ps.prenhall.com/wps/media/objects/167/171122/PartialPressures.html" TargetMode="External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wps.prenhall.com/wps/media/objects/477/488878/flash/AADGBXU0/AADGBXU0.html" TargetMode="External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ps.prenhall.com/wps/media/objects/167/171122/KineticEnrgyofGasMolecul.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0368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chp%20open" descr=""/>
          <p:cNvPicPr/>
          <p:nvPr/>
        </p:nvPicPr>
        <p:blipFill>
          <a:blip r:embed="rId1"/>
          <a:stretch/>
        </p:blipFill>
        <p:spPr>
          <a:xfrm>
            <a:off x="3774960" y="0"/>
            <a:ext cx="51404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2895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hapter 11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Gases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Gas Properties Explained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ses have indefinite shape and volume because the freedom of the molecules allows them to move and fill the container they’re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ses are compressible and have low density because of the large  spaces between the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5173-E2BB-451F-A635-BAC7CA690481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Properties – Indefinite Shape </a:t>
            </a:r>
            <a:br>
              <a:rPr sz="4400"/>
            </a:b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and Indefinite Volume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pic>
        <p:nvPicPr>
          <p:cNvPr id="70" name="FG11_07" descr=""/>
          <p:cNvPicPr/>
          <p:nvPr/>
        </p:nvPicPr>
        <p:blipFill>
          <a:blip r:embed="rId1"/>
          <a:stretch/>
        </p:blipFill>
        <p:spPr>
          <a:xfrm>
            <a:off x="3276720" y="1752480"/>
            <a:ext cx="2647800" cy="4267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6480" y="2057400"/>
            <a:ext cx="2689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the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ecules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ough ki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to over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actions, th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moving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preading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hey fill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07200" y="2403360"/>
            <a:ext cx="242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result, g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the shap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olume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er th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5E37-AA1B-4865-BD28-608090F2DC90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Properties - Compressibility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pic>
        <p:nvPicPr>
          <p:cNvPr id="74" name="FG11_05" descr=""/>
          <p:cNvPicPr/>
          <p:nvPr/>
        </p:nvPicPr>
        <p:blipFill>
          <a:blip r:embed="rId1"/>
          <a:stretch/>
        </p:blipFill>
        <p:spPr>
          <a:xfrm>
            <a:off x="609480" y="1503360"/>
            <a:ext cx="3492720" cy="3657600"/>
          </a:xfrm>
          <a:prstGeom prst="rect">
            <a:avLst/>
          </a:prstGeom>
          <a:ln w="0">
            <a:noFill/>
          </a:ln>
        </p:spPr>
      </p:pic>
      <p:pic>
        <p:nvPicPr>
          <p:cNvPr id="75" name="FG11_06" descr=""/>
          <p:cNvPicPr/>
          <p:nvPr/>
        </p:nvPicPr>
        <p:blipFill>
          <a:blip r:embed="rId2"/>
          <a:stretch/>
        </p:blipFill>
        <p:spPr>
          <a:xfrm>
            <a:off x="4648320" y="2514600"/>
            <a:ext cx="3657600" cy="2646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05400" y="5181480"/>
            <a:ext cx="739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there is a lot of unoccupied space in th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a gas, the gas molecules can be squeezed closer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D10C-FDA9-48BE-A16C-BFA5D482C0C3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Properties – Low Density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pic>
        <p:nvPicPr>
          <p:cNvPr id="78" name="FG11_07-01a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229600" cy="2489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04680" y="4648320"/>
            <a:ext cx="72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there is a lot of unoccupied space in th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a gas, gases have low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06D1-E790-49B0-A109-F00EB29B7091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The Pressure of a Gas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5638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of the constant movement of the gas molecules and their collisions with the surfaces around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essure of a gas depends on several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gas particles in a given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ume of the co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speed of the gas part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FG11_08" descr=""/>
          <p:cNvPicPr/>
          <p:nvPr/>
        </p:nvPicPr>
        <p:blipFill>
          <a:blip r:embed="rId1"/>
          <a:stretch/>
        </p:blipFill>
        <p:spPr>
          <a:xfrm>
            <a:off x="5638680" y="1143000"/>
            <a:ext cx="3022560" cy="518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4107-A56E-430F-AF09-F35E37412B8A}" type="slidenum">
              <a:t>14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FG11_10" descr=""/>
          <p:cNvPicPr/>
          <p:nvPr/>
        </p:nvPicPr>
        <p:blipFill>
          <a:blip r:embed="rId1"/>
          <a:stretch/>
        </p:blipFill>
        <p:spPr>
          <a:xfrm>
            <a:off x="5181480" y="1371600"/>
            <a:ext cx="3073680" cy="4724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Measuring Air Pressure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aro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umn of mercury supported by air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ce of the air on the surface of the mercury balanced by the pull of gravity on the column of merc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6323760" y="4723560"/>
            <a:ext cx="685800" cy="838440"/>
          </a:xfrm>
          <a:prstGeom prst="uturnArrow">
            <a:avLst/>
          </a:prstGeom>
          <a:gradFill rotWithShape="0">
            <a:gsLst>
              <a:gs pos="0">
                <a:srgbClr val="a1a1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5994360" y="2768400"/>
            <a:ext cx="1066680" cy="254160"/>
          </a:xfrm>
          <a:custGeom>
            <a:avLst/>
            <a:gdLst>
              <a:gd name="textAreaLeft" fmla="*/ 166680 w 1066680"/>
              <a:gd name="textAreaRight" fmla="*/ 941400 w 1066680"/>
              <a:gd name="textAreaTop" fmla="*/ 66240 h 254160"/>
              <a:gd name="textAreaBottom" fmla="*/ 187920 h 254160"/>
            </a:gdLst>
            <a:ahLst/>
            <a:rect l="textAreaLeft" t="textAreaTop" r="textAreaRight" b="textAreaBottom"/>
            <a:pathLst>
              <a:path w="21600" h="21600">
                <a:moveTo>
                  <a:pt x="3375" y="5625"/>
                </a:moveTo>
                <a:lnTo>
                  <a:pt x="16296" y="5625"/>
                </a:lnTo>
                <a:lnTo>
                  <a:pt x="16296" y="0"/>
                </a:lnTo>
                <a:lnTo>
                  <a:pt x="21600" y="10800"/>
                </a:lnTo>
                <a:lnTo>
                  <a:pt x="16296" y="21600"/>
                </a:lnTo>
                <a:lnTo>
                  <a:pt x="16296" y="15975"/>
                </a:lnTo>
                <a:lnTo>
                  <a:pt x="3375" y="15975"/>
                </a:lnTo>
                <a:close/>
              </a:path>
              <a:path w="21600" h="21600">
                <a:moveTo>
                  <a:pt x="0" y="5625"/>
                </a:moveTo>
                <a:lnTo>
                  <a:pt x="675" y="5625"/>
                </a:lnTo>
                <a:lnTo>
                  <a:pt x="675" y="15975"/>
                </a:lnTo>
                <a:lnTo>
                  <a:pt x="0" y="15975"/>
                </a:lnTo>
                <a:close/>
              </a:path>
              <a:path w="21600" h="21600">
                <a:moveTo>
                  <a:pt x="1350" y="5625"/>
                </a:moveTo>
                <a:lnTo>
                  <a:pt x="2700" y="5625"/>
                </a:lnTo>
                <a:lnTo>
                  <a:pt x="2700" y="15975"/>
                </a:lnTo>
                <a:lnTo>
                  <a:pt x="1350" y="15975"/>
                </a:lnTo>
                <a:close/>
              </a:path>
            </a:pathLst>
          </a:custGeom>
          <a:gradFill rotWithShape="0">
            <a:gsLst>
              <a:gs pos="0">
                <a:srgbClr val="fea1a1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89160" y="26049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ra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EED1-5ED9-4E9D-A9FF-B7DB054DC7F2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Atmospheric Pressure &amp; Altitude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igher up in the atmosphere you go, the lower the atmospheric pressure is around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the surface the atmospheric pressure is 14.7 psi, but at 10,000 ft is is only 10.0 p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pid changes in atmospheric pressure may cause your ears to “pop” due to an imbalance in pressure on either side of your ear d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ag00165_" descr=""/>
          <p:cNvPicPr/>
          <p:nvPr/>
        </p:nvPicPr>
        <p:blipFill>
          <a:blip r:embed="rId1"/>
          <a:stretch/>
        </p:blipFill>
        <p:spPr>
          <a:xfrm>
            <a:off x="6705720" y="5334120"/>
            <a:ext cx="2104920" cy="78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6672-1267-482F-92AF-F2A9EC645B3E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Pressure Imbalance in Ear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pic>
        <p:nvPicPr>
          <p:cNvPr id="93" name="FG11_09" descr=""/>
          <p:cNvPicPr/>
          <p:nvPr/>
        </p:nvPicPr>
        <p:blipFill>
          <a:blip r:embed="rId1"/>
          <a:stretch/>
        </p:blipFill>
        <p:spPr>
          <a:xfrm>
            <a:off x="3276720" y="990720"/>
            <a:ext cx="4822560" cy="5181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29920" y="2133720"/>
            <a:ext cx="3089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re is a dif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essure acr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ardrum membran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mbrane will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ed out – what w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ly call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ped eardrum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1C34-DC7E-4833-991E-FD8E9A000C71}" type="slidenum">
              <a:t>17</a:t>
            </a:fld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Common Units of Pressure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523880"/>
          <a:ext cx="8305920" cy="4438800"/>
        </p:xfrm>
        <a:graphic>
          <a:graphicData uri="http://schemas.openxmlformats.org/drawingml/2006/table">
            <a:tbl>
              <a:tblPr/>
              <a:tblGrid>
                <a:gridCol w="4800600"/>
                <a:gridCol w="35053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erage Air Pressure at Sea Lev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cal (P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lopascal (kP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.3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mosphere (at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(exactl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imeters of mercury (mmH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0 (exactl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hes of mercury (inH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rr (tor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0 (exactl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unds per square inch (psi, lbs./in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0EA7-0236-40BC-8A8A-552CDC15D83D}" type="slidenum">
              <a:t>18</a:t>
            </a:fld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FG11_11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3962520" cy="39499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Boyle’s Law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54100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sure of a gas is inversely proportional to its 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 T and amount of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P vs V is cu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P vs 1/V is straight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P increases, V decreases by the same 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x V = cons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x 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= P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x 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ACD6-9813-48F9-A925-9EA3443802EB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G11_0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50760" y="-838080"/>
            <a:ext cx="9194760" cy="9448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Gases Pushing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6095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 molecules are constantly in 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y move and strike a surface, they push on that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 =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could measure the total amount of force exerted by gas molecules hitting the entire surface at any one instant, we would know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ess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gas is exe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ure = force per unit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7B0A-88F6-4578-B263-4B5EA8962312}" type="slidenum">
              <a:t>2</a:t>
            </a:fld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Boyle’s Experiment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41936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ed Hg to a J-tube with air trapped in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length of air column as a measure of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033880" y="1425600"/>
          <a:ext cx="4070520" cy="431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33880" y="1425600"/>
                    <a:ext cx="4070520" cy="43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FG11_11-01c" descr=""/>
          <p:cNvPicPr/>
          <p:nvPr/>
        </p:nvPicPr>
        <p:blipFill>
          <a:blip r:embed="rId4"/>
          <a:stretch/>
        </p:blipFill>
        <p:spPr>
          <a:xfrm>
            <a:off x="609480" y="3048120"/>
            <a:ext cx="273384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703C-9474-461E-84F3-BAD4A013C969}" type="slidenum">
              <a:t>20</a:t>
            </a:fld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33280" y="461880"/>
          <a:ext cx="8678880" cy="593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461880"/>
                    <a:ext cx="8678880" cy="59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007F-2B60-4C35-A33B-C7E5B8DF4A03}" type="slidenum">
              <a:t>21</a:t>
            </a:fld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533520" y="304920"/>
          <a:ext cx="7927920" cy="608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04920"/>
                    <a:ext cx="7927920" cy="60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EA9A-5DAA-4DBD-BEC9-CA9A91B2F9D1}" type="slidenum">
              <a:t>22</a:t>
            </a:fld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Boyle’s Experiment, P x V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271600" y="1744560"/>
          <a:ext cx="4586400" cy="441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0" y="1744560"/>
                    <a:ext cx="458640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257A-BA6A-4455-A5CD-F5436C6FE3EA}" type="slidenum">
              <a:t>23</a:t>
            </a:fld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FG11_13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6400800" cy="3530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128240" y="711360"/>
            <a:ext cx="6784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you double the pressure on a ga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olume is cut in half, (as long as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erature and amount of gas do not chan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A57A-34D4-4F91-BD9A-AB18190B47AB}" type="slidenum">
              <a:t>24</a:t>
            </a:fld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Boyle’s Law &amp; Breathing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phragm &amp; rib muscles con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st cavity expands - volume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ure inside lungs drops below air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 flows into lung to equilibrate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ses move from hi pressure to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h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phragm &amp; rib muscles rel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st cavity volume de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ure inside lungs rises above air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 flows out of  lung to equilibrate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 healthy person can generate a lung pressure of 1.06 a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10B3-E0D0-4B6C-B727-FA8BF937C603}" type="slidenum">
              <a:t>25</a:t>
            </a:fld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Boyle’s Law and Diving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water is denser than air, for each 10 m you dive below the surface the pressure on your lungs increases 1 a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20 m the total pressure is 3 a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r tank contained air at 1 atm pressure you would not be able to inhale it into your lu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11_14" descr=""/>
          <p:cNvPicPr/>
          <p:nvPr/>
        </p:nvPicPr>
        <p:blipFill>
          <a:blip r:embed="rId1"/>
          <a:stretch/>
        </p:blipFill>
        <p:spPr>
          <a:xfrm>
            <a:off x="4876920" y="1371600"/>
            <a:ext cx="365760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A0A9-F693-4B49-B86E-21C6B45054AC}" type="slidenum">
              <a:t>26</a:t>
            </a:fld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Boyle’s Law and Diving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uba tanks have a regulator so that the air in the tank is delivered at the same pressure as the water surrounding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diver holds her breath and rises quickly, so that the outside pressure drops to 1 atm; according to Boyle’s Law, what should happen to the volume of air in the lung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11_15" descr=""/>
          <p:cNvPicPr/>
          <p:nvPr/>
        </p:nvPicPr>
        <p:blipFill>
          <a:blip r:embed="rId1"/>
          <a:srcRect l="0" t="0" r="51529" b="8867"/>
          <a:stretch/>
        </p:blipFill>
        <p:spPr>
          <a:xfrm>
            <a:off x="5638680" y="1752480"/>
            <a:ext cx="2759040" cy="4232520"/>
          </a:xfrm>
          <a:prstGeom prst="rect">
            <a:avLst/>
          </a:prstGeom>
          <a:ln w="0">
            <a:noFill/>
          </a:ln>
        </p:spPr>
      </p:pic>
      <p:pic>
        <p:nvPicPr>
          <p:cNvPr id="122" name="11_15" descr=""/>
          <p:cNvPicPr/>
          <p:nvPr/>
        </p:nvPicPr>
        <p:blipFill>
          <a:blip r:embed="rId2"/>
          <a:srcRect l="50965" t="0" r="0" b="8976"/>
          <a:stretch/>
        </p:blipFill>
        <p:spPr>
          <a:xfrm>
            <a:off x="5651640" y="1787400"/>
            <a:ext cx="2790720" cy="422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BA62-9820-4D9A-B28E-B9E608539449}" type="slidenum">
              <a:t>27</a:t>
            </a:fld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ff"/>
                </a:solidFill>
                <a:latin typeface="Times New Roman"/>
              </a:rPr>
              <a:t>Which Way Would Air Flow?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</p:txBody>
      </p:sp>
      <p:pic>
        <p:nvPicPr>
          <p:cNvPr id="124" name="11_15-04UN" descr=""/>
          <p:cNvPicPr/>
          <p:nvPr/>
        </p:nvPicPr>
        <p:blipFill>
          <a:blip r:embed="rId1"/>
          <a:srcRect l="0" t="0" r="0" b="4547"/>
          <a:stretch/>
        </p:blipFill>
        <p:spPr>
          <a:xfrm>
            <a:off x="3276720" y="1371600"/>
            <a:ext cx="271764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D22C-B37B-4AA4-A8EE-ECA552467E6E}" type="slidenum">
              <a:t>28</a:t>
            </a:fld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69960" y="560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ff"/>
                </a:solidFill>
                <a:latin typeface="Times New Roman"/>
              </a:rPr>
              <a:t>Is this possible at a depth of 20 m?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</p:txBody>
      </p:sp>
      <p:pic>
        <p:nvPicPr>
          <p:cNvPr id="127" name="11_15-03UN" descr=""/>
          <p:cNvPicPr/>
          <p:nvPr/>
        </p:nvPicPr>
        <p:blipFill>
          <a:blip r:embed="rId1"/>
          <a:stretch/>
        </p:blipFill>
        <p:spPr>
          <a:xfrm>
            <a:off x="2703600" y="1371600"/>
            <a:ext cx="368604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E768-4E94-4090-B58B-39070CAA5D7B}" type="slidenum">
              <a:t>29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The Effect of Gas Pressure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6095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essure exerted by a gas can cause some amazing and startling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ever there is a pressure difference, a gas will flow from area of high pressure to low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igger the difference in pressure, the stronger the flow of the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re is something in the gas’ path, the gas will try to push it along as the gas flow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hh01213_" descr=""/>
          <p:cNvPicPr/>
          <p:nvPr/>
        </p:nvPicPr>
        <p:blipFill>
          <a:blip r:embed="rId1"/>
          <a:stretch/>
        </p:blipFill>
        <p:spPr>
          <a:xfrm>
            <a:off x="7010280" y="3581280"/>
            <a:ext cx="1733760" cy="2435400"/>
          </a:xfrm>
          <a:prstGeom prst="rect">
            <a:avLst/>
          </a:prstGeom>
          <a:ln w="0">
            <a:noFill/>
          </a:ln>
        </p:spPr>
      </p:pic>
      <p:pic>
        <p:nvPicPr>
          <p:cNvPr id="51" name="ag00436_" descr=""/>
          <p:cNvPicPr/>
          <p:nvPr/>
        </p:nvPicPr>
        <p:blipFill>
          <a:blip r:embed="rId2"/>
          <a:stretch/>
        </p:blipFill>
        <p:spPr>
          <a:xfrm>
            <a:off x="6705720" y="1763640"/>
            <a:ext cx="2209680" cy="142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26DB-EBFB-4CD0-92CC-47558E9FCD2E}" type="slidenum">
              <a:t>3</a:t>
            </a:fld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-360" y="2209680"/>
            <a:ext cx="5715000" cy="46483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13716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ylinder equipped with a moveable piston has an applied pressure of 4.0 atm and a volume of 6.0 L.  What is the volume if the applied pressure is      decreased to 1.0 at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248520" y="3352680"/>
            <a:ext cx="1828800" cy="1905120"/>
          </a:xfrm>
          <a:prstGeom prst="can">
            <a:avLst>
              <a:gd name="adj" fmla="val 2412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248520" y="3124080"/>
            <a:ext cx="1828800" cy="1600200"/>
            <a:chOff x="6248520" y="3124080"/>
            <a:chExt cx="1828800" cy="1600200"/>
          </a:xfrm>
        </p:grpSpPr>
        <p:sp>
          <p:nvSpPr>
            <p:cNvPr id="131" name=""/>
            <p:cNvSpPr/>
            <p:nvPr/>
          </p:nvSpPr>
          <p:spPr>
            <a:xfrm>
              <a:off x="6248520" y="3886200"/>
              <a:ext cx="1828800" cy="838080"/>
            </a:xfrm>
            <a:prstGeom prst="can">
              <a:avLst>
                <a:gd name="adj" fmla="val 35879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10640" y="3124080"/>
              <a:ext cx="304920" cy="914400"/>
            </a:xfrm>
            <a:prstGeom prst="can">
              <a:avLst>
                <a:gd name="adj" fmla="val 12675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8320" y="0"/>
            <a:ext cx="44956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464832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4320" rIns="274320" tIns="13716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810D-7714-4775-9160-3A61908568DD}" type="slidenum">
              <a:t>30</a:t>
            </a:fld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Temperature Scales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90720" y="914400"/>
            <a:ext cx="609480" cy="5029200"/>
            <a:chOff x="990720" y="914400"/>
            <a:chExt cx="609480" cy="5029200"/>
          </a:xfrm>
        </p:grpSpPr>
        <p:sp>
          <p:nvSpPr>
            <p:cNvPr id="137" name=""/>
            <p:cNvSpPr/>
            <p:nvPr/>
          </p:nvSpPr>
          <p:spPr>
            <a:xfrm>
              <a:off x="990720" y="914400"/>
              <a:ext cx="0" cy="502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90720" y="594360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90720" y="586728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90720" y="480060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90720" y="106668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90720" y="228600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90720" y="28195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971800" y="914400"/>
            <a:ext cx="609480" cy="5029200"/>
            <a:chOff x="2971800" y="914400"/>
            <a:chExt cx="609480" cy="5029200"/>
          </a:xfrm>
        </p:grpSpPr>
        <p:sp>
          <p:nvSpPr>
            <p:cNvPr id="145" name=""/>
            <p:cNvSpPr/>
            <p:nvPr/>
          </p:nvSpPr>
          <p:spPr>
            <a:xfrm>
              <a:off x="2971800" y="914400"/>
              <a:ext cx="0" cy="502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594360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71800" y="586728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71800" y="480060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71800" y="106668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971800" y="228600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71800" y="28195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952880" y="914400"/>
            <a:ext cx="609840" cy="5029200"/>
            <a:chOff x="4952880" y="914400"/>
            <a:chExt cx="609840" cy="5029200"/>
          </a:xfrm>
        </p:grpSpPr>
        <p:sp>
          <p:nvSpPr>
            <p:cNvPr id="153" name=""/>
            <p:cNvSpPr/>
            <p:nvPr/>
          </p:nvSpPr>
          <p:spPr>
            <a:xfrm>
              <a:off x="4952880" y="914400"/>
              <a:ext cx="0" cy="502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52880" y="59436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52880" y="586728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52880" y="48006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52880" y="106668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52880" y="22860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952880" y="281952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594000" y="5959440"/>
            <a:ext cx="1228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s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28440" y="5959440"/>
            <a:ext cx="1149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lv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04240" y="5959440"/>
            <a:ext cx="1702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hrenh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85800" y="5769000"/>
            <a:ext cx="844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273°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920" y="5692680"/>
            <a:ext cx="844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269°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760" y="4626000"/>
            <a:ext cx="965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183°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920" y="2644920"/>
            <a:ext cx="90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38.9°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2800" y="2111400"/>
            <a:ext cx="539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°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4200" y="892080"/>
            <a:ext cx="768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°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42840" y="5769000"/>
            <a:ext cx="518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23880" y="5692680"/>
            <a:ext cx="518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47560" y="4626000"/>
            <a:ext cx="632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42280" y="2644920"/>
            <a:ext cx="91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4.1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18960" y="2111400"/>
            <a:ext cx="74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73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95280" y="892080"/>
            <a:ext cx="74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73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4640" y="5769000"/>
            <a:ext cx="87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459 °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76720" y="5692680"/>
            <a:ext cx="81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452°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76720" y="4626000"/>
            <a:ext cx="81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297°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53400" y="2644920"/>
            <a:ext cx="704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38°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29360" y="2111400"/>
            <a:ext cx="627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2°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77080" y="892080"/>
            <a:ext cx="74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12°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985880" y="5845320"/>
            <a:ext cx="10652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solu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32880" y="5616720"/>
            <a:ext cx="1263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P  Hel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57280" y="4626000"/>
            <a:ext cx="1299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P  Oxy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57280" y="2720880"/>
            <a:ext cx="136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P  Merc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57280" y="2111400"/>
            <a:ext cx="90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P  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756560" y="892080"/>
            <a:ext cx="1136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P  W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6858000" y="914400"/>
            <a:ext cx="609480" cy="5029200"/>
            <a:chOff x="6858000" y="914400"/>
            <a:chExt cx="609480" cy="5029200"/>
          </a:xfrm>
        </p:grpSpPr>
        <p:sp>
          <p:nvSpPr>
            <p:cNvPr id="188" name=""/>
            <p:cNvSpPr/>
            <p:nvPr/>
          </p:nvSpPr>
          <p:spPr>
            <a:xfrm>
              <a:off x="6858000" y="914400"/>
              <a:ext cx="0" cy="502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58000" y="594360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58000" y="586728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58000" y="480060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58000" y="106668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58000" y="228600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858000" y="28195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7529040" y="5769000"/>
            <a:ext cx="506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86040" y="5692680"/>
            <a:ext cx="506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57440" y="4626000"/>
            <a:ext cx="734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2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57440" y="2644920"/>
            <a:ext cx="734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21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57440" y="2111400"/>
            <a:ext cx="734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59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81120" y="892080"/>
            <a:ext cx="734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71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0600" y="5959440"/>
            <a:ext cx="1365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k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Standard Conditions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reference points for compa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pressure = 1.00 a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temperature = 0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3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95A8-84D8-4B82-B010-08F72F4C30CA}" type="slidenum">
              <a:t>32</a:t>
            </a:fld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Volume and Temperature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rigid container, raising the temperature increases the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cylinder with a piston, the pressure outside and inside stay th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eep the pressure from rising, the piston moves out increasing the volume of the cyli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volume increases, pressure decr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0592-C224-441A-8E6B-C4007F6FA093}" type="slidenum">
              <a:t>33</a:t>
            </a:fld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Volume and Temperature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523880" y="1295280"/>
            <a:ext cx="7193880" cy="3629880"/>
            <a:chOff x="1523880" y="1295280"/>
            <a:chExt cx="7193880" cy="3629880"/>
          </a:xfrm>
        </p:grpSpPr>
        <p:pic>
          <p:nvPicPr>
            <p:cNvPr id="208" name="11_17" descr=""/>
            <p:cNvPicPr/>
            <p:nvPr/>
          </p:nvPicPr>
          <p:blipFill>
            <a:blip r:embed="rId1"/>
            <a:stretch/>
          </p:blipFill>
          <p:spPr>
            <a:xfrm>
              <a:off x="1523880" y="1295280"/>
              <a:ext cx="6096240" cy="231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4874760" y="3733920"/>
              <a:ext cx="3843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s a gas is heated, it expand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is causes the density of 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as to decrease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133720" y="3733920"/>
            <a:ext cx="6645240" cy="2700000"/>
            <a:chOff x="2133720" y="3733920"/>
            <a:chExt cx="6645240" cy="2700000"/>
          </a:xfrm>
        </p:grpSpPr>
        <p:pic>
          <p:nvPicPr>
            <p:cNvPr id="211" name="11_17-01UN" descr=""/>
            <p:cNvPicPr/>
            <p:nvPr/>
          </p:nvPicPr>
          <p:blipFill>
            <a:blip r:embed="rId2"/>
            <a:stretch/>
          </p:blipFill>
          <p:spPr>
            <a:xfrm>
              <a:off x="2133720" y="3733920"/>
              <a:ext cx="188280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4876920" y="4876920"/>
              <a:ext cx="3902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cause the hot air in 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alloon is less dense than 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rrounding air, it ris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4179-56ED-450F-A594-80E68188B424}" type="slidenum">
              <a:t>34</a:t>
            </a:fld>
          </a:p>
        </p:txBody>
      </p:sp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Charles’ Law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172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ume is directly proportional to tem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 P and amount of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of V vs T is straight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T increases, V also in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lvin T = Celsius T + 27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 = constant x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 measured in Kelv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529320" y="2135160"/>
                <a:ext cx="223380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EE16-B216-4057-9DCD-BBF61BEBF339}" type="slidenum">
              <a:t>35</a:t>
            </a:fld>
          </a:p>
        </p:txBody>
      </p:sp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115920" y="228600"/>
          <a:ext cx="8854920" cy="642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920" y="228600"/>
                    <a:ext cx="8854920" cy="642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196F-26F0-4B22-8618-FB820950DFA7}" type="slidenum">
              <a:t>36</a:t>
            </a:fld>
          </a:p>
        </p:txBody>
      </p:sp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1521000" y="393840"/>
            <a:ext cx="4213080" cy="6135480"/>
            <a:chOff x="1521000" y="393840"/>
            <a:chExt cx="4213080" cy="6135480"/>
          </a:xfrm>
        </p:grpSpPr>
        <p:sp>
          <p:nvSpPr>
            <p:cNvPr id="219" name=""/>
            <p:cNvSpPr/>
            <p:nvPr/>
          </p:nvSpPr>
          <p:spPr>
            <a:xfrm>
              <a:off x="4340160" y="5772240"/>
              <a:ext cx="95400" cy="183960"/>
            </a:xfrm>
            <a:custGeom>
              <a:avLst/>
              <a:gdLst/>
              <a:ahLst/>
              <a:rect l="l" t="t" r="r" b="b"/>
              <a:pathLst>
                <a:path w="60" h="116">
                  <a:moveTo>
                    <a:pt x="25" y="5"/>
                  </a:moveTo>
                  <a:lnTo>
                    <a:pt x="33" y="10"/>
                  </a:lnTo>
                  <a:lnTo>
                    <a:pt x="35" y="19"/>
                  </a:lnTo>
                  <a:lnTo>
                    <a:pt x="42" y="22"/>
                  </a:lnTo>
                  <a:lnTo>
                    <a:pt x="44" y="24"/>
                  </a:lnTo>
                  <a:lnTo>
                    <a:pt x="42" y="29"/>
                  </a:lnTo>
                  <a:lnTo>
                    <a:pt x="44" y="34"/>
                  </a:lnTo>
                  <a:lnTo>
                    <a:pt x="47" y="39"/>
                  </a:lnTo>
                  <a:lnTo>
                    <a:pt x="49" y="44"/>
                  </a:lnTo>
                  <a:lnTo>
                    <a:pt x="44" y="48"/>
                  </a:lnTo>
                  <a:lnTo>
                    <a:pt x="54" y="78"/>
                  </a:lnTo>
                  <a:lnTo>
                    <a:pt x="59" y="93"/>
                  </a:lnTo>
                  <a:lnTo>
                    <a:pt x="59" y="110"/>
                  </a:lnTo>
                  <a:lnTo>
                    <a:pt x="37" y="115"/>
                  </a:lnTo>
                  <a:lnTo>
                    <a:pt x="28" y="115"/>
                  </a:lnTo>
                  <a:lnTo>
                    <a:pt x="14" y="113"/>
                  </a:lnTo>
                  <a:lnTo>
                    <a:pt x="14" y="103"/>
                  </a:lnTo>
                  <a:lnTo>
                    <a:pt x="16" y="90"/>
                  </a:lnTo>
                  <a:lnTo>
                    <a:pt x="16" y="76"/>
                  </a:lnTo>
                  <a:lnTo>
                    <a:pt x="16" y="68"/>
                  </a:lnTo>
                  <a:lnTo>
                    <a:pt x="18" y="64"/>
                  </a:lnTo>
                  <a:lnTo>
                    <a:pt x="24" y="61"/>
                  </a:lnTo>
                  <a:lnTo>
                    <a:pt x="25" y="59"/>
                  </a:lnTo>
                  <a:lnTo>
                    <a:pt x="25" y="51"/>
                  </a:lnTo>
                  <a:lnTo>
                    <a:pt x="24" y="48"/>
                  </a:lnTo>
                  <a:lnTo>
                    <a:pt x="14" y="47"/>
                  </a:lnTo>
                  <a:lnTo>
                    <a:pt x="6" y="42"/>
                  </a:lnTo>
                  <a:lnTo>
                    <a:pt x="2" y="36"/>
                  </a:lnTo>
                  <a:lnTo>
                    <a:pt x="0" y="29"/>
                  </a:lnTo>
                  <a:lnTo>
                    <a:pt x="2" y="14"/>
                  </a:lnTo>
                  <a:lnTo>
                    <a:pt x="9" y="5"/>
                  </a:lnTo>
                  <a:lnTo>
                    <a:pt x="18" y="0"/>
                  </a:lnTo>
                  <a:lnTo>
                    <a:pt x="24" y="2"/>
                  </a:lnTo>
                  <a:lnTo>
                    <a:pt x="25" y="5"/>
                  </a:lnTo>
                </a:path>
              </a:pathLst>
            </a:custGeom>
            <a:solidFill>
              <a:srgbClr val="3000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54400" y="5705640"/>
              <a:ext cx="25560" cy="268200"/>
            </a:xfrm>
            <a:custGeom>
              <a:avLst/>
              <a:gdLst/>
              <a:ahLst/>
              <a:rect l="l" t="t" r="r" b="b"/>
              <a:pathLst>
                <a:path w="16" h="169">
                  <a:moveTo>
                    <a:pt x="0" y="0"/>
                  </a:moveTo>
                  <a:lnTo>
                    <a:pt x="0" y="18"/>
                  </a:lnTo>
                  <a:lnTo>
                    <a:pt x="2" y="39"/>
                  </a:lnTo>
                  <a:lnTo>
                    <a:pt x="8" y="88"/>
                  </a:lnTo>
                  <a:lnTo>
                    <a:pt x="13" y="132"/>
                  </a:lnTo>
                  <a:lnTo>
                    <a:pt x="13" y="153"/>
                  </a:lnTo>
                  <a:lnTo>
                    <a:pt x="15" y="1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14720" y="5718240"/>
              <a:ext cx="22320" cy="239760"/>
            </a:xfrm>
            <a:custGeom>
              <a:avLst/>
              <a:gdLst/>
              <a:ahLst/>
              <a:rect l="l" t="t" r="r" b="b"/>
              <a:pathLst>
                <a:path w="14" h="151">
                  <a:moveTo>
                    <a:pt x="0" y="0"/>
                  </a:moveTo>
                  <a:lnTo>
                    <a:pt x="2" y="36"/>
                  </a:lnTo>
                  <a:lnTo>
                    <a:pt x="5" y="78"/>
                  </a:lnTo>
                  <a:lnTo>
                    <a:pt x="10" y="116"/>
                  </a:lnTo>
                  <a:lnTo>
                    <a:pt x="13" y="1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52800" y="5780160"/>
              <a:ext cx="123840" cy="181080"/>
            </a:xfrm>
            <a:custGeom>
              <a:avLst/>
              <a:gdLst/>
              <a:ahLst/>
              <a:rect l="l" t="t" r="r" b="b"/>
              <a:pathLst>
                <a:path w="78" h="114">
                  <a:moveTo>
                    <a:pt x="67" y="9"/>
                  </a:moveTo>
                  <a:lnTo>
                    <a:pt x="62" y="5"/>
                  </a:lnTo>
                  <a:lnTo>
                    <a:pt x="55" y="2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3" y="7"/>
                  </a:lnTo>
                  <a:lnTo>
                    <a:pt x="29" y="17"/>
                  </a:lnTo>
                  <a:lnTo>
                    <a:pt x="26" y="25"/>
                  </a:lnTo>
                  <a:lnTo>
                    <a:pt x="29" y="31"/>
                  </a:lnTo>
                  <a:lnTo>
                    <a:pt x="31" y="39"/>
                  </a:lnTo>
                  <a:lnTo>
                    <a:pt x="31" y="44"/>
                  </a:lnTo>
                  <a:lnTo>
                    <a:pt x="17" y="48"/>
                  </a:lnTo>
                  <a:lnTo>
                    <a:pt x="9" y="61"/>
                  </a:lnTo>
                  <a:lnTo>
                    <a:pt x="0" y="93"/>
                  </a:lnTo>
                  <a:lnTo>
                    <a:pt x="2" y="98"/>
                  </a:lnTo>
                  <a:lnTo>
                    <a:pt x="5" y="98"/>
                  </a:lnTo>
                  <a:lnTo>
                    <a:pt x="14" y="101"/>
                  </a:lnTo>
                  <a:lnTo>
                    <a:pt x="19" y="88"/>
                  </a:lnTo>
                  <a:lnTo>
                    <a:pt x="24" y="73"/>
                  </a:lnTo>
                  <a:lnTo>
                    <a:pt x="26" y="90"/>
                  </a:lnTo>
                  <a:lnTo>
                    <a:pt x="26" y="98"/>
                  </a:lnTo>
                  <a:lnTo>
                    <a:pt x="29" y="105"/>
                  </a:lnTo>
                  <a:lnTo>
                    <a:pt x="70" y="113"/>
                  </a:lnTo>
                  <a:lnTo>
                    <a:pt x="74" y="98"/>
                  </a:lnTo>
                  <a:lnTo>
                    <a:pt x="77" y="85"/>
                  </a:lnTo>
                  <a:lnTo>
                    <a:pt x="77" y="79"/>
                  </a:lnTo>
                  <a:lnTo>
                    <a:pt x="74" y="66"/>
                  </a:lnTo>
                  <a:lnTo>
                    <a:pt x="74" y="61"/>
                  </a:lnTo>
                  <a:lnTo>
                    <a:pt x="74" y="56"/>
                  </a:lnTo>
                  <a:lnTo>
                    <a:pt x="70" y="51"/>
                  </a:lnTo>
                  <a:lnTo>
                    <a:pt x="67" y="48"/>
                  </a:lnTo>
                  <a:lnTo>
                    <a:pt x="62" y="47"/>
                  </a:lnTo>
                  <a:lnTo>
                    <a:pt x="55" y="44"/>
                  </a:lnTo>
                  <a:lnTo>
                    <a:pt x="62" y="44"/>
                  </a:lnTo>
                  <a:lnTo>
                    <a:pt x="65" y="39"/>
                  </a:lnTo>
                  <a:lnTo>
                    <a:pt x="67" y="27"/>
                  </a:lnTo>
                  <a:lnTo>
                    <a:pt x="71" y="19"/>
                  </a:lnTo>
                  <a:lnTo>
                    <a:pt x="71" y="14"/>
                  </a:lnTo>
                  <a:lnTo>
                    <a:pt x="67" y="9"/>
                  </a:lnTo>
                </a:path>
              </a:pathLst>
            </a:custGeom>
            <a:solidFill>
              <a:srgbClr val="3000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16320" y="5796000"/>
              <a:ext cx="131760" cy="168120"/>
            </a:xfrm>
            <a:custGeom>
              <a:avLst/>
              <a:gdLst/>
              <a:ahLst/>
              <a:rect l="l" t="t" r="r" b="b"/>
              <a:pathLst>
                <a:path w="83" h="106">
                  <a:moveTo>
                    <a:pt x="36" y="3"/>
                  </a:moveTo>
                  <a:lnTo>
                    <a:pt x="29" y="5"/>
                  </a:lnTo>
                  <a:lnTo>
                    <a:pt x="24" y="12"/>
                  </a:lnTo>
                  <a:lnTo>
                    <a:pt x="17" y="9"/>
                  </a:lnTo>
                  <a:lnTo>
                    <a:pt x="14" y="15"/>
                  </a:lnTo>
                  <a:lnTo>
                    <a:pt x="14" y="22"/>
                  </a:lnTo>
                  <a:lnTo>
                    <a:pt x="12" y="29"/>
                  </a:lnTo>
                  <a:lnTo>
                    <a:pt x="17" y="37"/>
                  </a:lnTo>
                  <a:lnTo>
                    <a:pt x="19" y="42"/>
                  </a:lnTo>
                  <a:lnTo>
                    <a:pt x="21" y="46"/>
                  </a:lnTo>
                  <a:lnTo>
                    <a:pt x="9" y="54"/>
                  </a:lnTo>
                  <a:lnTo>
                    <a:pt x="2" y="63"/>
                  </a:lnTo>
                  <a:lnTo>
                    <a:pt x="0" y="80"/>
                  </a:lnTo>
                  <a:lnTo>
                    <a:pt x="5" y="103"/>
                  </a:lnTo>
                  <a:lnTo>
                    <a:pt x="29" y="105"/>
                  </a:lnTo>
                  <a:lnTo>
                    <a:pt x="48" y="105"/>
                  </a:lnTo>
                  <a:lnTo>
                    <a:pt x="82" y="93"/>
                  </a:lnTo>
                  <a:lnTo>
                    <a:pt x="79" y="86"/>
                  </a:lnTo>
                  <a:lnTo>
                    <a:pt x="75" y="76"/>
                  </a:lnTo>
                  <a:lnTo>
                    <a:pt x="73" y="66"/>
                  </a:lnTo>
                  <a:lnTo>
                    <a:pt x="67" y="59"/>
                  </a:lnTo>
                  <a:lnTo>
                    <a:pt x="55" y="51"/>
                  </a:lnTo>
                  <a:lnTo>
                    <a:pt x="50" y="49"/>
                  </a:lnTo>
                  <a:lnTo>
                    <a:pt x="48" y="44"/>
                  </a:lnTo>
                  <a:lnTo>
                    <a:pt x="53" y="39"/>
                  </a:lnTo>
                  <a:lnTo>
                    <a:pt x="58" y="37"/>
                  </a:lnTo>
                  <a:lnTo>
                    <a:pt x="61" y="29"/>
                  </a:lnTo>
                  <a:lnTo>
                    <a:pt x="62" y="17"/>
                  </a:lnTo>
                  <a:lnTo>
                    <a:pt x="55" y="5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3"/>
                  </a:lnTo>
                </a:path>
              </a:pathLst>
            </a:custGeom>
            <a:solidFill>
              <a:srgbClr val="3000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73600" y="5681520"/>
              <a:ext cx="55440" cy="250920"/>
            </a:xfrm>
            <a:custGeom>
              <a:avLst/>
              <a:gdLst/>
              <a:ahLst/>
              <a:rect l="l" t="t" r="r" b="b"/>
              <a:pathLst>
                <a:path w="35" h="158">
                  <a:moveTo>
                    <a:pt x="0" y="0"/>
                  </a:moveTo>
                  <a:lnTo>
                    <a:pt x="11" y="44"/>
                  </a:lnTo>
                  <a:lnTo>
                    <a:pt x="18" y="77"/>
                  </a:lnTo>
                  <a:lnTo>
                    <a:pt x="24" y="113"/>
                  </a:lnTo>
                  <a:lnTo>
                    <a:pt x="34" y="1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410000" y="5632560"/>
              <a:ext cx="38160" cy="288720"/>
            </a:xfrm>
            <a:custGeom>
              <a:avLst/>
              <a:gdLst/>
              <a:ahLst/>
              <a:rect l="l" t="t" r="r" b="b"/>
              <a:pathLst>
                <a:path w="24" h="182">
                  <a:moveTo>
                    <a:pt x="0" y="0"/>
                  </a:moveTo>
                  <a:lnTo>
                    <a:pt x="5" y="46"/>
                  </a:lnTo>
                  <a:lnTo>
                    <a:pt x="13" y="98"/>
                  </a:lnTo>
                  <a:lnTo>
                    <a:pt x="18" y="144"/>
                  </a:lnTo>
                  <a:lnTo>
                    <a:pt x="21" y="165"/>
                  </a:lnTo>
                  <a:lnTo>
                    <a:pt x="23" y="1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27560" y="5676840"/>
              <a:ext cx="46080" cy="276120"/>
            </a:xfrm>
            <a:custGeom>
              <a:avLst/>
              <a:gdLst/>
              <a:ahLst/>
              <a:rect l="l" t="t" r="r" b="b"/>
              <a:pathLst>
                <a:path w="29" h="174">
                  <a:moveTo>
                    <a:pt x="0" y="0"/>
                  </a:moveTo>
                  <a:lnTo>
                    <a:pt x="15" y="93"/>
                  </a:lnTo>
                  <a:lnTo>
                    <a:pt x="21" y="137"/>
                  </a:lnTo>
                  <a:lnTo>
                    <a:pt x="23" y="158"/>
                  </a:lnTo>
                  <a:lnTo>
                    <a:pt x="28" y="17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4800" y="5935680"/>
              <a:ext cx="96840" cy="195120"/>
            </a:xfrm>
            <a:custGeom>
              <a:avLst/>
              <a:gdLst/>
              <a:ahLst/>
              <a:rect l="l" t="t" r="r" b="b"/>
              <a:pathLst>
                <a:path w="61" h="123">
                  <a:moveTo>
                    <a:pt x="49" y="0"/>
                  </a:moveTo>
                  <a:lnTo>
                    <a:pt x="36" y="13"/>
                  </a:lnTo>
                  <a:lnTo>
                    <a:pt x="23" y="31"/>
                  </a:lnTo>
                  <a:lnTo>
                    <a:pt x="10" y="49"/>
                  </a:lnTo>
                  <a:lnTo>
                    <a:pt x="3" y="67"/>
                  </a:lnTo>
                  <a:lnTo>
                    <a:pt x="0" y="85"/>
                  </a:lnTo>
                  <a:lnTo>
                    <a:pt x="0" y="98"/>
                  </a:lnTo>
                  <a:lnTo>
                    <a:pt x="5" y="109"/>
                  </a:lnTo>
                  <a:lnTo>
                    <a:pt x="16" y="116"/>
                  </a:lnTo>
                  <a:lnTo>
                    <a:pt x="26" y="122"/>
                  </a:lnTo>
                  <a:lnTo>
                    <a:pt x="42" y="122"/>
                  </a:lnTo>
                  <a:lnTo>
                    <a:pt x="52" y="119"/>
                  </a:lnTo>
                  <a:lnTo>
                    <a:pt x="57" y="109"/>
                  </a:lnTo>
                  <a:lnTo>
                    <a:pt x="60" y="104"/>
                  </a:lnTo>
                  <a:lnTo>
                    <a:pt x="60" y="91"/>
                  </a:lnTo>
                  <a:lnTo>
                    <a:pt x="60" y="65"/>
                  </a:lnTo>
                  <a:lnTo>
                    <a:pt x="49" y="0"/>
                  </a:lnTo>
                </a:path>
              </a:pathLst>
            </a:custGeom>
            <a:solidFill>
              <a:srgbClr val="28303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21000" y="1697040"/>
              <a:ext cx="2255760" cy="3706920"/>
            </a:xfrm>
            <a:custGeom>
              <a:avLst/>
              <a:gdLst/>
              <a:ahLst/>
              <a:rect l="l" t="t" r="r" b="b"/>
              <a:pathLst>
                <a:path w="1421" h="2335">
                  <a:moveTo>
                    <a:pt x="1399" y="2334"/>
                  </a:moveTo>
                  <a:lnTo>
                    <a:pt x="1381" y="2310"/>
                  </a:lnTo>
                  <a:lnTo>
                    <a:pt x="1355" y="2285"/>
                  </a:lnTo>
                  <a:lnTo>
                    <a:pt x="1329" y="2256"/>
                  </a:lnTo>
                  <a:lnTo>
                    <a:pt x="1298" y="2225"/>
                  </a:lnTo>
                  <a:lnTo>
                    <a:pt x="1262" y="2191"/>
                  </a:lnTo>
                  <a:lnTo>
                    <a:pt x="1225" y="2153"/>
                  </a:lnTo>
                  <a:lnTo>
                    <a:pt x="1140" y="2070"/>
                  </a:lnTo>
                  <a:lnTo>
                    <a:pt x="1049" y="1979"/>
                  </a:lnTo>
                  <a:lnTo>
                    <a:pt x="947" y="1881"/>
                  </a:lnTo>
                  <a:lnTo>
                    <a:pt x="844" y="1777"/>
                  </a:lnTo>
                  <a:lnTo>
                    <a:pt x="737" y="1669"/>
                  </a:lnTo>
                  <a:lnTo>
                    <a:pt x="631" y="1555"/>
                  </a:lnTo>
                  <a:lnTo>
                    <a:pt x="530" y="1444"/>
                  </a:lnTo>
                  <a:lnTo>
                    <a:pt x="431" y="1330"/>
                  </a:lnTo>
                  <a:lnTo>
                    <a:pt x="340" y="1221"/>
                  </a:lnTo>
                  <a:lnTo>
                    <a:pt x="257" y="1112"/>
                  </a:lnTo>
                  <a:lnTo>
                    <a:pt x="221" y="1061"/>
                  </a:lnTo>
                  <a:lnTo>
                    <a:pt x="189" y="1011"/>
                  </a:lnTo>
                  <a:lnTo>
                    <a:pt x="158" y="962"/>
                  </a:lnTo>
                  <a:lnTo>
                    <a:pt x="132" y="913"/>
                  </a:lnTo>
                  <a:lnTo>
                    <a:pt x="112" y="869"/>
                  </a:lnTo>
                  <a:lnTo>
                    <a:pt x="93" y="825"/>
                  </a:lnTo>
                  <a:lnTo>
                    <a:pt x="73" y="773"/>
                  </a:lnTo>
                  <a:lnTo>
                    <a:pt x="54" y="716"/>
                  </a:lnTo>
                  <a:lnTo>
                    <a:pt x="39" y="657"/>
                  </a:lnTo>
                  <a:lnTo>
                    <a:pt x="26" y="595"/>
                  </a:lnTo>
                  <a:lnTo>
                    <a:pt x="8" y="476"/>
                  </a:lnTo>
                  <a:lnTo>
                    <a:pt x="3" y="419"/>
                  </a:lnTo>
                  <a:lnTo>
                    <a:pt x="0" y="370"/>
                  </a:lnTo>
                  <a:lnTo>
                    <a:pt x="3" y="323"/>
                  </a:lnTo>
                  <a:lnTo>
                    <a:pt x="8" y="274"/>
                  </a:lnTo>
                  <a:lnTo>
                    <a:pt x="18" y="225"/>
                  </a:lnTo>
                  <a:lnTo>
                    <a:pt x="31" y="176"/>
                  </a:lnTo>
                  <a:lnTo>
                    <a:pt x="65" y="80"/>
                  </a:lnTo>
                  <a:lnTo>
                    <a:pt x="80" y="36"/>
                  </a:lnTo>
                  <a:lnTo>
                    <a:pt x="96" y="0"/>
                  </a:lnTo>
                  <a:lnTo>
                    <a:pt x="101" y="116"/>
                  </a:lnTo>
                  <a:lnTo>
                    <a:pt x="106" y="227"/>
                  </a:lnTo>
                  <a:lnTo>
                    <a:pt x="114" y="336"/>
                  </a:lnTo>
                  <a:lnTo>
                    <a:pt x="127" y="437"/>
                  </a:lnTo>
                  <a:lnTo>
                    <a:pt x="145" y="535"/>
                  </a:lnTo>
                  <a:lnTo>
                    <a:pt x="164" y="626"/>
                  </a:lnTo>
                  <a:lnTo>
                    <a:pt x="189" y="711"/>
                  </a:lnTo>
                  <a:lnTo>
                    <a:pt x="221" y="791"/>
                  </a:lnTo>
                  <a:lnTo>
                    <a:pt x="241" y="838"/>
                  </a:lnTo>
                  <a:lnTo>
                    <a:pt x="267" y="887"/>
                  </a:lnTo>
                  <a:lnTo>
                    <a:pt x="322" y="986"/>
                  </a:lnTo>
                  <a:lnTo>
                    <a:pt x="389" y="1089"/>
                  </a:lnTo>
                  <a:lnTo>
                    <a:pt x="465" y="1190"/>
                  </a:lnTo>
                  <a:lnTo>
                    <a:pt x="543" y="1293"/>
                  </a:lnTo>
                  <a:lnTo>
                    <a:pt x="628" y="1400"/>
                  </a:lnTo>
                  <a:lnTo>
                    <a:pt x="807" y="1607"/>
                  </a:lnTo>
                  <a:lnTo>
                    <a:pt x="989" y="1808"/>
                  </a:lnTo>
                  <a:lnTo>
                    <a:pt x="1077" y="1904"/>
                  </a:lnTo>
                  <a:lnTo>
                    <a:pt x="1160" y="1997"/>
                  </a:lnTo>
                  <a:lnTo>
                    <a:pt x="1238" y="2088"/>
                  </a:lnTo>
                  <a:lnTo>
                    <a:pt x="1308" y="2171"/>
                  </a:lnTo>
                  <a:lnTo>
                    <a:pt x="1371" y="2248"/>
                  </a:lnTo>
                  <a:lnTo>
                    <a:pt x="1420" y="2321"/>
                  </a:lnTo>
                  <a:lnTo>
                    <a:pt x="1412" y="2313"/>
                  </a:lnTo>
                  <a:lnTo>
                    <a:pt x="1404" y="2313"/>
                  </a:lnTo>
                  <a:lnTo>
                    <a:pt x="1399" y="2321"/>
                  </a:lnTo>
                  <a:lnTo>
                    <a:pt x="1399" y="2334"/>
                  </a:lnTo>
                </a:path>
              </a:pathLst>
            </a:custGeom>
            <a:solidFill>
              <a:srgbClr val="08700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73280" y="1211400"/>
              <a:ext cx="2160360" cy="4171680"/>
            </a:xfrm>
            <a:custGeom>
              <a:avLst/>
              <a:gdLst/>
              <a:ahLst/>
              <a:rect l="l" t="t" r="r" b="b"/>
              <a:pathLst>
                <a:path w="1361" h="2628">
                  <a:moveTo>
                    <a:pt x="135" y="0"/>
                  </a:moveTo>
                  <a:lnTo>
                    <a:pt x="138" y="150"/>
                  </a:lnTo>
                  <a:lnTo>
                    <a:pt x="148" y="290"/>
                  </a:lnTo>
                  <a:lnTo>
                    <a:pt x="164" y="422"/>
                  </a:lnTo>
                  <a:lnTo>
                    <a:pt x="182" y="546"/>
                  </a:lnTo>
                  <a:lnTo>
                    <a:pt x="205" y="660"/>
                  </a:lnTo>
                  <a:lnTo>
                    <a:pt x="215" y="714"/>
                  </a:lnTo>
                  <a:lnTo>
                    <a:pt x="228" y="764"/>
                  </a:lnTo>
                  <a:lnTo>
                    <a:pt x="241" y="813"/>
                  </a:lnTo>
                  <a:lnTo>
                    <a:pt x="254" y="857"/>
                  </a:lnTo>
                  <a:lnTo>
                    <a:pt x="267" y="901"/>
                  </a:lnTo>
                  <a:lnTo>
                    <a:pt x="280" y="940"/>
                  </a:lnTo>
                  <a:lnTo>
                    <a:pt x="293" y="978"/>
                  </a:lnTo>
                  <a:lnTo>
                    <a:pt x="309" y="1022"/>
                  </a:lnTo>
                  <a:lnTo>
                    <a:pt x="350" y="1113"/>
                  </a:lnTo>
                  <a:lnTo>
                    <a:pt x="397" y="1211"/>
                  </a:lnTo>
                  <a:lnTo>
                    <a:pt x="454" y="1315"/>
                  </a:lnTo>
                  <a:lnTo>
                    <a:pt x="522" y="1424"/>
                  </a:lnTo>
                  <a:lnTo>
                    <a:pt x="589" y="1535"/>
                  </a:lnTo>
                  <a:lnTo>
                    <a:pt x="667" y="1649"/>
                  </a:lnTo>
                  <a:lnTo>
                    <a:pt x="745" y="1765"/>
                  </a:lnTo>
                  <a:lnTo>
                    <a:pt x="909" y="1998"/>
                  </a:lnTo>
                  <a:lnTo>
                    <a:pt x="992" y="2112"/>
                  </a:lnTo>
                  <a:lnTo>
                    <a:pt x="1072" y="2223"/>
                  </a:lnTo>
                  <a:lnTo>
                    <a:pt x="1150" y="2329"/>
                  </a:lnTo>
                  <a:lnTo>
                    <a:pt x="1228" y="2430"/>
                  </a:lnTo>
                  <a:lnTo>
                    <a:pt x="1298" y="2526"/>
                  </a:lnTo>
                  <a:lnTo>
                    <a:pt x="1360" y="2611"/>
                  </a:lnTo>
                  <a:lnTo>
                    <a:pt x="1347" y="2603"/>
                  </a:lnTo>
                  <a:lnTo>
                    <a:pt x="1334" y="2606"/>
                  </a:lnTo>
                  <a:lnTo>
                    <a:pt x="1327" y="2614"/>
                  </a:lnTo>
                  <a:lnTo>
                    <a:pt x="1324" y="2627"/>
                  </a:lnTo>
                  <a:lnTo>
                    <a:pt x="1303" y="2596"/>
                  </a:lnTo>
                  <a:lnTo>
                    <a:pt x="1280" y="2562"/>
                  </a:lnTo>
                  <a:lnTo>
                    <a:pt x="1220" y="2487"/>
                  </a:lnTo>
                  <a:lnTo>
                    <a:pt x="1153" y="2407"/>
                  </a:lnTo>
                  <a:lnTo>
                    <a:pt x="1077" y="2319"/>
                  </a:lnTo>
                  <a:lnTo>
                    <a:pt x="994" y="2226"/>
                  </a:lnTo>
                  <a:lnTo>
                    <a:pt x="906" y="2127"/>
                  </a:lnTo>
                  <a:lnTo>
                    <a:pt x="815" y="2026"/>
                  </a:lnTo>
                  <a:lnTo>
                    <a:pt x="722" y="1920"/>
                  </a:lnTo>
                  <a:lnTo>
                    <a:pt x="537" y="1706"/>
                  </a:lnTo>
                  <a:lnTo>
                    <a:pt x="452" y="1599"/>
                  </a:lnTo>
                  <a:lnTo>
                    <a:pt x="369" y="1493"/>
                  </a:lnTo>
                  <a:lnTo>
                    <a:pt x="293" y="1390"/>
                  </a:lnTo>
                  <a:lnTo>
                    <a:pt x="226" y="1289"/>
                  </a:lnTo>
                  <a:lnTo>
                    <a:pt x="197" y="1240"/>
                  </a:lnTo>
                  <a:lnTo>
                    <a:pt x="171" y="1191"/>
                  </a:lnTo>
                  <a:lnTo>
                    <a:pt x="145" y="1144"/>
                  </a:lnTo>
                  <a:lnTo>
                    <a:pt x="125" y="1097"/>
                  </a:lnTo>
                  <a:lnTo>
                    <a:pt x="93" y="1022"/>
                  </a:lnTo>
                  <a:lnTo>
                    <a:pt x="68" y="937"/>
                  </a:lnTo>
                  <a:lnTo>
                    <a:pt x="47" y="844"/>
                  </a:lnTo>
                  <a:lnTo>
                    <a:pt x="31" y="746"/>
                  </a:lnTo>
                  <a:lnTo>
                    <a:pt x="18" y="642"/>
                  </a:lnTo>
                  <a:lnTo>
                    <a:pt x="10" y="533"/>
                  </a:lnTo>
                  <a:lnTo>
                    <a:pt x="5" y="420"/>
                  </a:lnTo>
                  <a:lnTo>
                    <a:pt x="0" y="306"/>
                  </a:lnTo>
                  <a:lnTo>
                    <a:pt x="5" y="256"/>
                  </a:lnTo>
                  <a:lnTo>
                    <a:pt x="13" y="210"/>
                  </a:lnTo>
                  <a:lnTo>
                    <a:pt x="26" y="166"/>
                  </a:lnTo>
                  <a:lnTo>
                    <a:pt x="42" y="127"/>
                  </a:lnTo>
                  <a:lnTo>
                    <a:pt x="60" y="88"/>
                  </a:lnTo>
                  <a:lnTo>
                    <a:pt x="80" y="57"/>
                  </a:lnTo>
                  <a:lnTo>
                    <a:pt x="106" y="26"/>
                  </a:lnTo>
                  <a:lnTo>
                    <a:pt x="135" y="0"/>
                  </a:lnTo>
                </a:path>
              </a:pathLst>
            </a:custGeom>
            <a:solidFill>
              <a:srgbClr val="38105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87480" y="977760"/>
              <a:ext cx="2008080" cy="4380120"/>
            </a:xfrm>
            <a:custGeom>
              <a:avLst/>
              <a:gdLst/>
              <a:ahLst/>
              <a:rect l="l" t="t" r="r" b="b"/>
              <a:pathLst>
                <a:path w="1265" h="2759">
                  <a:moveTo>
                    <a:pt x="1264" y="2745"/>
                  </a:moveTo>
                  <a:lnTo>
                    <a:pt x="1243" y="2706"/>
                  </a:lnTo>
                  <a:lnTo>
                    <a:pt x="1223" y="2668"/>
                  </a:lnTo>
                  <a:lnTo>
                    <a:pt x="1176" y="2580"/>
                  </a:lnTo>
                  <a:lnTo>
                    <a:pt x="1124" y="2481"/>
                  </a:lnTo>
                  <a:lnTo>
                    <a:pt x="1064" y="2375"/>
                  </a:lnTo>
                  <a:lnTo>
                    <a:pt x="1002" y="2264"/>
                  </a:lnTo>
                  <a:lnTo>
                    <a:pt x="935" y="2148"/>
                  </a:lnTo>
                  <a:lnTo>
                    <a:pt x="800" y="1907"/>
                  </a:lnTo>
                  <a:lnTo>
                    <a:pt x="665" y="1666"/>
                  </a:lnTo>
                  <a:lnTo>
                    <a:pt x="600" y="1547"/>
                  </a:lnTo>
                  <a:lnTo>
                    <a:pt x="540" y="1433"/>
                  </a:lnTo>
                  <a:lnTo>
                    <a:pt x="483" y="1322"/>
                  </a:lnTo>
                  <a:lnTo>
                    <a:pt x="434" y="1221"/>
                  </a:lnTo>
                  <a:lnTo>
                    <a:pt x="389" y="1125"/>
                  </a:lnTo>
                  <a:lnTo>
                    <a:pt x="353" y="1040"/>
                  </a:lnTo>
                  <a:lnTo>
                    <a:pt x="319" y="926"/>
                  </a:lnTo>
                  <a:lnTo>
                    <a:pt x="283" y="805"/>
                  </a:lnTo>
                  <a:lnTo>
                    <a:pt x="247" y="678"/>
                  </a:lnTo>
                  <a:lnTo>
                    <a:pt x="215" y="546"/>
                  </a:lnTo>
                  <a:lnTo>
                    <a:pt x="187" y="411"/>
                  </a:lnTo>
                  <a:lnTo>
                    <a:pt x="164" y="274"/>
                  </a:lnTo>
                  <a:lnTo>
                    <a:pt x="151" y="137"/>
                  </a:lnTo>
                  <a:lnTo>
                    <a:pt x="143" y="0"/>
                  </a:lnTo>
                  <a:lnTo>
                    <a:pt x="127" y="8"/>
                  </a:lnTo>
                  <a:lnTo>
                    <a:pt x="106" y="21"/>
                  </a:lnTo>
                  <a:lnTo>
                    <a:pt x="86" y="39"/>
                  </a:lnTo>
                  <a:lnTo>
                    <a:pt x="65" y="59"/>
                  </a:lnTo>
                  <a:lnTo>
                    <a:pt x="29" y="103"/>
                  </a:lnTo>
                  <a:lnTo>
                    <a:pt x="0" y="147"/>
                  </a:lnTo>
                  <a:lnTo>
                    <a:pt x="0" y="186"/>
                  </a:lnTo>
                  <a:lnTo>
                    <a:pt x="0" y="228"/>
                  </a:lnTo>
                  <a:lnTo>
                    <a:pt x="0" y="272"/>
                  </a:lnTo>
                  <a:lnTo>
                    <a:pt x="3" y="321"/>
                  </a:lnTo>
                  <a:lnTo>
                    <a:pt x="5" y="372"/>
                  </a:lnTo>
                  <a:lnTo>
                    <a:pt x="10" y="427"/>
                  </a:lnTo>
                  <a:lnTo>
                    <a:pt x="23" y="546"/>
                  </a:lnTo>
                  <a:lnTo>
                    <a:pt x="42" y="673"/>
                  </a:lnTo>
                  <a:lnTo>
                    <a:pt x="68" y="805"/>
                  </a:lnTo>
                  <a:lnTo>
                    <a:pt x="101" y="944"/>
                  </a:lnTo>
                  <a:lnTo>
                    <a:pt x="145" y="1087"/>
                  </a:lnTo>
                  <a:lnTo>
                    <a:pt x="177" y="1167"/>
                  </a:lnTo>
                  <a:lnTo>
                    <a:pt x="215" y="1255"/>
                  </a:lnTo>
                  <a:lnTo>
                    <a:pt x="260" y="1345"/>
                  </a:lnTo>
                  <a:lnTo>
                    <a:pt x="314" y="1444"/>
                  </a:lnTo>
                  <a:lnTo>
                    <a:pt x="371" y="1545"/>
                  </a:lnTo>
                  <a:lnTo>
                    <a:pt x="436" y="1646"/>
                  </a:lnTo>
                  <a:lnTo>
                    <a:pt x="506" y="1754"/>
                  </a:lnTo>
                  <a:lnTo>
                    <a:pt x="579" y="1863"/>
                  </a:lnTo>
                  <a:lnTo>
                    <a:pt x="735" y="2088"/>
                  </a:lnTo>
                  <a:lnTo>
                    <a:pt x="898" y="2313"/>
                  </a:lnTo>
                  <a:lnTo>
                    <a:pt x="1064" y="2538"/>
                  </a:lnTo>
                  <a:lnTo>
                    <a:pt x="1225" y="2758"/>
                  </a:lnTo>
                  <a:lnTo>
                    <a:pt x="1228" y="2745"/>
                  </a:lnTo>
                  <a:lnTo>
                    <a:pt x="1236" y="2740"/>
                  </a:lnTo>
                  <a:lnTo>
                    <a:pt x="1249" y="2740"/>
                  </a:lnTo>
                  <a:lnTo>
                    <a:pt x="1264" y="2745"/>
                  </a:lnTo>
                </a:path>
              </a:pathLst>
            </a:custGeom>
            <a:solidFill>
              <a:srgbClr val="08700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14640" y="706320"/>
              <a:ext cx="1847880" cy="4630680"/>
            </a:xfrm>
            <a:custGeom>
              <a:avLst/>
              <a:gdLst/>
              <a:ahLst/>
              <a:rect l="l" t="t" r="r" b="b"/>
              <a:pathLst>
                <a:path w="1164" h="2917">
                  <a:moveTo>
                    <a:pt x="1121" y="2916"/>
                  </a:moveTo>
                  <a:lnTo>
                    <a:pt x="1100" y="2877"/>
                  </a:lnTo>
                  <a:lnTo>
                    <a:pt x="1080" y="2839"/>
                  </a:lnTo>
                  <a:lnTo>
                    <a:pt x="1033" y="2751"/>
                  </a:lnTo>
                  <a:lnTo>
                    <a:pt x="981" y="2652"/>
                  </a:lnTo>
                  <a:lnTo>
                    <a:pt x="921" y="2546"/>
                  </a:lnTo>
                  <a:lnTo>
                    <a:pt x="859" y="2435"/>
                  </a:lnTo>
                  <a:lnTo>
                    <a:pt x="792" y="2319"/>
                  </a:lnTo>
                  <a:lnTo>
                    <a:pt x="657" y="2078"/>
                  </a:lnTo>
                  <a:lnTo>
                    <a:pt x="522" y="1837"/>
                  </a:lnTo>
                  <a:lnTo>
                    <a:pt x="457" y="1718"/>
                  </a:lnTo>
                  <a:lnTo>
                    <a:pt x="397" y="1604"/>
                  </a:lnTo>
                  <a:lnTo>
                    <a:pt x="340" y="1493"/>
                  </a:lnTo>
                  <a:lnTo>
                    <a:pt x="291" y="1392"/>
                  </a:lnTo>
                  <a:lnTo>
                    <a:pt x="246" y="1296"/>
                  </a:lnTo>
                  <a:lnTo>
                    <a:pt x="210" y="1211"/>
                  </a:lnTo>
                  <a:lnTo>
                    <a:pt x="176" y="1097"/>
                  </a:lnTo>
                  <a:lnTo>
                    <a:pt x="140" y="976"/>
                  </a:lnTo>
                  <a:lnTo>
                    <a:pt x="104" y="849"/>
                  </a:lnTo>
                  <a:lnTo>
                    <a:pt x="72" y="717"/>
                  </a:lnTo>
                  <a:lnTo>
                    <a:pt x="44" y="582"/>
                  </a:lnTo>
                  <a:lnTo>
                    <a:pt x="21" y="445"/>
                  </a:lnTo>
                  <a:lnTo>
                    <a:pt x="8" y="308"/>
                  </a:lnTo>
                  <a:lnTo>
                    <a:pt x="0" y="171"/>
                  </a:lnTo>
                  <a:lnTo>
                    <a:pt x="13" y="148"/>
                  </a:lnTo>
                  <a:lnTo>
                    <a:pt x="28" y="124"/>
                  </a:lnTo>
                  <a:lnTo>
                    <a:pt x="49" y="101"/>
                  </a:lnTo>
                  <a:lnTo>
                    <a:pt x="70" y="78"/>
                  </a:lnTo>
                  <a:lnTo>
                    <a:pt x="96" y="57"/>
                  </a:lnTo>
                  <a:lnTo>
                    <a:pt x="127" y="36"/>
                  </a:lnTo>
                  <a:lnTo>
                    <a:pt x="158" y="18"/>
                  </a:lnTo>
                  <a:lnTo>
                    <a:pt x="197" y="0"/>
                  </a:lnTo>
                  <a:lnTo>
                    <a:pt x="205" y="67"/>
                  </a:lnTo>
                  <a:lnTo>
                    <a:pt x="215" y="140"/>
                  </a:lnTo>
                  <a:lnTo>
                    <a:pt x="226" y="215"/>
                  </a:lnTo>
                  <a:lnTo>
                    <a:pt x="241" y="292"/>
                  </a:lnTo>
                  <a:lnTo>
                    <a:pt x="275" y="453"/>
                  </a:lnTo>
                  <a:lnTo>
                    <a:pt x="314" y="618"/>
                  </a:lnTo>
                  <a:lnTo>
                    <a:pt x="358" y="779"/>
                  </a:lnTo>
                  <a:lnTo>
                    <a:pt x="379" y="859"/>
                  </a:lnTo>
                  <a:lnTo>
                    <a:pt x="400" y="934"/>
                  </a:lnTo>
                  <a:lnTo>
                    <a:pt x="420" y="1004"/>
                  </a:lnTo>
                  <a:lnTo>
                    <a:pt x="439" y="1071"/>
                  </a:lnTo>
                  <a:lnTo>
                    <a:pt x="459" y="1133"/>
                  </a:lnTo>
                  <a:lnTo>
                    <a:pt x="475" y="1190"/>
                  </a:lnTo>
                  <a:lnTo>
                    <a:pt x="488" y="1227"/>
                  </a:lnTo>
                  <a:lnTo>
                    <a:pt x="501" y="1265"/>
                  </a:lnTo>
                  <a:lnTo>
                    <a:pt x="516" y="1309"/>
                  </a:lnTo>
                  <a:lnTo>
                    <a:pt x="535" y="1359"/>
                  </a:lnTo>
                  <a:lnTo>
                    <a:pt x="555" y="1410"/>
                  </a:lnTo>
                  <a:lnTo>
                    <a:pt x="576" y="1467"/>
                  </a:lnTo>
                  <a:lnTo>
                    <a:pt x="623" y="1586"/>
                  </a:lnTo>
                  <a:lnTo>
                    <a:pt x="675" y="1713"/>
                  </a:lnTo>
                  <a:lnTo>
                    <a:pt x="729" y="1848"/>
                  </a:lnTo>
                  <a:lnTo>
                    <a:pt x="843" y="2122"/>
                  </a:lnTo>
                  <a:lnTo>
                    <a:pt x="898" y="2256"/>
                  </a:lnTo>
                  <a:lnTo>
                    <a:pt x="953" y="2386"/>
                  </a:lnTo>
                  <a:lnTo>
                    <a:pt x="1004" y="2510"/>
                  </a:lnTo>
                  <a:lnTo>
                    <a:pt x="1028" y="2567"/>
                  </a:lnTo>
                  <a:lnTo>
                    <a:pt x="1049" y="2621"/>
                  </a:lnTo>
                  <a:lnTo>
                    <a:pt x="1069" y="2670"/>
                  </a:lnTo>
                  <a:lnTo>
                    <a:pt x="1090" y="2717"/>
                  </a:lnTo>
                  <a:lnTo>
                    <a:pt x="1108" y="2761"/>
                  </a:lnTo>
                  <a:lnTo>
                    <a:pt x="1124" y="2800"/>
                  </a:lnTo>
                  <a:lnTo>
                    <a:pt x="1137" y="2833"/>
                  </a:lnTo>
                  <a:lnTo>
                    <a:pt x="1147" y="2862"/>
                  </a:lnTo>
                  <a:lnTo>
                    <a:pt x="1155" y="2885"/>
                  </a:lnTo>
                  <a:lnTo>
                    <a:pt x="1163" y="2901"/>
                  </a:lnTo>
                  <a:lnTo>
                    <a:pt x="1147" y="2896"/>
                  </a:lnTo>
                  <a:lnTo>
                    <a:pt x="1137" y="2896"/>
                  </a:lnTo>
                  <a:lnTo>
                    <a:pt x="1126" y="2903"/>
                  </a:lnTo>
                  <a:lnTo>
                    <a:pt x="1121" y="2916"/>
                  </a:lnTo>
                </a:path>
              </a:pathLst>
            </a:custGeom>
            <a:solidFill>
              <a:srgbClr val="38105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27120" y="554040"/>
              <a:ext cx="1597320" cy="4759200"/>
            </a:xfrm>
            <a:custGeom>
              <a:avLst/>
              <a:gdLst/>
              <a:ahLst/>
              <a:rect l="l" t="t" r="r" b="b"/>
              <a:pathLst>
                <a:path w="1006" h="2998">
                  <a:moveTo>
                    <a:pt x="966" y="2997"/>
                  </a:moveTo>
                  <a:lnTo>
                    <a:pt x="958" y="2981"/>
                  </a:lnTo>
                  <a:lnTo>
                    <a:pt x="950" y="2958"/>
                  </a:lnTo>
                  <a:lnTo>
                    <a:pt x="940" y="2929"/>
                  </a:lnTo>
                  <a:lnTo>
                    <a:pt x="927" y="2896"/>
                  </a:lnTo>
                  <a:lnTo>
                    <a:pt x="911" y="2857"/>
                  </a:lnTo>
                  <a:lnTo>
                    <a:pt x="893" y="2816"/>
                  </a:lnTo>
                  <a:lnTo>
                    <a:pt x="872" y="2769"/>
                  </a:lnTo>
                  <a:lnTo>
                    <a:pt x="852" y="2717"/>
                  </a:lnTo>
                  <a:lnTo>
                    <a:pt x="828" y="2663"/>
                  </a:lnTo>
                  <a:lnTo>
                    <a:pt x="807" y="2606"/>
                  </a:lnTo>
                  <a:lnTo>
                    <a:pt x="756" y="2484"/>
                  </a:lnTo>
                  <a:lnTo>
                    <a:pt x="701" y="2355"/>
                  </a:lnTo>
                  <a:lnTo>
                    <a:pt x="646" y="2220"/>
                  </a:lnTo>
                  <a:lnTo>
                    <a:pt x="532" y="1946"/>
                  </a:lnTo>
                  <a:lnTo>
                    <a:pt x="478" y="1814"/>
                  </a:lnTo>
                  <a:lnTo>
                    <a:pt x="426" y="1687"/>
                  </a:lnTo>
                  <a:lnTo>
                    <a:pt x="379" y="1566"/>
                  </a:lnTo>
                  <a:lnTo>
                    <a:pt x="358" y="1511"/>
                  </a:lnTo>
                  <a:lnTo>
                    <a:pt x="338" y="1457"/>
                  </a:lnTo>
                  <a:lnTo>
                    <a:pt x="322" y="1408"/>
                  </a:lnTo>
                  <a:lnTo>
                    <a:pt x="304" y="1364"/>
                  </a:lnTo>
                  <a:lnTo>
                    <a:pt x="291" y="1323"/>
                  </a:lnTo>
                  <a:lnTo>
                    <a:pt x="278" y="1286"/>
                  </a:lnTo>
                  <a:lnTo>
                    <a:pt x="257" y="1216"/>
                  </a:lnTo>
                  <a:lnTo>
                    <a:pt x="234" y="1144"/>
                  </a:lnTo>
                  <a:lnTo>
                    <a:pt x="192" y="994"/>
                  </a:lnTo>
                  <a:lnTo>
                    <a:pt x="148" y="836"/>
                  </a:lnTo>
                  <a:lnTo>
                    <a:pt x="107" y="676"/>
                  </a:lnTo>
                  <a:lnTo>
                    <a:pt x="70" y="518"/>
                  </a:lnTo>
                  <a:lnTo>
                    <a:pt x="39" y="365"/>
                  </a:lnTo>
                  <a:lnTo>
                    <a:pt x="26" y="293"/>
                  </a:lnTo>
                  <a:lnTo>
                    <a:pt x="16" y="223"/>
                  </a:lnTo>
                  <a:lnTo>
                    <a:pt x="8" y="158"/>
                  </a:lnTo>
                  <a:lnTo>
                    <a:pt x="0" y="96"/>
                  </a:lnTo>
                  <a:lnTo>
                    <a:pt x="16" y="75"/>
                  </a:lnTo>
                  <a:lnTo>
                    <a:pt x="36" y="60"/>
                  </a:lnTo>
                  <a:lnTo>
                    <a:pt x="60" y="47"/>
                  </a:lnTo>
                  <a:lnTo>
                    <a:pt x="88" y="34"/>
                  </a:lnTo>
                  <a:lnTo>
                    <a:pt x="153" y="16"/>
                  </a:lnTo>
                  <a:lnTo>
                    <a:pt x="226" y="0"/>
                  </a:lnTo>
                  <a:lnTo>
                    <a:pt x="239" y="65"/>
                  </a:lnTo>
                  <a:lnTo>
                    <a:pt x="254" y="137"/>
                  </a:lnTo>
                  <a:lnTo>
                    <a:pt x="270" y="218"/>
                  </a:lnTo>
                  <a:lnTo>
                    <a:pt x="288" y="300"/>
                  </a:lnTo>
                  <a:lnTo>
                    <a:pt x="325" y="479"/>
                  </a:lnTo>
                  <a:lnTo>
                    <a:pt x="364" y="660"/>
                  </a:lnTo>
                  <a:lnTo>
                    <a:pt x="384" y="748"/>
                  </a:lnTo>
                  <a:lnTo>
                    <a:pt x="405" y="836"/>
                  </a:lnTo>
                  <a:lnTo>
                    <a:pt x="423" y="919"/>
                  </a:lnTo>
                  <a:lnTo>
                    <a:pt x="441" y="997"/>
                  </a:lnTo>
                  <a:lnTo>
                    <a:pt x="457" y="1066"/>
                  </a:lnTo>
                  <a:lnTo>
                    <a:pt x="473" y="1131"/>
                  </a:lnTo>
                  <a:lnTo>
                    <a:pt x="488" y="1185"/>
                  </a:lnTo>
                  <a:lnTo>
                    <a:pt x="493" y="1211"/>
                  </a:lnTo>
                  <a:lnTo>
                    <a:pt x="501" y="1232"/>
                  </a:lnTo>
                  <a:lnTo>
                    <a:pt x="509" y="1258"/>
                  </a:lnTo>
                  <a:lnTo>
                    <a:pt x="517" y="1289"/>
                  </a:lnTo>
                  <a:lnTo>
                    <a:pt x="527" y="1325"/>
                  </a:lnTo>
                  <a:lnTo>
                    <a:pt x="540" y="1367"/>
                  </a:lnTo>
                  <a:lnTo>
                    <a:pt x="553" y="1411"/>
                  </a:lnTo>
                  <a:lnTo>
                    <a:pt x="569" y="1460"/>
                  </a:lnTo>
                  <a:lnTo>
                    <a:pt x="584" y="1514"/>
                  </a:lnTo>
                  <a:lnTo>
                    <a:pt x="600" y="1571"/>
                  </a:lnTo>
                  <a:lnTo>
                    <a:pt x="618" y="1630"/>
                  </a:lnTo>
                  <a:lnTo>
                    <a:pt x="633" y="1693"/>
                  </a:lnTo>
                  <a:lnTo>
                    <a:pt x="672" y="1822"/>
                  </a:lnTo>
                  <a:lnTo>
                    <a:pt x="711" y="1959"/>
                  </a:lnTo>
                  <a:lnTo>
                    <a:pt x="753" y="2099"/>
                  </a:lnTo>
                  <a:lnTo>
                    <a:pt x="831" y="2376"/>
                  </a:lnTo>
                  <a:lnTo>
                    <a:pt x="870" y="2510"/>
                  </a:lnTo>
                  <a:lnTo>
                    <a:pt x="906" y="2634"/>
                  </a:lnTo>
                  <a:lnTo>
                    <a:pt x="922" y="2694"/>
                  </a:lnTo>
                  <a:lnTo>
                    <a:pt x="937" y="2748"/>
                  </a:lnTo>
                  <a:lnTo>
                    <a:pt x="953" y="2800"/>
                  </a:lnTo>
                  <a:lnTo>
                    <a:pt x="966" y="2849"/>
                  </a:lnTo>
                  <a:lnTo>
                    <a:pt x="979" y="2891"/>
                  </a:lnTo>
                  <a:lnTo>
                    <a:pt x="989" y="2932"/>
                  </a:lnTo>
                  <a:lnTo>
                    <a:pt x="997" y="2966"/>
                  </a:lnTo>
                  <a:lnTo>
                    <a:pt x="1005" y="2994"/>
                  </a:lnTo>
                  <a:lnTo>
                    <a:pt x="1000" y="2986"/>
                  </a:lnTo>
                  <a:lnTo>
                    <a:pt x="992" y="2984"/>
                  </a:lnTo>
                  <a:lnTo>
                    <a:pt x="981" y="2981"/>
                  </a:lnTo>
                  <a:lnTo>
                    <a:pt x="971" y="2989"/>
                  </a:lnTo>
                  <a:lnTo>
                    <a:pt x="966" y="2997"/>
                  </a:lnTo>
                </a:path>
              </a:pathLst>
            </a:custGeom>
            <a:solidFill>
              <a:srgbClr val="08700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86040" y="419040"/>
              <a:ext cx="1303200" cy="4889520"/>
            </a:xfrm>
            <a:custGeom>
              <a:avLst/>
              <a:gdLst/>
              <a:ahLst/>
              <a:rect l="l" t="t" r="r" b="b"/>
              <a:pathLst>
                <a:path w="821" h="3080">
                  <a:moveTo>
                    <a:pt x="0" y="85"/>
                  </a:moveTo>
                  <a:lnTo>
                    <a:pt x="13" y="150"/>
                  </a:lnTo>
                  <a:lnTo>
                    <a:pt x="28" y="222"/>
                  </a:lnTo>
                  <a:lnTo>
                    <a:pt x="44" y="303"/>
                  </a:lnTo>
                  <a:lnTo>
                    <a:pt x="62" y="385"/>
                  </a:lnTo>
                  <a:lnTo>
                    <a:pt x="99" y="561"/>
                  </a:lnTo>
                  <a:lnTo>
                    <a:pt x="138" y="740"/>
                  </a:lnTo>
                  <a:lnTo>
                    <a:pt x="176" y="916"/>
                  </a:lnTo>
                  <a:lnTo>
                    <a:pt x="197" y="999"/>
                  </a:lnTo>
                  <a:lnTo>
                    <a:pt x="215" y="1076"/>
                  </a:lnTo>
                  <a:lnTo>
                    <a:pt x="231" y="1146"/>
                  </a:lnTo>
                  <a:lnTo>
                    <a:pt x="247" y="1211"/>
                  </a:lnTo>
                  <a:lnTo>
                    <a:pt x="262" y="1265"/>
                  </a:lnTo>
                  <a:lnTo>
                    <a:pt x="267" y="1289"/>
                  </a:lnTo>
                  <a:lnTo>
                    <a:pt x="275" y="1309"/>
                  </a:lnTo>
                  <a:lnTo>
                    <a:pt x="280" y="1335"/>
                  </a:lnTo>
                  <a:lnTo>
                    <a:pt x="291" y="1366"/>
                  </a:lnTo>
                  <a:lnTo>
                    <a:pt x="301" y="1402"/>
                  </a:lnTo>
                  <a:lnTo>
                    <a:pt x="314" y="1444"/>
                  </a:lnTo>
                  <a:lnTo>
                    <a:pt x="324" y="1490"/>
                  </a:lnTo>
                  <a:lnTo>
                    <a:pt x="340" y="1540"/>
                  </a:lnTo>
                  <a:lnTo>
                    <a:pt x="356" y="1591"/>
                  </a:lnTo>
                  <a:lnTo>
                    <a:pt x="374" y="1648"/>
                  </a:lnTo>
                  <a:lnTo>
                    <a:pt x="389" y="1708"/>
                  </a:lnTo>
                  <a:lnTo>
                    <a:pt x="407" y="1772"/>
                  </a:lnTo>
                  <a:lnTo>
                    <a:pt x="446" y="1902"/>
                  </a:lnTo>
                  <a:lnTo>
                    <a:pt x="485" y="2039"/>
                  </a:lnTo>
                  <a:lnTo>
                    <a:pt x="524" y="2179"/>
                  </a:lnTo>
                  <a:lnTo>
                    <a:pt x="605" y="2461"/>
                  </a:lnTo>
                  <a:lnTo>
                    <a:pt x="644" y="2593"/>
                  </a:lnTo>
                  <a:lnTo>
                    <a:pt x="680" y="2719"/>
                  </a:lnTo>
                  <a:lnTo>
                    <a:pt x="696" y="2776"/>
                  </a:lnTo>
                  <a:lnTo>
                    <a:pt x="711" y="2833"/>
                  </a:lnTo>
                  <a:lnTo>
                    <a:pt x="727" y="2885"/>
                  </a:lnTo>
                  <a:lnTo>
                    <a:pt x="740" y="2932"/>
                  </a:lnTo>
                  <a:lnTo>
                    <a:pt x="753" y="2976"/>
                  </a:lnTo>
                  <a:lnTo>
                    <a:pt x="763" y="3017"/>
                  </a:lnTo>
                  <a:lnTo>
                    <a:pt x="771" y="3051"/>
                  </a:lnTo>
                  <a:lnTo>
                    <a:pt x="779" y="3079"/>
                  </a:lnTo>
                  <a:lnTo>
                    <a:pt x="784" y="3071"/>
                  </a:lnTo>
                  <a:lnTo>
                    <a:pt x="787" y="3064"/>
                  </a:lnTo>
                  <a:lnTo>
                    <a:pt x="797" y="3058"/>
                  </a:lnTo>
                  <a:lnTo>
                    <a:pt x="807" y="3064"/>
                  </a:lnTo>
                  <a:lnTo>
                    <a:pt x="820" y="3074"/>
                  </a:lnTo>
                  <a:lnTo>
                    <a:pt x="818" y="3056"/>
                  </a:lnTo>
                  <a:lnTo>
                    <a:pt x="812" y="3030"/>
                  </a:lnTo>
                  <a:lnTo>
                    <a:pt x="807" y="2999"/>
                  </a:lnTo>
                  <a:lnTo>
                    <a:pt x="802" y="2963"/>
                  </a:lnTo>
                  <a:lnTo>
                    <a:pt x="794" y="2921"/>
                  </a:lnTo>
                  <a:lnTo>
                    <a:pt x="787" y="2875"/>
                  </a:lnTo>
                  <a:lnTo>
                    <a:pt x="779" y="2826"/>
                  </a:lnTo>
                  <a:lnTo>
                    <a:pt x="771" y="2769"/>
                  </a:lnTo>
                  <a:lnTo>
                    <a:pt x="761" y="2712"/>
                  </a:lnTo>
                  <a:lnTo>
                    <a:pt x="750" y="2650"/>
                  </a:lnTo>
                  <a:lnTo>
                    <a:pt x="729" y="2520"/>
                  </a:lnTo>
                  <a:lnTo>
                    <a:pt x="709" y="2381"/>
                  </a:lnTo>
                  <a:lnTo>
                    <a:pt x="685" y="2238"/>
                  </a:lnTo>
                  <a:lnTo>
                    <a:pt x="639" y="1948"/>
                  </a:lnTo>
                  <a:lnTo>
                    <a:pt x="615" y="1811"/>
                  </a:lnTo>
                  <a:lnTo>
                    <a:pt x="597" y="1679"/>
                  </a:lnTo>
                  <a:lnTo>
                    <a:pt x="587" y="1617"/>
                  </a:lnTo>
                  <a:lnTo>
                    <a:pt x="576" y="1558"/>
                  </a:lnTo>
                  <a:lnTo>
                    <a:pt x="566" y="1503"/>
                  </a:lnTo>
                  <a:lnTo>
                    <a:pt x="558" y="1452"/>
                  </a:lnTo>
                  <a:lnTo>
                    <a:pt x="550" y="1402"/>
                  </a:lnTo>
                  <a:lnTo>
                    <a:pt x="542" y="1361"/>
                  </a:lnTo>
                  <a:lnTo>
                    <a:pt x="537" y="1322"/>
                  </a:lnTo>
                  <a:lnTo>
                    <a:pt x="530" y="1291"/>
                  </a:lnTo>
                  <a:lnTo>
                    <a:pt x="524" y="1265"/>
                  </a:lnTo>
                  <a:lnTo>
                    <a:pt x="519" y="1237"/>
                  </a:lnTo>
                  <a:lnTo>
                    <a:pt x="509" y="1175"/>
                  </a:lnTo>
                  <a:lnTo>
                    <a:pt x="493" y="1100"/>
                  </a:lnTo>
                  <a:lnTo>
                    <a:pt x="480" y="1019"/>
                  </a:lnTo>
                  <a:lnTo>
                    <a:pt x="462" y="931"/>
                  </a:lnTo>
                  <a:lnTo>
                    <a:pt x="446" y="841"/>
                  </a:lnTo>
                  <a:lnTo>
                    <a:pt x="413" y="647"/>
                  </a:lnTo>
                  <a:lnTo>
                    <a:pt x="376" y="455"/>
                  </a:lnTo>
                  <a:lnTo>
                    <a:pt x="361" y="365"/>
                  </a:lnTo>
                  <a:lnTo>
                    <a:pt x="345" y="279"/>
                  </a:lnTo>
                  <a:lnTo>
                    <a:pt x="332" y="199"/>
                  </a:lnTo>
                  <a:lnTo>
                    <a:pt x="319" y="127"/>
                  </a:lnTo>
                  <a:lnTo>
                    <a:pt x="314" y="93"/>
                  </a:lnTo>
                  <a:lnTo>
                    <a:pt x="309" y="62"/>
                  </a:lnTo>
                  <a:lnTo>
                    <a:pt x="304" y="36"/>
                  </a:lnTo>
                  <a:lnTo>
                    <a:pt x="298" y="13"/>
                  </a:lnTo>
                  <a:lnTo>
                    <a:pt x="262" y="3"/>
                  </a:lnTo>
                  <a:lnTo>
                    <a:pt x="221" y="0"/>
                  </a:lnTo>
                  <a:lnTo>
                    <a:pt x="174" y="5"/>
                  </a:lnTo>
                  <a:lnTo>
                    <a:pt x="127" y="15"/>
                  </a:lnTo>
                  <a:lnTo>
                    <a:pt x="83" y="28"/>
                  </a:lnTo>
                  <a:lnTo>
                    <a:pt x="44" y="46"/>
                  </a:lnTo>
                  <a:lnTo>
                    <a:pt x="18" y="65"/>
                  </a:lnTo>
                  <a:lnTo>
                    <a:pt x="8" y="75"/>
                  </a:lnTo>
                  <a:lnTo>
                    <a:pt x="0" y="85"/>
                  </a:lnTo>
                </a:path>
              </a:pathLst>
            </a:custGeom>
            <a:solidFill>
              <a:srgbClr val="38105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71840" y="1413000"/>
              <a:ext cx="1362240" cy="3916080"/>
            </a:xfrm>
            <a:custGeom>
              <a:avLst/>
              <a:gdLst/>
              <a:ahLst/>
              <a:rect l="l" t="t" r="r" b="b"/>
              <a:pathLst>
                <a:path w="858" h="2467">
                  <a:moveTo>
                    <a:pt x="24" y="2466"/>
                  </a:moveTo>
                  <a:lnTo>
                    <a:pt x="37" y="2443"/>
                  </a:lnTo>
                  <a:lnTo>
                    <a:pt x="52" y="2414"/>
                  </a:lnTo>
                  <a:lnTo>
                    <a:pt x="70" y="2383"/>
                  </a:lnTo>
                  <a:lnTo>
                    <a:pt x="91" y="2347"/>
                  </a:lnTo>
                  <a:lnTo>
                    <a:pt x="115" y="2311"/>
                  </a:lnTo>
                  <a:lnTo>
                    <a:pt x="141" y="2269"/>
                  </a:lnTo>
                  <a:lnTo>
                    <a:pt x="169" y="2225"/>
                  </a:lnTo>
                  <a:lnTo>
                    <a:pt x="200" y="2179"/>
                  </a:lnTo>
                  <a:lnTo>
                    <a:pt x="265" y="2078"/>
                  </a:lnTo>
                  <a:lnTo>
                    <a:pt x="333" y="1972"/>
                  </a:lnTo>
                  <a:lnTo>
                    <a:pt x="405" y="1858"/>
                  </a:lnTo>
                  <a:lnTo>
                    <a:pt x="478" y="1739"/>
                  </a:lnTo>
                  <a:lnTo>
                    <a:pt x="548" y="1617"/>
                  </a:lnTo>
                  <a:lnTo>
                    <a:pt x="616" y="1496"/>
                  </a:lnTo>
                  <a:lnTo>
                    <a:pt x="678" y="1372"/>
                  </a:lnTo>
                  <a:lnTo>
                    <a:pt x="735" y="1253"/>
                  </a:lnTo>
                  <a:lnTo>
                    <a:pt x="782" y="1133"/>
                  </a:lnTo>
                  <a:lnTo>
                    <a:pt x="803" y="1077"/>
                  </a:lnTo>
                  <a:lnTo>
                    <a:pt x="818" y="1022"/>
                  </a:lnTo>
                  <a:lnTo>
                    <a:pt x="834" y="968"/>
                  </a:lnTo>
                  <a:lnTo>
                    <a:pt x="844" y="916"/>
                  </a:lnTo>
                  <a:lnTo>
                    <a:pt x="849" y="864"/>
                  </a:lnTo>
                  <a:lnTo>
                    <a:pt x="854" y="818"/>
                  </a:lnTo>
                  <a:lnTo>
                    <a:pt x="857" y="763"/>
                  </a:lnTo>
                  <a:lnTo>
                    <a:pt x="854" y="704"/>
                  </a:lnTo>
                  <a:lnTo>
                    <a:pt x="847" y="639"/>
                  </a:lnTo>
                  <a:lnTo>
                    <a:pt x="836" y="575"/>
                  </a:lnTo>
                  <a:lnTo>
                    <a:pt x="808" y="445"/>
                  </a:lnTo>
                  <a:lnTo>
                    <a:pt x="792" y="388"/>
                  </a:lnTo>
                  <a:lnTo>
                    <a:pt x="777" y="337"/>
                  </a:lnTo>
                  <a:lnTo>
                    <a:pt x="758" y="293"/>
                  </a:lnTo>
                  <a:lnTo>
                    <a:pt x="735" y="246"/>
                  </a:lnTo>
                  <a:lnTo>
                    <a:pt x="706" y="202"/>
                  </a:lnTo>
                  <a:lnTo>
                    <a:pt x="675" y="158"/>
                  </a:lnTo>
                  <a:lnTo>
                    <a:pt x="610" y="73"/>
                  </a:lnTo>
                  <a:lnTo>
                    <a:pt x="579" y="34"/>
                  </a:lnTo>
                  <a:lnTo>
                    <a:pt x="551" y="0"/>
                  </a:lnTo>
                  <a:lnTo>
                    <a:pt x="587" y="114"/>
                  </a:lnTo>
                  <a:lnTo>
                    <a:pt x="621" y="223"/>
                  </a:lnTo>
                  <a:lnTo>
                    <a:pt x="649" y="329"/>
                  </a:lnTo>
                  <a:lnTo>
                    <a:pt x="673" y="430"/>
                  </a:lnTo>
                  <a:lnTo>
                    <a:pt x="693" y="528"/>
                  </a:lnTo>
                  <a:lnTo>
                    <a:pt x="704" y="621"/>
                  </a:lnTo>
                  <a:lnTo>
                    <a:pt x="709" y="707"/>
                  </a:lnTo>
                  <a:lnTo>
                    <a:pt x="709" y="789"/>
                  </a:lnTo>
                  <a:lnTo>
                    <a:pt x="704" y="838"/>
                  </a:lnTo>
                  <a:lnTo>
                    <a:pt x="696" y="890"/>
                  </a:lnTo>
                  <a:lnTo>
                    <a:pt x="686" y="942"/>
                  </a:lnTo>
                  <a:lnTo>
                    <a:pt x="673" y="994"/>
                  </a:lnTo>
                  <a:lnTo>
                    <a:pt x="642" y="1102"/>
                  </a:lnTo>
                  <a:lnTo>
                    <a:pt x="600" y="1214"/>
                  </a:lnTo>
                  <a:lnTo>
                    <a:pt x="553" y="1325"/>
                  </a:lnTo>
                  <a:lnTo>
                    <a:pt x="501" y="1439"/>
                  </a:lnTo>
                  <a:lnTo>
                    <a:pt x="387" y="1669"/>
                  </a:lnTo>
                  <a:lnTo>
                    <a:pt x="268" y="1892"/>
                  </a:lnTo>
                  <a:lnTo>
                    <a:pt x="211" y="1998"/>
                  </a:lnTo>
                  <a:lnTo>
                    <a:pt x="156" y="2101"/>
                  </a:lnTo>
                  <a:lnTo>
                    <a:pt x="107" y="2200"/>
                  </a:lnTo>
                  <a:lnTo>
                    <a:pt x="63" y="2293"/>
                  </a:lnTo>
                  <a:lnTo>
                    <a:pt x="26" y="2378"/>
                  </a:lnTo>
                  <a:lnTo>
                    <a:pt x="0" y="2456"/>
                  </a:lnTo>
                  <a:lnTo>
                    <a:pt x="6" y="2451"/>
                  </a:lnTo>
                  <a:lnTo>
                    <a:pt x="13" y="2448"/>
                  </a:lnTo>
                  <a:lnTo>
                    <a:pt x="21" y="2456"/>
                  </a:lnTo>
                  <a:lnTo>
                    <a:pt x="24" y="2466"/>
                  </a:lnTo>
                </a:path>
              </a:pathLst>
            </a:custGeom>
            <a:solidFill>
              <a:srgbClr val="38105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309920" y="977760"/>
              <a:ext cx="1189080" cy="4335480"/>
            </a:xfrm>
            <a:custGeom>
              <a:avLst/>
              <a:gdLst/>
              <a:ahLst/>
              <a:rect l="l" t="t" r="r" b="b"/>
              <a:pathLst>
                <a:path w="749" h="2731">
                  <a:moveTo>
                    <a:pt x="351" y="0"/>
                  </a:moveTo>
                  <a:lnTo>
                    <a:pt x="400" y="145"/>
                  </a:lnTo>
                  <a:lnTo>
                    <a:pt x="439" y="282"/>
                  </a:lnTo>
                  <a:lnTo>
                    <a:pt x="470" y="414"/>
                  </a:lnTo>
                  <a:lnTo>
                    <a:pt x="494" y="538"/>
                  </a:lnTo>
                  <a:lnTo>
                    <a:pt x="512" y="652"/>
                  </a:lnTo>
                  <a:lnTo>
                    <a:pt x="525" y="758"/>
                  </a:lnTo>
                  <a:lnTo>
                    <a:pt x="530" y="807"/>
                  </a:lnTo>
                  <a:lnTo>
                    <a:pt x="533" y="851"/>
                  </a:lnTo>
                  <a:lnTo>
                    <a:pt x="538" y="895"/>
                  </a:lnTo>
                  <a:lnTo>
                    <a:pt x="540" y="934"/>
                  </a:lnTo>
                  <a:lnTo>
                    <a:pt x="540" y="975"/>
                  </a:lnTo>
                  <a:lnTo>
                    <a:pt x="540" y="1019"/>
                  </a:lnTo>
                  <a:lnTo>
                    <a:pt x="530" y="1112"/>
                  </a:lnTo>
                  <a:lnTo>
                    <a:pt x="514" y="1216"/>
                  </a:lnTo>
                  <a:lnTo>
                    <a:pt x="491" y="1325"/>
                  </a:lnTo>
                  <a:lnTo>
                    <a:pt x="463" y="1441"/>
                  </a:lnTo>
                  <a:lnTo>
                    <a:pt x="426" y="1560"/>
                  </a:lnTo>
                  <a:lnTo>
                    <a:pt x="387" y="1684"/>
                  </a:lnTo>
                  <a:lnTo>
                    <a:pt x="346" y="1809"/>
                  </a:lnTo>
                  <a:lnTo>
                    <a:pt x="255" y="2060"/>
                  </a:lnTo>
                  <a:lnTo>
                    <a:pt x="208" y="2184"/>
                  </a:lnTo>
                  <a:lnTo>
                    <a:pt x="161" y="2305"/>
                  </a:lnTo>
                  <a:lnTo>
                    <a:pt x="117" y="2422"/>
                  </a:lnTo>
                  <a:lnTo>
                    <a:pt x="73" y="2533"/>
                  </a:lnTo>
                  <a:lnTo>
                    <a:pt x="34" y="2634"/>
                  </a:lnTo>
                  <a:lnTo>
                    <a:pt x="0" y="2730"/>
                  </a:lnTo>
                  <a:lnTo>
                    <a:pt x="8" y="2725"/>
                  </a:lnTo>
                  <a:lnTo>
                    <a:pt x="13" y="2719"/>
                  </a:lnTo>
                  <a:lnTo>
                    <a:pt x="26" y="2717"/>
                  </a:lnTo>
                  <a:lnTo>
                    <a:pt x="34" y="2722"/>
                  </a:lnTo>
                  <a:lnTo>
                    <a:pt x="39" y="2730"/>
                  </a:lnTo>
                  <a:lnTo>
                    <a:pt x="50" y="2694"/>
                  </a:lnTo>
                  <a:lnTo>
                    <a:pt x="65" y="2652"/>
                  </a:lnTo>
                  <a:lnTo>
                    <a:pt x="102" y="2567"/>
                  </a:lnTo>
                  <a:lnTo>
                    <a:pt x="146" y="2476"/>
                  </a:lnTo>
                  <a:lnTo>
                    <a:pt x="198" y="2375"/>
                  </a:lnTo>
                  <a:lnTo>
                    <a:pt x="252" y="2272"/>
                  </a:lnTo>
                  <a:lnTo>
                    <a:pt x="309" y="2163"/>
                  </a:lnTo>
                  <a:lnTo>
                    <a:pt x="429" y="1938"/>
                  </a:lnTo>
                  <a:lnTo>
                    <a:pt x="543" y="1708"/>
                  </a:lnTo>
                  <a:lnTo>
                    <a:pt x="595" y="1594"/>
                  </a:lnTo>
                  <a:lnTo>
                    <a:pt x="642" y="1480"/>
                  </a:lnTo>
                  <a:lnTo>
                    <a:pt x="681" y="1369"/>
                  </a:lnTo>
                  <a:lnTo>
                    <a:pt x="714" y="1263"/>
                  </a:lnTo>
                  <a:lnTo>
                    <a:pt x="725" y="1211"/>
                  </a:lnTo>
                  <a:lnTo>
                    <a:pt x="735" y="1159"/>
                  </a:lnTo>
                  <a:lnTo>
                    <a:pt x="743" y="1110"/>
                  </a:lnTo>
                  <a:lnTo>
                    <a:pt x="748" y="1063"/>
                  </a:lnTo>
                  <a:lnTo>
                    <a:pt x="748" y="981"/>
                  </a:lnTo>
                  <a:lnTo>
                    <a:pt x="743" y="893"/>
                  </a:lnTo>
                  <a:lnTo>
                    <a:pt x="730" y="799"/>
                  </a:lnTo>
                  <a:lnTo>
                    <a:pt x="712" y="701"/>
                  </a:lnTo>
                  <a:lnTo>
                    <a:pt x="688" y="600"/>
                  </a:lnTo>
                  <a:lnTo>
                    <a:pt x="660" y="494"/>
                  </a:lnTo>
                  <a:lnTo>
                    <a:pt x="626" y="385"/>
                  </a:lnTo>
                  <a:lnTo>
                    <a:pt x="590" y="274"/>
                  </a:lnTo>
                  <a:lnTo>
                    <a:pt x="566" y="228"/>
                  </a:lnTo>
                  <a:lnTo>
                    <a:pt x="540" y="184"/>
                  </a:lnTo>
                  <a:lnTo>
                    <a:pt x="514" y="142"/>
                  </a:lnTo>
                  <a:lnTo>
                    <a:pt x="486" y="106"/>
                  </a:lnTo>
                  <a:lnTo>
                    <a:pt x="455" y="72"/>
                  </a:lnTo>
                  <a:lnTo>
                    <a:pt x="421" y="44"/>
                  </a:lnTo>
                  <a:lnTo>
                    <a:pt x="387" y="21"/>
                  </a:lnTo>
                  <a:lnTo>
                    <a:pt x="351" y="0"/>
                  </a:lnTo>
                </a:path>
              </a:pathLst>
            </a:custGeom>
            <a:solidFill>
              <a:srgbClr val="08700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60960" y="784080"/>
              <a:ext cx="907920" cy="4529160"/>
            </a:xfrm>
            <a:custGeom>
              <a:avLst/>
              <a:gdLst/>
              <a:ahLst/>
              <a:rect l="l" t="t" r="r" b="b"/>
              <a:pathLst>
                <a:path w="572" h="2853">
                  <a:moveTo>
                    <a:pt x="0" y="2844"/>
                  </a:moveTo>
                  <a:lnTo>
                    <a:pt x="5" y="2803"/>
                  </a:lnTo>
                  <a:lnTo>
                    <a:pt x="13" y="2761"/>
                  </a:lnTo>
                  <a:lnTo>
                    <a:pt x="31" y="2665"/>
                  </a:lnTo>
                  <a:lnTo>
                    <a:pt x="52" y="2562"/>
                  </a:lnTo>
                  <a:lnTo>
                    <a:pt x="78" y="2451"/>
                  </a:lnTo>
                  <a:lnTo>
                    <a:pt x="107" y="2334"/>
                  </a:lnTo>
                  <a:lnTo>
                    <a:pt x="133" y="2210"/>
                  </a:lnTo>
                  <a:lnTo>
                    <a:pt x="195" y="1954"/>
                  </a:lnTo>
                  <a:lnTo>
                    <a:pt x="252" y="1698"/>
                  </a:lnTo>
                  <a:lnTo>
                    <a:pt x="278" y="1573"/>
                  </a:lnTo>
                  <a:lnTo>
                    <a:pt x="301" y="1454"/>
                  </a:lnTo>
                  <a:lnTo>
                    <a:pt x="320" y="1338"/>
                  </a:lnTo>
                  <a:lnTo>
                    <a:pt x="335" y="1232"/>
                  </a:lnTo>
                  <a:lnTo>
                    <a:pt x="346" y="1131"/>
                  </a:lnTo>
                  <a:lnTo>
                    <a:pt x="351" y="1087"/>
                  </a:lnTo>
                  <a:lnTo>
                    <a:pt x="353" y="1043"/>
                  </a:lnTo>
                  <a:lnTo>
                    <a:pt x="346" y="927"/>
                  </a:lnTo>
                  <a:lnTo>
                    <a:pt x="338" y="802"/>
                  </a:lnTo>
                  <a:lnTo>
                    <a:pt x="327" y="676"/>
                  </a:lnTo>
                  <a:lnTo>
                    <a:pt x="312" y="541"/>
                  </a:lnTo>
                  <a:lnTo>
                    <a:pt x="294" y="406"/>
                  </a:lnTo>
                  <a:lnTo>
                    <a:pt x="265" y="269"/>
                  </a:lnTo>
                  <a:lnTo>
                    <a:pt x="231" y="135"/>
                  </a:lnTo>
                  <a:lnTo>
                    <a:pt x="190" y="0"/>
                  </a:lnTo>
                  <a:lnTo>
                    <a:pt x="211" y="3"/>
                  </a:lnTo>
                  <a:lnTo>
                    <a:pt x="234" y="13"/>
                  </a:lnTo>
                  <a:lnTo>
                    <a:pt x="257" y="26"/>
                  </a:lnTo>
                  <a:lnTo>
                    <a:pt x="283" y="44"/>
                  </a:lnTo>
                  <a:lnTo>
                    <a:pt x="338" y="83"/>
                  </a:lnTo>
                  <a:lnTo>
                    <a:pt x="361" y="104"/>
                  </a:lnTo>
                  <a:lnTo>
                    <a:pt x="382" y="122"/>
                  </a:lnTo>
                  <a:lnTo>
                    <a:pt x="395" y="158"/>
                  </a:lnTo>
                  <a:lnTo>
                    <a:pt x="410" y="199"/>
                  </a:lnTo>
                  <a:lnTo>
                    <a:pt x="423" y="243"/>
                  </a:lnTo>
                  <a:lnTo>
                    <a:pt x="439" y="290"/>
                  </a:lnTo>
                  <a:lnTo>
                    <a:pt x="455" y="342"/>
                  </a:lnTo>
                  <a:lnTo>
                    <a:pt x="468" y="396"/>
                  </a:lnTo>
                  <a:lnTo>
                    <a:pt x="496" y="513"/>
                  </a:lnTo>
                  <a:lnTo>
                    <a:pt x="522" y="639"/>
                  </a:lnTo>
                  <a:lnTo>
                    <a:pt x="543" y="774"/>
                  </a:lnTo>
                  <a:lnTo>
                    <a:pt x="561" y="914"/>
                  </a:lnTo>
                  <a:lnTo>
                    <a:pt x="571" y="1056"/>
                  </a:lnTo>
                  <a:lnTo>
                    <a:pt x="566" y="1152"/>
                  </a:lnTo>
                  <a:lnTo>
                    <a:pt x="558" y="1250"/>
                  </a:lnTo>
                  <a:lnTo>
                    <a:pt x="540" y="1351"/>
                  </a:lnTo>
                  <a:lnTo>
                    <a:pt x="517" y="1457"/>
                  </a:lnTo>
                  <a:lnTo>
                    <a:pt x="491" y="1566"/>
                  </a:lnTo>
                  <a:lnTo>
                    <a:pt x="460" y="1677"/>
                  </a:lnTo>
                  <a:lnTo>
                    <a:pt x="423" y="1788"/>
                  </a:lnTo>
                  <a:lnTo>
                    <a:pt x="387" y="1902"/>
                  </a:lnTo>
                  <a:lnTo>
                    <a:pt x="301" y="2138"/>
                  </a:lnTo>
                  <a:lnTo>
                    <a:pt x="211" y="2376"/>
                  </a:lnTo>
                  <a:lnTo>
                    <a:pt x="120" y="2614"/>
                  </a:lnTo>
                  <a:lnTo>
                    <a:pt x="31" y="2852"/>
                  </a:lnTo>
                  <a:lnTo>
                    <a:pt x="26" y="2841"/>
                  </a:lnTo>
                  <a:lnTo>
                    <a:pt x="16" y="2834"/>
                  </a:lnTo>
                  <a:lnTo>
                    <a:pt x="8" y="2836"/>
                  </a:lnTo>
                  <a:lnTo>
                    <a:pt x="0" y="2844"/>
                  </a:lnTo>
                </a:path>
              </a:pathLst>
            </a:custGeom>
            <a:solidFill>
              <a:srgbClr val="38105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62320" y="566640"/>
              <a:ext cx="660600" cy="4734000"/>
            </a:xfrm>
            <a:custGeom>
              <a:avLst/>
              <a:gdLst/>
              <a:ahLst/>
              <a:rect l="l" t="t" r="r" b="b"/>
              <a:pathLst>
                <a:path w="416" h="2982">
                  <a:moveTo>
                    <a:pt x="62" y="2981"/>
                  </a:moveTo>
                  <a:lnTo>
                    <a:pt x="67" y="2940"/>
                  </a:lnTo>
                  <a:lnTo>
                    <a:pt x="75" y="2898"/>
                  </a:lnTo>
                  <a:lnTo>
                    <a:pt x="93" y="2802"/>
                  </a:lnTo>
                  <a:lnTo>
                    <a:pt x="114" y="2699"/>
                  </a:lnTo>
                  <a:lnTo>
                    <a:pt x="140" y="2588"/>
                  </a:lnTo>
                  <a:lnTo>
                    <a:pt x="169" y="2471"/>
                  </a:lnTo>
                  <a:lnTo>
                    <a:pt x="195" y="2347"/>
                  </a:lnTo>
                  <a:lnTo>
                    <a:pt x="257" y="2091"/>
                  </a:lnTo>
                  <a:lnTo>
                    <a:pt x="314" y="1835"/>
                  </a:lnTo>
                  <a:lnTo>
                    <a:pt x="340" y="1710"/>
                  </a:lnTo>
                  <a:lnTo>
                    <a:pt x="363" y="1591"/>
                  </a:lnTo>
                  <a:lnTo>
                    <a:pt x="382" y="1475"/>
                  </a:lnTo>
                  <a:lnTo>
                    <a:pt x="397" y="1369"/>
                  </a:lnTo>
                  <a:lnTo>
                    <a:pt x="408" y="1268"/>
                  </a:lnTo>
                  <a:lnTo>
                    <a:pt x="413" y="1224"/>
                  </a:lnTo>
                  <a:lnTo>
                    <a:pt x="415" y="1180"/>
                  </a:lnTo>
                  <a:lnTo>
                    <a:pt x="408" y="1064"/>
                  </a:lnTo>
                  <a:lnTo>
                    <a:pt x="400" y="939"/>
                  </a:lnTo>
                  <a:lnTo>
                    <a:pt x="389" y="813"/>
                  </a:lnTo>
                  <a:lnTo>
                    <a:pt x="374" y="678"/>
                  </a:lnTo>
                  <a:lnTo>
                    <a:pt x="356" y="543"/>
                  </a:lnTo>
                  <a:lnTo>
                    <a:pt x="327" y="406"/>
                  </a:lnTo>
                  <a:lnTo>
                    <a:pt x="293" y="272"/>
                  </a:lnTo>
                  <a:lnTo>
                    <a:pt x="252" y="137"/>
                  </a:lnTo>
                  <a:lnTo>
                    <a:pt x="231" y="114"/>
                  </a:lnTo>
                  <a:lnTo>
                    <a:pt x="208" y="93"/>
                  </a:lnTo>
                  <a:lnTo>
                    <a:pt x="182" y="75"/>
                  </a:lnTo>
                  <a:lnTo>
                    <a:pt x="151" y="57"/>
                  </a:lnTo>
                  <a:lnTo>
                    <a:pt x="119" y="39"/>
                  </a:lnTo>
                  <a:lnTo>
                    <a:pt x="83" y="26"/>
                  </a:lnTo>
                  <a:lnTo>
                    <a:pt x="44" y="13"/>
                  </a:lnTo>
                  <a:lnTo>
                    <a:pt x="0" y="0"/>
                  </a:lnTo>
                  <a:lnTo>
                    <a:pt x="16" y="67"/>
                  </a:lnTo>
                  <a:lnTo>
                    <a:pt x="34" y="137"/>
                  </a:lnTo>
                  <a:lnTo>
                    <a:pt x="47" y="212"/>
                  </a:lnTo>
                  <a:lnTo>
                    <a:pt x="60" y="290"/>
                  </a:lnTo>
                  <a:lnTo>
                    <a:pt x="83" y="453"/>
                  </a:lnTo>
                  <a:lnTo>
                    <a:pt x="104" y="621"/>
                  </a:lnTo>
                  <a:lnTo>
                    <a:pt x="119" y="784"/>
                  </a:lnTo>
                  <a:lnTo>
                    <a:pt x="127" y="862"/>
                  </a:lnTo>
                  <a:lnTo>
                    <a:pt x="132" y="939"/>
                  </a:lnTo>
                  <a:lnTo>
                    <a:pt x="138" y="1012"/>
                  </a:lnTo>
                  <a:lnTo>
                    <a:pt x="143" y="1079"/>
                  </a:lnTo>
                  <a:lnTo>
                    <a:pt x="145" y="1144"/>
                  </a:lnTo>
                  <a:lnTo>
                    <a:pt x="148" y="1201"/>
                  </a:lnTo>
                  <a:lnTo>
                    <a:pt x="148" y="1237"/>
                  </a:lnTo>
                  <a:lnTo>
                    <a:pt x="148" y="1278"/>
                  </a:lnTo>
                  <a:lnTo>
                    <a:pt x="148" y="1325"/>
                  </a:lnTo>
                  <a:lnTo>
                    <a:pt x="148" y="1374"/>
                  </a:lnTo>
                  <a:lnTo>
                    <a:pt x="145" y="1428"/>
                  </a:lnTo>
                  <a:lnTo>
                    <a:pt x="143" y="1485"/>
                  </a:lnTo>
                  <a:lnTo>
                    <a:pt x="140" y="1547"/>
                  </a:lnTo>
                  <a:lnTo>
                    <a:pt x="138" y="1610"/>
                  </a:lnTo>
                  <a:lnTo>
                    <a:pt x="127" y="1742"/>
                  </a:lnTo>
                  <a:lnTo>
                    <a:pt x="117" y="1881"/>
                  </a:lnTo>
                  <a:lnTo>
                    <a:pt x="93" y="2166"/>
                  </a:lnTo>
                  <a:lnTo>
                    <a:pt x="80" y="2306"/>
                  </a:lnTo>
                  <a:lnTo>
                    <a:pt x="70" y="2443"/>
                  </a:lnTo>
                  <a:lnTo>
                    <a:pt x="57" y="2570"/>
                  </a:lnTo>
                  <a:lnTo>
                    <a:pt x="52" y="2626"/>
                  </a:lnTo>
                  <a:lnTo>
                    <a:pt x="47" y="2683"/>
                  </a:lnTo>
                  <a:lnTo>
                    <a:pt x="44" y="2738"/>
                  </a:lnTo>
                  <a:lnTo>
                    <a:pt x="39" y="2784"/>
                  </a:lnTo>
                  <a:lnTo>
                    <a:pt x="36" y="2831"/>
                  </a:lnTo>
                  <a:lnTo>
                    <a:pt x="34" y="2870"/>
                  </a:lnTo>
                  <a:lnTo>
                    <a:pt x="31" y="2906"/>
                  </a:lnTo>
                  <a:lnTo>
                    <a:pt x="29" y="2934"/>
                  </a:lnTo>
                  <a:lnTo>
                    <a:pt x="26" y="2958"/>
                  </a:lnTo>
                  <a:lnTo>
                    <a:pt x="29" y="2976"/>
                  </a:lnTo>
                  <a:lnTo>
                    <a:pt x="36" y="2965"/>
                  </a:lnTo>
                  <a:lnTo>
                    <a:pt x="47" y="2965"/>
                  </a:lnTo>
                  <a:lnTo>
                    <a:pt x="54" y="2971"/>
                  </a:lnTo>
                  <a:lnTo>
                    <a:pt x="62" y="2981"/>
                  </a:lnTo>
                </a:path>
              </a:pathLst>
            </a:custGeom>
            <a:solidFill>
              <a:srgbClr val="08700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67040" y="473040"/>
              <a:ext cx="636840" cy="4819680"/>
            </a:xfrm>
            <a:custGeom>
              <a:avLst/>
              <a:gdLst/>
              <a:ahLst/>
              <a:rect l="l" t="t" r="r" b="b"/>
              <a:pathLst>
                <a:path w="401" h="3036">
                  <a:moveTo>
                    <a:pt x="278" y="3035"/>
                  </a:moveTo>
                  <a:lnTo>
                    <a:pt x="275" y="3017"/>
                  </a:lnTo>
                  <a:lnTo>
                    <a:pt x="278" y="2993"/>
                  </a:lnTo>
                  <a:lnTo>
                    <a:pt x="280" y="2965"/>
                  </a:lnTo>
                  <a:lnTo>
                    <a:pt x="283" y="2929"/>
                  </a:lnTo>
                  <a:lnTo>
                    <a:pt x="285" y="2890"/>
                  </a:lnTo>
                  <a:lnTo>
                    <a:pt x="288" y="2846"/>
                  </a:lnTo>
                  <a:lnTo>
                    <a:pt x="293" y="2797"/>
                  </a:lnTo>
                  <a:lnTo>
                    <a:pt x="298" y="2745"/>
                  </a:lnTo>
                  <a:lnTo>
                    <a:pt x="303" y="2688"/>
                  </a:lnTo>
                  <a:lnTo>
                    <a:pt x="309" y="2629"/>
                  </a:lnTo>
                  <a:lnTo>
                    <a:pt x="319" y="2502"/>
                  </a:lnTo>
                  <a:lnTo>
                    <a:pt x="332" y="2367"/>
                  </a:lnTo>
                  <a:lnTo>
                    <a:pt x="345" y="2227"/>
                  </a:lnTo>
                  <a:lnTo>
                    <a:pt x="368" y="1943"/>
                  </a:lnTo>
                  <a:lnTo>
                    <a:pt x="379" y="1806"/>
                  </a:lnTo>
                  <a:lnTo>
                    <a:pt x="387" y="1674"/>
                  </a:lnTo>
                  <a:lnTo>
                    <a:pt x="392" y="1550"/>
                  </a:lnTo>
                  <a:lnTo>
                    <a:pt x="397" y="1490"/>
                  </a:lnTo>
                  <a:lnTo>
                    <a:pt x="397" y="1436"/>
                  </a:lnTo>
                  <a:lnTo>
                    <a:pt x="400" y="1387"/>
                  </a:lnTo>
                  <a:lnTo>
                    <a:pt x="400" y="1340"/>
                  </a:lnTo>
                  <a:lnTo>
                    <a:pt x="400" y="1296"/>
                  </a:lnTo>
                  <a:lnTo>
                    <a:pt x="397" y="1260"/>
                  </a:lnTo>
                  <a:lnTo>
                    <a:pt x="394" y="1198"/>
                  </a:lnTo>
                  <a:lnTo>
                    <a:pt x="389" y="1130"/>
                  </a:lnTo>
                  <a:lnTo>
                    <a:pt x="387" y="1058"/>
                  </a:lnTo>
                  <a:lnTo>
                    <a:pt x="379" y="983"/>
                  </a:lnTo>
                  <a:lnTo>
                    <a:pt x="366" y="825"/>
                  </a:lnTo>
                  <a:lnTo>
                    <a:pt x="350" y="659"/>
                  </a:lnTo>
                  <a:lnTo>
                    <a:pt x="329" y="494"/>
                  </a:lnTo>
                  <a:lnTo>
                    <a:pt x="306" y="336"/>
                  </a:lnTo>
                  <a:lnTo>
                    <a:pt x="293" y="261"/>
                  </a:lnTo>
                  <a:lnTo>
                    <a:pt x="280" y="188"/>
                  </a:lnTo>
                  <a:lnTo>
                    <a:pt x="265" y="121"/>
                  </a:lnTo>
                  <a:lnTo>
                    <a:pt x="249" y="59"/>
                  </a:lnTo>
                  <a:lnTo>
                    <a:pt x="228" y="44"/>
                  </a:lnTo>
                  <a:lnTo>
                    <a:pt x="202" y="31"/>
                  </a:lnTo>
                  <a:lnTo>
                    <a:pt x="174" y="20"/>
                  </a:lnTo>
                  <a:lnTo>
                    <a:pt x="145" y="12"/>
                  </a:lnTo>
                  <a:lnTo>
                    <a:pt x="75" y="5"/>
                  </a:lnTo>
                  <a:lnTo>
                    <a:pt x="0" y="0"/>
                  </a:lnTo>
                  <a:lnTo>
                    <a:pt x="10" y="67"/>
                  </a:lnTo>
                  <a:lnTo>
                    <a:pt x="21" y="139"/>
                  </a:lnTo>
                  <a:lnTo>
                    <a:pt x="34" y="220"/>
                  </a:lnTo>
                  <a:lnTo>
                    <a:pt x="46" y="302"/>
                  </a:lnTo>
                  <a:lnTo>
                    <a:pt x="70" y="481"/>
                  </a:lnTo>
                  <a:lnTo>
                    <a:pt x="96" y="665"/>
                  </a:lnTo>
                  <a:lnTo>
                    <a:pt x="106" y="753"/>
                  </a:lnTo>
                  <a:lnTo>
                    <a:pt x="119" y="841"/>
                  </a:lnTo>
                  <a:lnTo>
                    <a:pt x="130" y="926"/>
                  </a:lnTo>
                  <a:lnTo>
                    <a:pt x="140" y="1004"/>
                  </a:lnTo>
                  <a:lnTo>
                    <a:pt x="148" y="1076"/>
                  </a:lnTo>
                  <a:lnTo>
                    <a:pt x="153" y="1141"/>
                  </a:lnTo>
                  <a:lnTo>
                    <a:pt x="158" y="1195"/>
                  </a:lnTo>
                  <a:lnTo>
                    <a:pt x="161" y="1221"/>
                  </a:lnTo>
                  <a:lnTo>
                    <a:pt x="163" y="1242"/>
                  </a:lnTo>
                  <a:lnTo>
                    <a:pt x="166" y="1267"/>
                  </a:lnTo>
                  <a:lnTo>
                    <a:pt x="166" y="1299"/>
                  </a:lnTo>
                  <a:lnTo>
                    <a:pt x="169" y="1335"/>
                  </a:lnTo>
                  <a:lnTo>
                    <a:pt x="171" y="1379"/>
                  </a:lnTo>
                  <a:lnTo>
                    <a:pt x="174" y="1423"/>
                  </a:lnTo>
                  <a:lnTo>
                    <a:pt x="174" y="1474"/>
                  </a:lnTo>
                  <a:lnTo>
                    <a:pt x="176" y="1529"/>
                  </a:lnTo>
                  <a:lnTo>
                    <a:pt x="179" y="1586"/>
                  </a:lnTo>
                  <a:lnTo>
                    <a:pt x="181" y="1645"/>
                  </a:lnTo>
                  <a:lnTo>
                    <a:pt x="184" y="1710"/>
                  </a:lnTo>
                  <a:lnTo>
                    <a:pt x="189" y="1842"/>
                  </a:lnTo>
                  <a:lnTo>
                    <a:pt x="194" y="1979"/>
                  </a:lnTo>
                  <a:lnTo>
                    <a:pt x="200" y="2121"/>
                  </a:lnTo>
                  <a:lnTo>
                    <a:pt x="210" y="2406"/>
                  </a:lnTo>
                  <a:lnTo>
                    <a:pt x="215" y="2541"/>
                  </a:lnTo>
                  <a:lnTo>
                    <a:pt x="220" y="2667"/>
                  </a:lnTo>
                  <a:lnTo>
                    <a:pt x="223" y="2727"/>
                  </a:lnTo>
                  <a:lnTo>
                    <a:pt x="226" y="2784"/>
                  </a:lnTo>
                  <a:lnTo>
                    <a:pt x="228" y="2836"/>
                  </a:lnTo>
                  <a:lnTo>
                    <a:pt x="231" y="2885"/>
                  </a:lnTo>
                  <a:lnTo>
                    <a:pt x="233" y="2929"/>
                  </a:lnTo>
                  <a:lnTo>
                    <a:pt x="236" y="2968"/>
                  </a:lnTo>
                  <a:lnTo>
                    <a:pt x="236" y="3004"/>
                  </a:lnTo>
                  <a:lnTo>
                    <a:pt x="239" y="3032"/>
                  </a:lnTo>
                  <a:lnTo>
                    <a:pt x="246" y="3022"/>
                  </a:lnTo>
                  <a:lnTo>
                    <a:pt x="254" y="3019"/>
                  </a:lnTo>
                  <a:lnTo>
                    <a:pt x="265" y="3024"/>
                  </a:lnTo>
                  <a:lnTo>
                    <a:pt x="278" y="3035"/>
                  </a:lnTo>
                </a:path>
              </a:pathLst>
            </a:custGeom>
            <a:solidFill>
              <a:srgbClr val="38105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68800" y="393840"/>
              <a:ext cx="879480" cy="4906800"/>
            </a:xfrm>
            <a:custGeom>
              <a:avLst/>
              <a:gdLst/>
              <a:ahLst/>
              <a:rect l="l" t="t" r="r" b="b"/>
              <a:pathLst>
                <a:path w="554" h="3091">
                  <a:moveTo>
                    <a:pt x="314" y="50"/>
                  </a:moveTo>
                  <a:lnTo>
                    <a:pt x="324" y="117"/>
                  </a:lnTo>
                  <a:lnTo>
                    <a:pt x="335" y="189"/>
                  </a:lnTo>
                  <a:lnTo>
                    <a:pt x="348" y="270"/>
                  </a:lnTo>
                  <a:lnTo>
                    <a:pt x="358" y="352"/>
                  </a:lnTo>
                  <a:lnTo>
                    <a:pt x="384" y="528"/>
                  </a:lnTo>
                  <a:lnTo>
                    <a:pt x="407" y="709"/>
                  </a:lnTo>
                  <a:lnTo>
                    <a:pt x="433" y="885"/>
                  </a:lnTo>
                  <a:lnTo>
                    <a:pt x="441" y="971"/>
                  </a:lnTo>
                  <a:lnTo>
                    <a:pt x="451" y="1048"/>
                  </a:lnTo>
                  <a:lnTo>
                    <a:pt x="459" y="1118"/>
                  </a:lnTo>
                  <a:lnTo>
                    <a:pt x="467" y="1183"/>
                  </a:lnTo>
                  <a:lnTo>
                    <a:pt x="472" y="1240"/>
                  </a:lnTo>
                  <a:lnTo>
                    <a:pt x="475" y="1263"/>
                  </a:lnTo>
                  <a:lnTo>
                    <a:pt x="475" y="1284"/>
                  </a:lnTo>
                  <a:lnTo>
                    <a:pt x="477" y="1310"/>
                  </a:lnTo>
                  <a:lnTo>
                    <a:pt x="480" y="1343"/>
                  </a:lnTo>
                  <a:lnTo>
                    <a:pt x="480" y="1380"/>
                  </a:lnTo>
                  <a:lnTo>
                    <a:pt x="483" y="1421"/>
                  </a:lnTo>
                  <a:lnTo>
                    <a:pt x="485" y="1468"/>
                  </a:lnTo>
                  <a:lnTo>
                    <a:pt x="485" y="1517"/>
                  </a:lnTo>
                  <a:lnTo>
                    <a:pt x="488" y="1571"/>
                  </a:lnTo>
                  <a:lnTo>
                    <a:pt x="493" y="1631"/>
                  </a:lnTo>
                  <a:lnTo>
                    <a:pt x="493" y="1690"/>
                  </a:lnTo>
                  <a:lnTo>
                    <a:pt x="495" y="1755"/>
                  </a:lnTo>
                  <a:lnTo>
                    <a:pt x="503" y="1887"/>
                  </a:lnTo>
                  <a:lnTo>
                    <a:pt x="506" y="2026"/>
                  </a:lnTo>
                  <a:lnTo>
                    <a:pt x="511" y="2169"/>
                  </a:lnTo>
                  <a:lnTo>
                    <a:pt x="524" y="2453"/>
                  </a:lnTo>
                  <a:lnTo>
                    <a:pt x="529" y="2588"/>
                  </a:lnTo>
                  <a:lnTo>
                    <a:pt x="534" y="2717"/>
                  </a:lnTo>
                  <a:lnTo>
                    <a:pt x="537" y="2777"/>
                  </a:lnTo>
                  <a:lnTo>
                    <a:pt x="540" y="2831"/>
                  </a:lnTo>
                  <a:lnTo>
                    <a:pt x="542" y="2886"/>
                  </a:lnTo>
                  <a:lnTo>
                    <a:pt x="545" y="2935"/>
                  </a:lnTo>
                  <a:lnTo>
                    <a:pt x="547" y="2979"/>
                  </a:lnTo>
                  <a:lnTo>
                    <a:pt x="550" y="3018"/>
                  </a:lnTo>
                  <a:lnTo>
                    <a:pt x="550" y="3054"/>
                  </a:lnTo>
                  <a:lnTo>
                    <a:pt x="553" y="3082"/>
                  </a:lnTo>
                  <a:lnTo>
                    <a:pt x="542" y="3074"/>
                  </a:lnTo>
                  <a:lnTo>
                    <a:pt x="532" y="3072"/>
                  </a:lnTo>
                  <a:lnTo>
                    <a:pt x="521" y="3077"/>
                  </a:lnTo>
                  <a:lnTo>
                    <a:pt x="516" y="3082"/>
                  </a:lnTo>
                  <a:lnTo>
                    <a:pt x="516" y="3090"/>
                  </a:lnTo>
                  <a:lnTo>
                    <a:pt x="514" y="3074"/>
                  </a:lnTo>
                  <a:lnTo>
                    <a:pt x="508" y="3051"/>
                  </a:lnTo>
                  <a:lnTo>
                    <a:pt x="503" y="3023"/>
                  </a:lnTo>
                  <a:lnTo>
                    <a:pt x="498" y="2986"/>
                  </a:lnTo>
                  <a:lnTo>
                    <a:pt x="490" y="2945"/>
                  </a:lnTo>
                  <a:lnTo>
                    <a:pt x="483" y="2901"/>
                  </a:lnTo>
                  <a:lnTo>
                    <a:pt x="475" y="2852"/>
                  </a:lnTo>
                  <a:lnTo>
                    <a:pt x="467" y="2798"/>
                  </a:lnTo>
                  <a:lnTo>
                    <a:pt x="457" y="2738"/>
                  </a:lnTo>
                  <a:lnTo>
                    <a:pt x="446" y="2679"/>
                  </a:lnTo>
                  <a:lnTo>
                    <a:pt x="436" y="2614"/>
                  </a:lnTo>
                  <a:lnTo>
                    <a:pt x="425" y="2547"/>
                  </a:lnTo>
                  <a:lnTo>
                    <a:pt x="405" y="2407"/>
                  </a:lnTo>
                  <a:lnTo>
                    <a:pt x="381" y="2265"/>
                  </a:lnTo>
                  <a:lnTo>
                    <a:pt x="332" y="1972"/>
                  </a:lnTo>
                  <a:lnTo>
                    <a:pt x="309" y="1832"/>
                  </a:lnTo>
                  <a:lnTo>
                    <a:pt x="290" y="1698"/>
                  </a:lnTo>
                  <a:lnTo>
                    <a:pt x="280" y="1636"/>
                  </a:lnTo>
                  <a:lnTo>
                    <a:pt x="270" y="1576"/>
                  </a:lnTo>
                  <a:lnTo>
                    <a:pt x="259" y="1519"/>
                  </a:lnTo>
                  <a:lnTo>
                    <a:pt x="251" y="1468"/>
                  </a:lnTo>
                  <a:lnTo>
                    <a:pt x="246" y="1421"/>
                  </a:lnTo>
                  <a:lnTo>
                    <a:pt x="236" y="1377"/>
                  </a:lnTo>
                  <a:lnTo>
                    <a:pt x="231" y="1341"/>
                  </a:lnTo>
                  <a:lnTo>
                    <a:pt x="226" y="1307"/>
                  </a:lnTo>
                  <a:lnTo>
                    <a:pt x="220" y="1281"/>
                  </a:lnTo>
                  <a:lnTo>
                    <a:pt x="218" y="1253"/>
                  </a:lnTo>
                  <a:lnTo>
                    <a:pt x="213" y="1222"/>
                  </a:lnTo>
                  <a:lnTo>
                    <a:pt x="205" y="1188"/>
                  </a:lnTo>
                  <a:lnTo>
                    <a:pt x="192" y="1113"/>
                  </a:lnTo>
                  <a:lnTo>
                    <a:pt x="176" y="1030"/>
                  </a:lnTo>
                  <a:lnTo>
                    <a:pt x="161" y="940"/>
                  </a:lnTo>
                  <a:lnTo>
                    <a:pt x="142" y="847"/>
                  </a:lnTo>
                  <a:lnTo>
                    <a:pt x="106" y="650"/>
                  </a:lnTo>
                  <a:lnTo>
                    <a:pt x="70" y="456"/>
                  </a:lnTo>
                  <a:lnTo>
                    <a:pt x="54" y="365"/>
                  </a:lnTo>
                  <a:lnTo>
                    <a:pt x="39" y="277"/>
                  </a:lnTo>
                  <a:lnTo>
                    <a:pt x="26" y="200"/>
                  </a:lnTo>
                  <a:lnTo>
                    <a:pt x="20" y="163"/>
                  </a:lnTo>
                  <a:lnTo>
                    <a:pt x="15" y="130"/>
                  </a:lnTo>
                  <a:lnTo>
                    <a:pt x="10" y="99"/>
                  </a:lnTo>
                  <a:lnTo>
                    <a:pt x="5" y="73"/>
                  </a:lnTo>
                  <a:lnTo>
                    <a:pt x="2" y="47"/>
                  </a:lnTo>
                  <a:lnTo>
                    <a:pt x="0" y="26"/>
                  </a:lnTo>
                  <a:lnTo>
                    <a:pt x="31" y="11"/>
                  </a:lnTo>
                  <a:lnTo>
                    <a:pt x="72" y="3"/>
                  </a:lnTo>
                  <a:lnTo>
                    <a:pt x="119" y="0"/>
                  </a:lnTo>
                  <a:lnTo>
                    <a:pt x="166" y="3"/>
                  </a:lnTo>
                  <a:lnTo>
                    <a:pt x="213" y="8"/>
                  </a:lnTo>
                  <a:lnTo>
                    <a:pt x="257" y="19"/>
                  </a:lnTo>
                  <a:lnTo>
                    <a:pt x="290" y="34"/>
                  </a:lnTo>
                  <a:lnTo>
                    <a:pt x="303" y="42"/>
                  </a:lnTo>
                  <a:lnTo>
                    <a:pt x="314" y="50"/>
                  </a:lnTo>
                </a:path>
              </a:pathLst>
            </a:custGeom>
            <a:solidFill>
              <a:srgbClr val="08700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25680" y="1967040"/>
              <a:ext cx="347400" cy="1103040"/>
            </a:xfrm>
            <a:custGeom>
              <a:avLst/>
              <a:gdLst/>
              <a:ahLst/>
              <a:rect l="l" t="t" r="r" b="b"/>
              <a:pathLst>
                <a:path w="219" h="695">
                  <a:moveTo>
                    <a:pt x="218" y="621"/>
                  </a:moveTo>
                  <a:lnTo>
                    <a:pt x="205" y="596"/>
                  </a:lnTo>
                  <a:lnTo>
                    <a:pt x="194" y="565"/>
                  </a:lnTo>
                  <a:lnTo>
                    <a:pt x="184" y="533"/>
                  </a:lnTo>
                  <a:lnTo>
                    <a:pt x="171" y="497"/>
                  </a:lnTo>
                  <a:lnTo>
                    <a:pt x="153" y="420"/>
                  </a:lnTo>
                  <a:lnTo>
                    <a:pt x="135" y="337"/>
                  </a:lnTo>
                  <a:lnTo>
                    <a:pt x="122" y="251"/>
                  </a:lnTo>
                  <a:lnTo>
                    <a:pt x="109" y="163"/>
                  </a:lnTo>
                  <a:lnTo>
                    <a:pt x="103" y="78"/>
                  </a:lnTo>
                  <a:lnTo>
                    <a:pt x="101" y="0"/>
                  </a:lnTo>
                  <a:lnTo>
                    <a:pt x="75" y="21"/>
                  </a:lnTo>
                  <a:lnTo>
                    <a:pt x="51" y="50"/>
                  </a:lnTo>
                  <a:lnTo>
                    <a:pt x="2" y="117"/>
                  </a:lnTo>
                  <a:lnTo>
                    <a:pt x="2" y="145"/>
                  </a:lnTo>
                  <a:lnTo>
                    <a:pt x="0" y="176"/>
                  </a:lnTo>
                  <a:lnTo>
                    <a:pt x="5" y="246"/>
                  </a:lnTo>
                  <a:lnTo>
                    <a:pt x="13" y="324"/>
                  </a:lnTo>
                  <a:lnTo>
                    <a:pt x="26" y="407"/>
                  </a:lnTo>
                  <a:lnTo>
                    <a:pt x="41" y="489"/>
                  </a:lnTo>
                  <a:lnTo>
                    <a:pt x="62" y="567"/>
                  </a:lnTo>
                  <a:lnTo>
                    <a:pt x="85" y="637"/>
                  </a:lnTo>
                  <a:lnTo>
                    <a:pt x="96" y="668"/>
                  </a:lnTo>
                  <a:lnTo>
                    <a:pt x="106" y="694"/>
                  </a:lnTo>
                  <a:lnTo>
                    <a:pt x="132" y="681"/>
                  </a:lnTo>
                  <a:lnTo>
                    <a:pt x="158" y="663"/>
                  </a:lnTo>
                  <a:lnTo>
                    <a:pt x="184" y="642"/>
                  </a:lnTo>
                  <a:lnTo>
                    <a:pt x="218" y="621"/>
                  </a:lnTo>
                </a:path>
              </a:pathLst>
            </a:custGeom>
            <a:solidFill>
              <a:srgbClr val="30004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13040" y="1593720"/>
              <a:ext cx="561960" cy="1217880"/>
            </a:xfrm>
            <a:custGeom>
              <a:avLst/>
              <a:gdLst/>
              <a:ahLst/>
              <a:rect l="l" t="t" r="r" b="b"/>
              <a:pathLst>
                <a:path w="354" h="767">
                  <a:moveTo>
                    <a:pt x="153" y="766"/>
                  </a:moveTo>
                  <a:lnTo>
                    <a:pt x="140" y="735"/>
                  </a:lnTo>
                  <a:lnTo>
                    <a:pt x="127" y="699"/>
                  </a:lnTo>
                  <a:lnTo>
                    <a:pt x="114" y="660"/>
                  </a:lnTo>
                  <a:lnTo>
                    <a:pt x="103" y="616"/>
                  </a:lnTo>
                  <a:lnTo>
                    <a:pt x="77" y="525"/>
                  </a:lnTo>
                  <a:lnTo>
                    <a:pt x="54" y="432"/>
                  </a:lnTo>
                  <a:lnTo>
                    <a:pt x="36" y="339"/>
                  </a:lnTo>
                  <a:lnTo>
                    <a:pt x="18" y="248"/>
                  </a:lnTo>
                  <a:lnTo>
                    <a:pt x="13" y="207"/>
                  </a:lnTo>
                  <a:lnTo>
                    <a:pt x="7" y="168"/>
                  </a:lnTo>
                  <a:lnTo>
                    <a:pt x="2" y="132"/>
                  </a:lnTo>
                  <a:lnTo>
                    <a:pt x="0" y="101"/>
                  </a:lnTo>
                  <a:lnTo>
                    <a:pt x="13" y="91"/>
                  </a:lnTo>
                  <a:lnTo>
                    <a:pt x="28" y="80"/>
                  </a:lnTo>
                  <a:lnTo>
                    <a:pt x="49" y="67"/>
                  </a:lnTo>
                  <a:lnTo>
                    <a:pt x="72" y="52"/>
                  </a:lnTo>
                  <a:lnTo>
                    <a:pt x="119" y="23"/>
                  </a:lnTo>
                  <a:lnTo>
                    <a:pt x="168" y="0"/>
                  </a:lnTo>
                  <a:lnTo>
                    <a:pt x="174" y="36"/>
                  </a:lnTo>
                  <a:lnTo>
                    <a:pt x="181" y="78"/>
                  </a:lnTo>
                  <a:lnTo>
                    <a:pt x="202" y="166"/>
                  </a:lnTo>
                  <a:lnTo>
                    <a:pt x="251" y="362"/>
                  </a:lnTo>
                  <a:lnTo>
                    <a:pt x="280" y="458"/>
                  </a:lnTo>
                  <a:lnTo>
                    <a:pt x="306" y="549"/>
                  </a:lnTo>
                  <a:lnTo>
                    <a:pt x="319" y="587"/>
                  </a:lnTo>
                  <a:lnTo>
                    <a:pt x="332" y="626"/>
                  </a:lnTo>
                  <a:lnTo>
                    <a:pt x="342" y="660"/>
                  </a:lnTo>
                  <a:lnTo>
                    <a:pt x="353" y="688"/>
                  </a:lnTo>
                  <a:lnTo>
                    <a:pt x="290" y="709"/>
                  </a:lnTo>
                  <a:lnTo>
                    <a:pt x="236" y="732"/>
                  </a:lnTo>
                  <a:lnTo>
                    <a:pt x="189" y="750"/>
                  </a:lnTo>
                  <a:lnTo>
                    <a:pt x="168" y="761"/>
                  </a:lnTo>
                  <a:lnTo>
                    <a:pt x="153" y="766"/>
                  </a:lnTo>
                </a:path>
              </a:pathLst>
            </a:custGeom>
            <a:solidFill>
              <a:srgbClr val="30004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58880" y="1368360"/>
              <a:ext cx="665280" cy="1204920"/>
            </a:xfrm>
            <a:custGeom>
              <a:avLst/>
              <a:gdLst/>
              <a:ahLst/>
              <a:rect l="l" t="t" r="r" b="b"/>
              <a:pathLst>
                <a:path w="419" h="759">
                  <a:moveTo>
                    <a:pt x="0" y="54"/>
                  </a:moveTo>
                  <a:lnTo>
                    <a:pt x="18" y="137"/>
                  </a:lnTo>
                  <a:lnTo>
                    <a:pt x="39" y="227"/>
                  </a:lnTo>
                  <a:lnTo>
                    <a:pt x="88" y="411"/>
                  </a:lnTo>
                  <a:lnTo>
                    <a:pt x="140" y="592"/>
                  </a:lnTo>
                  <a:lnTo>
                    <a:pt x="169" y="678"/>
                  </a:lnTo>
                  <a:lnTo>
                    <a:pt x="192" y="758"/>
                  </a:lnTo>
                  <a:lnTo>
                    <a:pt x="249" y="745"/>
                  </a:lnTo>
                  <a:lnTo>
                    <a:pt x="304" y="735"/>
                  </a:lnTo>
                  <a:lnTo>
                    <a:pt x="358" y="727"/>
                  </a:lnTo>
                  <a:lnTo>
                    <a:pt x="418" y="714"/>
                  </a:lnTo>
                  <a:lnTo>
                    <a:pt x="410" y="691"/>
                  </a:lnTo>
                  <a:lnTo>
                    <a:pt x="403" y="662"/>
                  </a:lnTo>
                  <a:lnTo>
                    <a:pt x="395" y="628"/>
                  </a:lnTo>
                  <a:lnTo>
                    <a:pt x="384" y="592"/>
                  </a:lnTo>
                  <a:lnTo>
                    <a:pt x="374" y="551"/>
                  </a:lnTo>
                  <a:lnTo>
                    <a:pt x="364" y="507"/>
                  </a:lnTo>
                  <a:lnTo>
                    <a:pt x="343" y="411"/>
                  </a:lnTo>
                  <a:lnTo>
                    <a:pt x="249" y="0"/>
                  </a:lnTo>
                  <a:lnTo>
                    <a:pt x="229" y="2"/>
                  </a:lnTo>
                  <a:lnTo>
                    <a:pt x="200" y="5"/>
                  </a:lnTo>
                  <a:lnTo>
                    <a:pt x="166" y="10"/>
                  </a:lnTo>
                  <a:lnTo>
                    <a:pt x="133" y="18"/>
                  </a:lnTo>
                  <a:lnTo>
                    <a:pt x="60" y="33"/>
                  </a:lnTo>
                  <a:lnTo>
                    <a:pt x="29" y="44"/>
                  </a:lnTo>
                  <a:lnTo>
                    <a:pt x="0" y="54"/>
                  </a:lnTo>
                </a:path>
              </a:pathLst>
            </a:custGeom>
            <a:solidFill>
              <a:srgbClr val="30004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52960" y="1614600"/>
              <a:ext cx="446040" cy="1119240"/>
            </a:xfrm>
            <a:custGeom>
              <a:avLst/>
              <a:gdLst/>
              <a:ahLst/>
              <a:rect l="l" t="t" r="r" b="b"/>
              <a:pathLst>
                <a:path w="281" h="705">
                  <a:moveTo>
                    <a:pt x="0" y="0"/>
                  </a:moveTo>
                  <a:lnTo>
                    <a:pt x="18" y="83"/>
                  </a:lnTo>
                  <a:lnTo>
                    <a:pt x="31" y="171"/>
                  </a:lnTo>
                  <a:lnTo>
                    <a:pt x="57" y="357"/>
                  </a:lnTo>
                  <a:lnTo>
                    <a:pt x="65" y="445"/>
                  </a:lnTo>
                  <a:lnTo>
                    <a:pt x="70" y="528"/>
                  </a:lnTo>
                  <a:lnTo>
                    <a:pt x="70" y="564"/>
                  </a:lnTo>
                  <a:lnTo>
                    <a:pt x="72" y="598"/>
                  </a:lnTo>
                  <a:lnTo>
                    <a:pt x="70" y="629"/>
                  </a:lnTo>
                  <a:lnTo>
                    <a:pt x="67" y="655"/>
                  </a:lnTo>
                  <a:lnTo>
                    <a:pt x="122" y="665"/>
                  </a:lnTo>
                  <a:lnTo>
                    <a:pt x="181" y="680"/>
                  </a:lnTo>
                  <a:lnTo>
                    <a:pt x="233" y="696"/>
                  </a:lnTo>
                  <a:lnTo>
                    <a:pt x="257" y="701"/>
                  </a:lnTo>
                  <a:lnTo>
                    <a:pt x="275" y="704"/>
                  </a:lnTo>
                  <a:lnTo>
                    <a:pt x="280" y="598"/>
                  </a:lnTo>
                  <a:lnTo>
                    <a:pt x="280" y="538"/>
                  </a:lnTo>
                  <a:lnTo>
                    <a:pt x="275" y="473"/>
                  </a:lnTo>
                  <a:lnTo>
                    <a:pt x="264" y="404"/>
                  </a:lnTo>
                  <a:lnTo>
                    <a:pt x="252" y="323"/>
                  </a:lnTo>
                  <a:lnTo>
                    <a:pt x="241" y="279"/>
                  </a:lnTo>
                  <a:lnTo>
                    <a:pt x="231" y="233"/>
                  </a:lnTo>
                  <a:lnTo>
                    <a:pt x="215" y="181"/>
                  </a:lnTo>
                  <a:lnTo>
                    <a:pt x="202" y="129"/>
                  </a:lnTo>
                  <a:lnTo>
                    <a:pt x="189" y="122"/>
                  </a:lnTo>
                  <a:lnTo>
                    <a:pt x="171" y="109"/>
                  </a:lnTo>
                  <a:lnTo>
                    <a:pt x="148" y="90"/>
                  </a:lnTo>
                  <a:lnTo>
                    <a:pt x="119" y="72"/>
                  </a:lnTo>
                  <a:lnTo>
                    <a:pt x="57" y="34"/>
                  </a:lnTo>
                  <a:lnTo>
                    <a:pt x="28" y="15"/>
                  </a:lnTo>
                  <a:lnTo>
                    <a:pt x="0" y="0"/>
                  </a:lnTo>
                </a:path>
              </a:pathLst>
            </a:custGeom>
            <a:solidFill>
              <a:srgbClr val="30004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309920" y="1359000"/>
              <a:ext cx="509760" cy="1230120"/>
            </a:xfrm>
            <a:custGeom>
              <a:avLst/>
              <a:gdLst/>
              <a:ahLst/>
              <a:rect l="l" t="t" r="r" b="b"/>
              <a:pathLst>
                <a:path w="321" h="775">
                  <a:moveTo>
                    <a:pt x="58" y="743"/>
                  </a:moveTo>
                  <a:lnTo>
                    <a:pt x="58" y="709"/>
                  </a:lnTo>
                  <a:lnTo>
                    <a:pt x="55" y="673"/>
                  </a:lnTo>
                  <a:lnTo>
                    <a:pt x="50" y="590"/>
                  </a:lnTo>
                  <a:lnTo>
                    <a:pt x="45" y="502"/>
                  </a:lnTo>
                  <a:lnTo>
                    <a:pt x="39" y="407"/>
                  </a:lnTo>
                  <a:lnTo>
                    <a:pt x="21" y="205"/>
                  </a:lnTo>
                  <a:lnTo>
                    <a:pt x="0" y="0"/>
                  </a:lnTo>
                  <a:lnTo>
                    <a:pt x="32" y="6"/>
                  </a:lnTo>
                  <a:lnTo>
                    <a:pt x="68" y="13"/>
                  </a:lnTo>
                  <a:lnTo>
                    <a:pt x="146" y="29"/>
                  </a:lnTo>
                  <a:lnTo>
                    <a:pt x="182" y="39"/>
                  </a:lnTo>
                  <a:lnTo>
                    <a:pt x="216" y="50"/>
                  </a:lnTo>
                  <a:lnTo>
                    <a:pt x="244" y="63"/>
                  </a:lnTo>
                  <a:lnTo>
                    <a:pt x="268" y="73"/>
                  </a:lnTo>
                  <a:lnTo>
                    <a:pt x="278" y="161"/>
                  </a:lnTo>
                  <a:lnTo>
                    <a:pt x="289" y="254"/>
                  </a:lnTo>
                  <a:lnTo>
                    <a:pt x="309" y="451"/>
                  </a:lnTo>
                  <a:lnTo>
                    <a:pt x="315" y="546"/>
                  </a:lnTo>
                  <a:lnTo>
                    <a:pt x="317" y="634"/>
                  </a:lnTo>
                  <a:lnTo>
                    <a:pt x="320" y="673"/>
                  </a:lnTo>
                  <a:lnTo>
                    <a:pt x="320" y="712"/>
                  </a:lnTo>
                  <a:lnTo>
                    <a:pt x="320" y="746"/>
                  </a:lnTo>
                  <a:lnTo>
                    <a:pt x="317" y="774"/>
                  </a:lnTo>
                  <a:lnTo>
                    <a:pt x="255" y="766"/>
                  </a:lnTo>
                  <a:lnTo>
                    <a:pt x="187" y="759"/>
                  </a:lnTo>
                  <a:lnTo>
                    <a:pt x="120" y="751"/>
                  </a:lnTo>
                  <a:lnTo>
                    <a:pt x="58" y="743"/>
                  </a:lnTo>
                </a:path>
              </a:pathLst>
            </a:custGeom>
            <a:solidFill>
              <a:srgbClr val="30004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24320" y="1301760"/>
              <a:ext cx="608040" cy="1197000"/>
            </a:xfrm>
            <a:custGeom>
              <a:avLst/>
              <a:gdLst/>
              <a:ahLst/>
              <a:rect l="l" t="t" r="r" b="b"/>
              <a:pathLst>
                <a:path w="383" h="754">
                  <a:moveTo>
                    <a:pt x="0" y="11"/>
                  </a:moveTo>
                  <a:lnTo>
                    <a:pt x="39" y="220"/>
                  </a:lnTo>
                  <a:lnTo>
                    <a:pt x="57" y="324"/>
                  </a:lnTo>
                  <a:lnTo>
                    <a:pt x="73" y="427"/>
                  </a:lnTo>
                  <a:lnTo>
                    <a:pt x="91" y="520"/>
                  </a:lnTo>
                  <a:lnTo>
                    <a:pt x="99" y="564"/>
                  </a:lnTo>
                  <a:lnTo>
                    <a:pt x="104" y="606"/>
                  </a:lnTo>
                  <a:lnTo>
                    <a:pt x="112" y="645"/>
                  </a:lnTo>
                  <a:lnTo>
                    <a:pt x="120" y="678"/>
                  </a:lnTo>
                  <a:lnTo>
                    <a:pt x="122" y="709"/>
                  </a:lnTo>
                  <a:lnTo>
                    <a:pt x="128" y="735"/>
                  </a:lnTo>
                  <a:lnTo>
                    <a:pt x="153" y="738"/>
                  </a:lnTo>
                  <a:lnTo>
                    <a:pt x="185" y="738"/>
                  </a:lnTo>
                  <a:lnTo>
                    <a:pt x="250" y="743"/>
                  </a:lnTo>
                  <a:lnTo>
                    <a:pt x="317" y="748"/>
                  </a:lnTo>
                  <a:lnTo>
                    <a:pt x="382" y="753"/>
                  </a:lnTo>
                  <a:lnTo>
                    <a:pt x="379" y="727"/>
                  </a:lnTo>
                  <a:lnTo>
                    <a:pt x="377" y="696"/>
                  </a:lnTo>
                  <a:lnTo>
                    <a:pt x="374" y="663"/>
                  </a:lnTo>
                  <a:lnTo>
                    <a:pt x="369" y="624"/>
                  </a:lnTo>
                  <a:lnTo>
                    <a:pt x="364" y="582"/>
                  </a:lnTo>
                  <a:lnTo>
                    <a:pt x="361" y="536"/>
                  </a:lnTo>
                  <a:lnTo>
                    <a:pt x="348" y="438"/>
                  </a:lnTo>
                  <a:lnTo>
                    <a:pt x="335" y="331"/>
                  </a:lnTo>
                  <a:lnTo>
                    <a:pt x="322" y="223"/>
                  </a:lnTo>
                  <a:lnTo>
                    <a:pt x="307" y="112"/>
                  </a:lnTo>
                  <a:lnTo>
                    <a:pt x="294" y="5"/>
                  </a:lnTo>
                  <a:lnTo>
                    <a:pt x="260" y="3"/>
                  </a:lnTo>
                  <a:lnTo>
                    <a:pt x="224" y="0"/>
                  </a:lnTo>
                  <a:lnTo>
                    <a:pt x="148" y="0"/>
                  </a:lnTo>
                  <a:lnTo>
                    <a:pt x="70" y="3"/>
                  </a:lnTo>
                  <a:lnTo>
                    <a:pt x="0" y="11"/>
                  </a:lnTo>
                </a:path>
              </a:pathLst>
            </a:custGeom>
            <a:solidFill>
              <a:srgbClr val="30004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85880" y="1754280"/>
              <a:ext cx="228600" cy="226800"/>
            </a:xfrm>
            <a:custGeom>
              <a:avLst/>
              <a:gdLst/>
              <a:ahLst/>
              <a:rect l="l" t="t" r="r" b="b"/>
              <a:pathLst>
                <a:path w="144" h="143">
                  <a:moveTo>
                    <a:pt x="0" y="142"/>
                  </a:moveTo>
                  <a:lnTo>
                    <a:pt x="21" y="101"/>
                  </a:lnTo>
                  <a:lnTo>
                    <a:pt x="52" y="67"/>
                  </a:lnTo>
                  <a:lnTo>
                    <a:pt x="70" y="49"/>
                  </a:lnTo>
                  <a:lnTo>
                    <a:pt x="91" y="34"/>
                  </a:lnTo>
                  <a:lnTo>
                    <a:pt x="117" y="15"/>
                  </a:lnTo>
                  <a:lnTo>
                    <a:pt x="143" y="0"/>
                  </a:lnTo>
                </a:path>
              </a:pathLst>
            </a:custGeom>
            <a:noFill/>
            <a:ln cap="rnd" w="12600">
              <a:solidFill>
                <a:srgbClr val="805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79800" y="1454040"/>
              <a:ext cx="380880" cy="141480"/>
            </a:xfrm>
            <a:custGeom>
              <a:avLst/>
              <a:gdLst/>
              <a:ahLst/>
              <a:rect l="l" t="t" r="r" b="b"/>
              <a:pathLst>
                <a:path w="240" h="89">
                  <a:moveTo>
                    <a:pt x="0" y="88"/>
                  </a:moveTo>
                  <a:lnTo>
                    <a:pt x="21" y="72"/>
                  </a:lnTo>
                  <a:lnTo>
                    <a:pt x="44" y="60"/>
                  </a:lnTo>
                  <a:lnTo>
                    <a:pt x="70" y="47"/>
                  </a:lnTo>
                  <a:lnTo>
                    <a:pt x="102" y="34"/>
                  </a:lnTo>
                  <a:lnTo>
                    <a:pt x="166" y="13"/>
                  </a:lnTo>
                  <a:lnTo>
                    <a:pt x="239" y="0"/>
                  </a:lnTo>
                </a:path>
              </a:pathLst>
            </a:custGeom>
            <a:noFill/>
            <a:ln cap="rnd" w="12600">
              <a:solidFill>
                <a:srgbClr val="805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954160" y="1306440"/>
              <a:ext cx="471600" cy="63720"/>
            </a:xfrm>
            <a:custGeom>
              <a:avLst/>
              <a:gdLst/>
              <a:ahLst/>
              <a:rect l="l" t="t" r="r" b="b"/>
              <a:pathLst>
                <a:path w="297" h="40">
                  <a:moveTo>
                    <a:pt x="0" y="39"/>
                  </a:moveTo>
                  <a:lnTo>
                    <a:pt x="11" y="33"/>
                  </a:lnTo>
                  <a:lnTo>
                    <a:pt x="21" y="31"/>
                  </a:lnTo>
                  <a:lnTo>
                    <a:pt x="55" y="21"/>
                  </a:lnTo>
                  <a:lnTo>
                    <a:pt x="96" y="13"/>
                  </a:lnTo>
                  <a:lnTo>
                    <a:pt x="141" y="8"/>
                  </a:lnTo>
                  <a:lnTo>
                    <a:pt x="187" y="2"/>
                  </a:lnTo>
                  <a:lnTo>
                    <a:pt x="231" y="0"/>
                  </a:lnTo>
                  <a:lnTo>
                    <a:pt x="270" y="2"/>
                  </a:lnTo>
                  <a:lnTo>
                    <a:pt x="283" y="5"/>
                  </a:lnTo>
                  <a:lnTo>
                    <a:pt x="296" y="8"/>
                  </a:lnTo>
                </a:path>
              </a:pathLst>
            </a:custGeom>
            <a:noFill/>
            <a:ln cap="rnd" w="12600">
              <a:solidFill>
                <a:srgbClr val="805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90880" y="1306440"/>
              <a:ext cx="420840" cy="54000"/>
            </a:xfrm>
            <a:custGeom>
              <a:avLst/>
              <a:gdLst/>
              <a:ahLst/>
              <a:rect l="l" t="t" r="r" b="b"/>
              <a:pathLst>
                <a:path w="265" h="34">
                  <a:moveTo>
                    <a:pt x="0" y="2"/>
                  </a:moveTo>
                  <a:lnTo>
                    <a:pt x="20" y="0"/>
                  </a:lnTo>
                  <a:lnTo>
                    <a:pt x="49" y="0"/>
                  </a:lnTo>
                  <a:lnTo>
                    <a:pt x="85" y="0"/>
                  </a:lnTo>
                  <a:lnTo>
                    <a:pt x="124" y="5"/>
                  </a:lnTo>
                  <a:lnTo>
                    <a:pt x="202" y="15"/>
                  </a:lnTo>
                  <a:lnTo>
                    <a:pt x="236" y="23"/>
                  </a:lnTo>
                  <a:lnTo>
                    <a:pt x="264" y="33"/>
                  </a:lnTo>
                </a:path>
              </a:pathLst>
            </a:custGeom>
            <a:noFill/>
            <a:ln cap="rnd" w="12600">
              <a:solidFill>
                <a:srgbClr val="805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35440" y="1474920"/>
              <a:ext cx="319320" cy="141120"/>
            </a:xfrm>
            <a:custGeom>
              <a:avLst/>
              <a:gdLst/>
              <a:ahLst/>
              <a:rect l="l" t="t" r="r" b="b"/>
              <a:pathLst>
                <a:path w="201" h="89">
                  <a:moveTo>
                    <a:pt x="0" y="0"/>
                  </a:moveTo>
                  <a:lnTo>
                    <a:pt x="13" y="3"/>
                  </a:lnTo>
                  <a:lnTo>
                    <a:pt x="36" y="10"/>
                  </a:lnTo>
                  <a:lnTo>
                    <a:pt x="65" y="21"/>
                  </a:lnTo>
                  <a:lnTo>
                    <a:pt x="96" y="34"/>
                  </a:lnTo>
                  <a:lnTo>
                    <a:pt x="158" y="62"/>
                  </a:lnTo>
                  <a:lnTo>
                    <a:pt x="184" y="75"/>
                  </a:lnTo>
                  <a:lnTo>
                    <a:pt x="200" y="88"/>
                  </a:lnTo>
                </a:path>
              </a:pathLst>
            </a:custGeom>
            <a:noFill/>
            <a:ln cap="rnd" w="12600">
              <a:solidFill>
                <a:srgbClr val="805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73720" y="1819440"/>
              <a:ext cx="249120" cy="203040"/>
            </a:xfrm>
            <a:custGeom>
              <a:avLst/>
              <a:gdLst/>
              <a:ahLst/>
              <a:rect l="l" t="t" r="r" b="b"/>
              <a:pathLst>
                <a:path w="157" h="128">
                  <a:moveTo>
                    <a:pt x="0" y="0"/>
                  </a:moveTo>
                  <a:lnTo>
                    <a:pt x="11" y="0"/>
                  </a:lnTo>
                  <a:lnTo>
                    <a:pt x="24" y="5"/>
                  </a:lnTo>
                  <a:lnTo>
                    <a:pt x="39" y="13"/>
                  </a:lnTo>
                  <a:lnTo>
                    <a:pt x="60" y="26"/>
                  </a:lnTo>
                  <a:lnTo>
                    <a:pt x="81" y="42"/>
                  </a:lnTo>
                  <a:lnTo>
                    <a:pt x="104" y="65"/>
                  </a:lnTo>
                  <a:lnTo>
                    <a:pt x="130" y="93"/>
                  </a:lnTo>
                  <a:lnTo>
                    <a:pt x="156" y="127"/>
                  </a:lnTo>
                </a:path>
              </a:pathLst>
            </a:custGeom>
            <a:noFill/>
            <a:ln cap="rnd" w="12600">
              <a:solidFill>
                <a:srgbClr val="805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71640" y="2809800"/>
              <a:ext cx="285840" cy="144360"/>
            </a:xfrm>
            <a:custGeom>
              <a:avLst/>
              <a:gdLst/>
              <a:ahLst/>
              <a:rect l="l" t="t" r="r" b="b"/>
              <a:pathLst>
                <a:path w="180" h="91">
                  <a:moveTo>
                    <a:pt x="0" y="90"/>
                  </a:moveTo>
                  <a:lnTo>
                    <a:pt x="33" y="62"/>
                  </a:lnTo>
                  <a:lnTo>
                    <a:pt x="75" y="39"/>
                  </a:lnTo>
                  <a:lnTo>
                    <a:pt x="124" y="18"/>
                  </a:lnTo>
                  <a:lnTo>
                    <a:pt x="179" y="0"/>
                  </a:lnTo>
                </a:path>
              </a:pathLst>
            </a:custGeom>
            <a:noFill/>
            <a:ln cap="rnd" w="12600">
              <a:solidFill>
                <a:srgbClr val="805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473200" y="2571840"/>
              <a:ext cx="392400" cy="115920"/>
            </a:xfrm>
            <a:custGeom>
              <a:avLst/>
              <a:gdLst/>
              <a:ahLst/>
              <a:rect l="l" t="t" r="r" b="b"/>
              <a:pathLst>
                <a:path w="247" h="73">
                  <a:moveTo>
                    <a:pt x="0" y="72"/>
                  </a:moveTo>
                  <a:lnTo>
                    <a:pt x="23" y="62"/>
                  </a:lnTo>
                  <a:lnTo>
                    <a:pt x="52" y="52"/>
                  </a:lnTo>
                  <a:lnTo>
                    <a:pt x="111" y="31"/>
                  </a:lnTo>
                  <a:lnTo>
                    <a:pt x="179" y="13"/>
                  </a:lnTo>
                  <a:lnTo>
                    <a:pt x="246" y="0"/>
                  </a:lnTo>
                </a:path>
              </a:pathLst>
            </a:custGeom>
            <a:noFill/>
            <a:ln cap="rnd" w="12600">
              <a:solidFill>
                <a:srgbClr val="805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22720" y="2455920"/>
              <a:ext cx="406440" cy="47520"/>
            </a:xfrm>
            <a:custGeom>
              <a:avLst/>
              <a:gdLst/>
              <a:ahLst/>
              <a:rect l="l" t="t" r="r" b="b"/>
              <a:pathLst>
                <a:path w="256" h="30">
                  <a:moveTo>
                    <a:pt x="0" y="29"/>
                  </a:moveTo>
                  <a:lnTo>
                    <a:pt x="23" y="24"/>
                  </a:lnTo>
                  <a:lnTo>
                    <a:pt x="52" y="16"/>
                  </a:lnTo>
                  <a:lnTo>
                    <a:pt x="122" y="6"/>
                  </a:lnTo>
                  <a:lnTo>
                    <a:pt x="195" y="0"/>
                  </a:lnTo>
                  <a:lnTo>
                    <a:pt x="229" y="3"/>
                  </a:lnTo>
                  <a:lnTo>
                    <a:pt x="255" y="8"/>
                  </a:lnTo>
                </a:path>
              </a:pathLst>
            </a:custGeom>
            <a:noFill/>
            <a:ln cap="rnd" w="12600">
              <a:solidFill>
                <a:srgbClr val="805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030560" y="2496960"/>
              <a:ext cx="373320" cy="43200"/>
            </a:xfrm>
            <a:custGeom>
              <a:avLst/>
              <a:gdLst/>
              <a:ahLst/>
              <a:rect l="l" t="t" r="r" b="b"/>
              <a:pathLst>
                <a:path w="235" h="27">
                  <a:moveTo>
                    <a:pt x="0" y="0"/>
                  </a:moveTo>
                  <a:lnTo>
                    <a:pt x="21" y="0"/>
                  </a:lnTo>
                  <a:lnTo>
                    <a:pt x="49" y="0"/>
                  </a:lnTo>
                  <a:lnTo>
                    <a:pt x="112" y="3"/>
                  </a:lnTo>
                  <a:lnTo>
                    <a:pt x="176" y="11"/>
                  </a:lnTo>
                  <a:lnTo>
                    <a:pt x="208" y="18"/>
                  </a:lnTo>
                  <a:lnTo>
                    <a:pt x="234" y="26"/>
                  </a:lnTo>
                </a:path>
              </a:pathLst>
            </a:custGeom>
            <a:noFill/>
            <a:ln cap="rnd" w="12600">
              <a:solidFill>
                <a:srgbClr val="805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13200" y="2584440"/>
              <a:ext cx="347760" cy="71280"/>
            </a:xfrm>
            <a:custGeom>
              <a:avLst/>
              <a:gdLst/>
              <a:ahLst/>
              <a:rect l="l" t="t" r="r" b="b"/>
              <a:pathLst>
                <a:path w="219" h="45">
                  <a:moveTo>
                    <a:pt x="0" y="2"/>
                  </a:moveTo>
                  <a:lnTo>
                    <a:pt x="21" y="0"/>
                  </a:lnTo>
                  <a:lnTo>
                    <a:pt x="49" y="0"/>
                  </a:lnTo>
                  <a:lnTo>
                    <a:pt x="112" y="7"/>
                  </a:lnTo>
                  <a:lnTo>
                    <a:pt x="171" y="23"/>
                  </a:lnTo>
                  <a:lnTo>
                    <a:pt x="200" y="31"/>
                  </a:lnTo>
                  <a:lnTo>
                    <a:pt x="218" y="44"/>
                  </a:lnTo>
                </a:path>
              </a:pathLst>
            </a:custGeom>
            <a:noFill/>
            <a:ln cap="rnd" w="12600">
              <a:solidFill>
                <a:srgbClr val="805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89640" y="2752560"/>
              <a:ext cx="239760" cy="120960"/>
            </a:xfrm>
            <a:custGeom>
              <a:avLst/>
              <a:gdLst/>
              <a:ahLst/>
              <a:rect l="l" t="t" r="r" b="b"/>
              <a:pathLst>
                <a:path w="151" h="76">
                  <a:moveTo>
                    <a:pt x="0" y="0"/>
                  </a:moveTo>
                  <a:lnTo>
                    <a:pt x="41" y="7"/>
                  </a:lnTo>
                  <a:lnTo>
                    <a:pt x="86" y="20"/>
                  </a:lnTo>
                  <a:lnTo>
                    <a:pt x="106" y="28"/>
                  </a:lnTo>
                  <a:lnTo>
                    <a:pt x="124" y="41"/>
                  </a:lnTo>
                  <a:lnTo>
                    <a:pt x="137" y="57"/>
                  </a:lnTo>
                  <a:lnTo>
                    <a:pt x="150" y="75"/>
                  </a:lnTo>
                </a:path>
              </a:pathLst>
            </a:custGeom>
            <a:noFill/>
            <a:ln cap="rnd" w="12600">
              <a:solidFill>
                <a:srgbClr val="805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38600" y="5286240"/>
              <a:ext cx="701640" cy="400320"/>
            </a:xfrm>
            <a:custGeom>
              <a:avLst/>
              <a:gdLst/>
              <a:ahLst/>
              <a:rect l="l" t="t" r="r" b="b"/>
              <a:pathLst>
                <a:path w="442" h="252">
                  <a:moveTo>
                    <a:pt x="257" y="194"/>
                  </a:moveTo>
                  <a:lnTo>
                    <a:pt x="301" y="194"/>
                  </a:lnTo>
                  <a:lnTo>
                    <a:pt x="350" y="194"/>
                  </a:lnTo>
                  <a:lnTo>
                    <a:pt x="376" y="197"/>
                  </a:lnTo>
                  <a:lnTo>
                    <a:pt x="394" y="202"/>
                  </a:lnTo>
                  <a:lnTo>
                    <a:pt x="412" y="207"/>
                  </a:lnTo>
                  <a:lnTo>
                    <a:pt x="425" y="215"/>
                  </a:lnTo>
                  <a:lnTo>
                    <a:pt x="441" y="140"/>
                  </a:lnTo>
                  <a:lnTo>
                    <a:pt x="423" y="26"/>
                  </a:lnTo>
                  <a:lnTo>
                    <a:pt x="415" y="31"/>
                  </a:lnTo>
                  <a:lnTo>
                    <a:pt x="407" y="29"/>
                  </a:lnTo>
                  <a:lnTo>
                    <a:pt x="399" y="24"/>
                  </a:lnTo>
                  <a:lnTo>
                    <a:pt x="399" y="16"/>
                  </a:lnTo>
                  <a:lnTo>
                    <a:pt x="389" y="24"/>
                  </a:lnTo>
                  <a:lnTo>
                    <a:pt x="379" y="26"/>
                  </a:lnTo>
                  <a:lnTo>
                    <a:pt x="368" y="21"/>
                  </a:lnTo>
                  <a:lnTo>
                    <a:pt x="360" y="16"/>
                  </a:lnTo>
                  <a:lnTo>
                    <a:pt x="350" y="21"/>
                  </a:lnTo>
                  <a:lnTo>
                    <a:pt x="340" y="18"/>
                  </a:lnTo>
                  <a:lnTo>
                    <a:pt x="332" y="13"/>
                  </a:lnTo>
                  <a:lnTo>
                    <a:pt x="329" y="8"/>
                  </a:lnTo>
                  <a:lnTo>
                    <a:pt x="316" y="13"/>
                  </a:lnTo>
                  <a:lnTo>
                    <a:pt x="306" y="13"/>
                  </a:lnTo>
                  <a:lnTo>
                    <a:pt x="301" y="8"/>
                  </a:lnTo>
                  <a:lnTo>
                    <a:pt x="296" y="3"/>
                  </a:lnTo>
                  <a:lnTo>
                    <a:pt x="285" y="11"/>
                  </a:lnTo>
                  <a:lnTo>
                    <a:pt x="272" y="13"/>
                  </a:lnTo>
                  <a:lnTo>
                    <a:pt x="262" y="8"/>
                  </a:lnTo>
                  <a:lnTo>
                    <a:pt x="257" y="0"/>
                  </a:lnTo>
                  <a:lnTo>
                    <a:pt x="249" y="13"/>
                  </a:lnTo>
                  <a:lnTo>
                    <a:pt x="241" y="16"/>
                  </a:lnTo>
                  <a:lnTo>
                    <a:pt x="231" y="16"/>
                  </a:lnTo>
                  <a:lnTo>
                    <a:pt x="220" y="8"/>
                  </a:lnTo>
                  <a:lnTo>
                    <a:pt x="215" y="13"/>
                  </a:lnTo>
                  <a:lnTo>
                    <a:pt x="210" y="16"/>
                  </a:lnTo>
                  <a:lnTo>
                    <a:pt x="199" y="18"/>
                  </a:lnTo>
                  <a:lnTo>
                    <a:pt x="189" y="18"/>
                  </a:lnTo>
                  <a:lnTo>
                    <a:pt x="181" y="13"/>
                  </a:lnTo>
                  <a:lnTo>
                    <a:pt x="171" y="24"/>
                  </a:lnTo>
                  <a:lnTo>
                    <a:pt x="163" y="26"/>
                  </a:lnTo>
                  <a:lnTo>
                    <a:pt x="150" y="26"/>
                  </a:lnTo>
                  <a:lnTo>
                    <a:pt x="145" y="24"/>
                  </a:lnTo>
                  <a:lnTo>
                    <a:pt x="140" y="16"/>
                  </a:lnTo>
                  <a:lnTo>
                    <a:pt x="135" y="31"/>
                  </a:lnTo>
                  <a:lnTo>
                    <a:pt x="127" y="39"/>
                  </a:lnTo>
                  <a:lnTo>
                    <a:pt x="114" y="42"/>
                  </a:lnTo>
                  <a:lnTo>
                    <a:pt x="106" y="36"/>
                  </a:lnTo>
                  <a:lnTo>
                    <a:pt x="98" y="31"/>
                  </a:lnTo>
                  <a:lnTo>
                    <a:pt x="93" y="44"/>
                  </a:lnTo>
                  <a:lnTo>
                    <a:pt x="85" y="49"/>
                  </a:lnTo>
                  <a:lnTo>
                    <a:pt x="72" y="49"/>
                  </a:lnTo>
                  <a:lnTo>
                    <a:pt x="59" y="44"/>
                  </a:lnTo>
                  <a:lnTo>
                    <a:pt x="54" y="57"/>
                  </a:lnTo>
                  <a:lnTo>
                    <a:pt x="46" y="62"/>
                  </a:lnTo>
                  <a:lnTo>
                    <a:pt x="39" y="65"/>
                  </a:lnTo>
                  <a:lnTo>
                    <a:pt x="33" y="62"/>
                  </a:lnTo>
                  <a:lnTo>
                    <a:pt x="23" y="60"/>
                  </a:lnTo>
                  <a:lnTo>
                    <a:pt x="18" y="70"/>
                  </a:lnTo>
                  <a:lnTo>
                    <a:pt x="13" y="73"/>
                  </a:lnTo>
                  <a:lnTo>
                    <a:pt x="0" y="73"/>
                  </a:lnTo>
                  <a:lnTo>
                    <a:pt x="36" y="179"/>
                  </a:lnTo>
                  <a:lnTo>
                    <a:pt x="85" y="251"/>
                  </a:lnTo>
                  <a:lnTo>
                    <a:pt x="93" y="241"/>
                  </a:lnTo>
                  <a:lnTo>
                    <a:pt x="109" y="231"/>
                  </a:lnTo>
                  <a:lnTo>
                    <a:pt x="129" y="220"/>
                  </a:lnTo>
                  <a:lnTo>
                    <a:pt x="155" y="212"/>
                  </a:lnTo>
                  <a:lnTo>
                    <a:pt x="210" y="202"/>
                  </a:lnTo>
                  <a:lnTo>
                    <a:pt x="236" y="197"/>
                  </a:lnTo>
                  <a:lnTo>
                    <a:pt x="257" y="194"/>
                  </a:lnTo>
                </a:path>
              </a:pathLst>
            </a:custGeom>
            <a:solidFill>
              <a:srgbClr val="30004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73600" y="5594400"/>
              <a:ext cx="541080" cy="125280"/>
            </a:xfrm>
            <a:custGeom>
              <a:avLst/>
              <a:gdLst/>
              <a:ahLst/>
              <a:rect l="l" t="t" r="r" b="b"/>
              <a:pathLst>
                <a:path w="341" h="79">
                  <a:moveTo>
                    <a:pt x="340" y="21"/>
                  </a:moveTo>
                  <a:lnTo>
                    <a:pt x="333" y="34"/>
                  </a:lnTo>
                  <a:lnTo>
                    <a:pt x="320" y="44"/>
                  </a:lnTo>
                  <a:lnTo>
                    <a:pt x="299" y="52"/>
                  </a:lnTo>
                  <a:lnTo>
                    <a:pt x="275" y="57"/>
                  </a:lnTo>
                  <a:lnTo>
                    <a:pt x="226" y="65"/>
                  </a:lnTo>
                  <a:lnTo>
                    <a:pt x="205" y="70"/>
                  </a:lnTo>
                  <a:lnTo>
                    <a:pt x="185" y="73"/>
                  </a:lnTo>
                  <a:lnTo>
                    <a:pt x="161" y="75"/>
                  </a:lnTo>
                  <a:lnTo>
                    <a:pt x="135" y="78"/>
                  </a:lnTo>
                  <a:lnTo>
                    <a:pt x="78" y="78"/>
                  </a:lnTo>
                  <a:lnTo>
                    <a:pt x="50" y="75"/>
                  </a:lnTo>
                  <a:lnTo>
                    <a:pt x="26" y="73"/>
                  </a:lnTo>
                  <a:lnTo>
                    <a:pt x="8" y="65"/>
                  </a:lnTo>
                  <a:lnTo>
                    <a:pt x="0" y="55"/>
                  </a:lnTo>
                  <a:lnTo>
                    <a:pt x="8" y="44"/>
                  </a:lnTo>
                  <a:lnTo>
                    <a:pt x="24" y="34"/>
                  </a:lnTo>
                  <a:lnTo>
                    <a:pt x="47" y="26"/>
                  </a:lnTo>
                  <a:lnTo>
                    <a:pt x="73" y="18"/>
                  </a:lnTo>
                  <a:lnTo>
                    <a:pt x="127" y="5"/>
                  </a:lnTo>
                  <a:lnTo>
                    <a:pt x="151" y="3"/>
                  </a:lnTo>
                  <a:lnTo>
                    <a:pt x="172" y="0"/>
                  </a:lnTo>
                  <a:lnTo>
                    <a:pt x="218" y="0"/>
                  </a:lnTo>
                  <a:lnTo>
                    <a:pt x="268" y="0"/>
                  </a:lnTo>
                  <a:lnTo>
                    <a:pt x="291" y="3"/>
                  </a:lnTo>
                  <a:lnTo>
                    <a:pt x="312" y="8"/>
                  </a:lnTo>
                  <a:lnTo>
                    <a:pt x="327" y="13"/>
                  </a:lnTo>
                  <a:lnTo>
                    <a:pt x="340" y="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65680" y="5923080"/>
              <a:ext cx="623880" cy="606240"/>
            </a:xfrm>
            <a:custGeom>
              <a:avLst/>
              <a:gdLst/>
              <a:ahLst/>
              <a:rect l="l" t="t" r="r" b="b"/>
              <a:pathLst>
                <a:path w="393" h="382">
                  <a:moveTo>
                    <a:pt x="384" y="360"/>
                  </a:moveTo>
                  <a:lnTo>
                    <a:pt x="371" y="368"/>
                  </a:lnTo>
                  <a:lnTo>
                    <a:pt x="353" y="373"/>
                  </a:lnTo>
                  <a:lnTo>
                    <a:pt x="330" y="375"/>
                  </a:lnTo>
                  <a:lnTo>
                    <a:pt x="304" y="378"/>
                  </a:lnTo>
                  <a:lnTo>
                    <a:pt x="249" y="381"/>
                  </a:lnTo>
                  <a:lnTo>
                    <a:pt x="187" y="378"/>
                  </a:lnTo>
                  <a:lnTo>
                    <a:pt x="130" y="370"/>
                  </a:lnTo>
                  <a:lnTo>
                    <a:pt x="75" y="360"/>
                  </a:lnTo>
                  <a:lnTo>
                    <a:pt x="52" y="355"/>
                  </a:lnTo>
                  <a:lnTo>
                    <a:pt x="34" y="347"/>
                  </a:lnTo>
                  <a:lnTo>
                    <a:pt x="21" y="339"/>
                  </a:lnTo>
                  <a:lnTo>
                    <a:pt x="10" y="332"/>
                  </a:lnTo>
                  <a:lnTo>
                    <a:pt x="5" y="282"/>
                  </a:lnTo>
                  <a:lnTo>
                    <a:pt x="0" y="236"/>
                  </a:lnTo>
                  <a:lnTo>
                    <a:pt x="5" y="153"/>
                  </a:lnTo>
                  <a:lnTo>
                    <a:pt x="16" y="75"/>
                  </a:lnTo>
                  <a:lnTo>
                    <a:pt x="39" y="0"/>
                  </a:lnTo>
                  <a:lnTo>
                    <a:pt x="73" y="13"/>
                  </a:lnTo>
                  <a:lnTo>
                    <a:pt x="107" y="21"/>
                  </a:lnTo>
                  <a:lnTo>
                    <a:pt x="140" y="26"/>
                  </a:lnTo>
                  <a:lnTo>
                    <a:pt x="174" y="29"/>
                  </a:lnTo>
                  <a:lnTo>
                    <a:pt x="244" y="26"/>
                  </a:lnTo>
                  <a:lnTo>
                    <a:pt x="319" y="18"/>
                  </a:lnTo>
                  <a:lnTo>
                    <a:pt x="319" y="21"/>
                  </a:lnTo>
                  <a:lnTo>
                    <a:pt x="322" y="31"/>
                  </a:lnTo>
                  <a:lnTo>
                    <a:pt x="327" y="47"/>
                  </a:lnTo>
                  <a:lnTo>
                    <a:pt x="332" y="68"/>
                  </a:lnTo>
                  <a:lnTo>
                    <a:pt x="340" y="93"/>
                  </a:lnTo>
                  <a:lnTo>
                    <a:pt x="348" y="119"/>
                  </a:lnTo>
                  <a:lnTo>
                    <a:pt x="366" y="181"/>
                  </a:lnTo>
                  <a:lnTo>
                    <a:pt x="379" y="241"/>
                  </a:lnTo>
                  <a:lnTo>
                    <a:pt x="389" y="298"/>
                  </a:lnTo>
                  <a:lnTo>
                    <a:pt x="392" y="321"/>
                  </a:lnTo>
                  <a:lnTo>
                    <a:pt x="392" y="339"/>
                  </a:lnTo>
                  <a:lnTo>
                    <a:pt x="389" y="352"/>
                  </a:lnTo>
                  <a:lnTo>
                    <a:pt x="384" y="360"/>
                  </a:lnTo>
                </a:path>
              </a:pathLst>
            </a:custGeom>
            <a:solidFill>
              <a:srgbClr val="18502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371840" y="5915160"/>
              <a:ext cx="228600" cy="581040"/>
            </a:xfrm>
            <a:custGeom>
              <a:avLst/>
              <a:gdLst/>
              <a:ahLst/>
              <a:rect l="l" t="t" r="r" b="b"/>
              <a:pathLst>
                <a:path w="144" h="366">
                  <a:moveTo>
                    <a:pt x="65" y="365"/>
                  </a:moveTo>
                  <a:lnTo>
                    <a:pt x="70" y="357"/>
                  </a:lnTo>
                  <a:lnTo>
                    <a:pt x="73" y="344"/>
                  </a:lnTo>
                  <a:lnTo>
                    <a:pt x="73" y="326"/>
                  </a:lnTo>
                  <a:lnTo>
                    <a:pt x="70" y="303"/>
                  </a:lnTo>
                  <a:lnTo>
                    <a:pt x="60" y="246"/>
                  </a:lnTo>
                  <a:lnTo>
                    <a:pt x="47" y="186"/>
                  </a:lnTo>
                  <a:lnTo>
                    <a:pt x="29" y="124"/>
                  </a:lnTo>
                  <a:lnTo>
                    <a:pt x="21" y="98"/>
                  </a:lnTo>
                  <a:lnTo>
                    <a:pt x="13" y="73"/>
                  </a:lnTo>
                  <a:lnTo>
                    <a:pt x="8" y="52"/>
                  </a:lnTo>
                  <a:lnTo>
                    <a:pt x="3" y="36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6" y="26"/>
                  </a:lnTo>
                  <a:lnTo>
                    <a:pt x="29" y="23"/>
                  </a:lnTo>
                  <a:lnTo>
                    <a:pt x="37" y="16"/>
                  </a:lnTo>
                  <a:lnTo>
                    <a:pt x="47" y="0"/>
                  </a:lnTo>
                  <a:lnTo>
                    <a:pt x="52" y="10"/>
                  </a:lnTo>
                  <a:lnTo>
                    <a:pt x="60" y="23"/>
                  </a:lnTo>
                  <a:lnTo>
                    <a:pt x="73" y="54"/>
                  </a:lnTo>
                  <a:lnTo>
                    <a:pt x="89" y="93"/>
                  </a:lnTo>
                  <a:lnTo>
                    <a:pt x="104" y="135"/>
                  </a:lnTo>
                  <a:lnTo>
                    <a:pt x="130" y="223"/>
                  </a:lnTo>
                  <a:lnTo>
                    <a:pt x="138" y="261"/>
                  </a:lnTo>
                  <a:lnTo>
                    <a:pt x="143" y="293"/>
                  </a:lnTo>
                  <a:lnTo>
                    <a:pt x="117" y="326"/>
                  </a:lnTo>
                  <a:lnTo>
                    <a:pt x="96" y="344"/>
                  </a:lnTo>
                  <a:lnTo>
                    <a:pt x="83" y="355"/>
                  </a:lnTo>
                  <a:lnTo>
                    <a:pt x="65" y="365"/>
                  </a:lnTo>
                </a:path>
              </a:pathLst>
            </a:custGeom>
            <a:solidFill>
              <a:srgbClr val="28303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51400" y="5931000"/>
              <a:ext cx="108000" cy="195120"/>
            </a:xfrm>
            <a:custGeom>
              <a:avLst/>
              <a:gdLst/>
              <a:ahLst/>
              <a:rect l="l" t="t" r="r" b="b"/>
              <a:pathLst>
                <a:path w="68" h="123">
                  <a:moveTo>
                    <a:pt x="0" y="0"/>
                  </a:moveTo>
                  <a:lnTo>
                    <a:pt x="15" y="11"/>
                  </a:lnTo>
                  <a:lnTo>
                    <a:pt x="31" y="29"/>
                  </a:lnTo>
                  <a:lnTo>
                    <a:pt x="46" y="47"/>
                  </a:lnTo>
                  <a:lnTo>
                    <a:pt x="59" y="68"/>
                  </a:lnTo>
                  <a:lnTo>
                    <a:pt x="65" y="83"/>
                  </a:lnTo>
                  <a:lnTo>
                    <a:pt x="67" y="99"/>
                  </a:lnTo>
                  <a:lnTo>
                    <a:pt x="65" y="109"/>
                  </a:lnTo>
                  <a:lnTo>
                    <a:pt x="59" y="117"/>
                  </a:lnTo>
                  <a:lnTo>
                    <a:pt x="46" y="122"/>
                  </a:lnTo>
                  <a:lnTo>
                    <a:pt x="33" y="122"/>
                  </a:lnTo>
                  <a:lnTo>
                    <a:pt x="20" y="117"/>
                  </a:lnTo>
                  <a:lnTo>
                    <a:pt x="13" y="109"/>
                  </a:lnTo>
                  <a:lnTo>
                    <a:pt x="7" y="101"/>
                  </a:lnTo>
                  <a:lnTo>
                    <a:pt x="7" y="91"/>
                  </a:lnTo>
                  <a:lnTo>
                    <a:pt x="2" y="63"/>
                  </a:lnTo>
                  <a:lnTo>
                    <a:pt x="0" y="0"/>
                  </a:lnTo>
                </a:path>
              </a:pathLst>
            </a:custGeom>
            <a:solidFill>
              <a:srgbClr val="38105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4044960" y="3892680"/>
            <a:ext cx="4700520" cy="1892160"/>
            <a:chOff x="4044960" y="3892680"/>
            <a:chExt cx="4700520" cy="1892160"/>
          </a:xfrm>
        </p:grpSpPr>
        <p:sp>
          <p:nvSpPr>
            <p:cNvPr id="264" name=""/>
            <p:cNvSpPr/>
            <p:nvPr/>
          </p:nvSpPr>
          <p:spPr>
            <a:xfrm>
              <a:off x="4044960" y="3892680"/>
              <a:ext cx="4635360" cy="1892160"/>
            </a:xfrm>
            <a:custGeom>
              <a:avLst/>
              <a:gdLst>
                <a:gd name="textAreaLeft" fmla="*/ 171360 w 4635360"/>
                <a:gd name="textAreaRight" fmla="*/ 4464000 w 4635360"/>
                <a:gd name="textAreaTop" fmla="*/ 69840 h 1892160"/>
                <a:gd name="textAreaBottom" fmla="*/ 1511280 h 189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1799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fda4b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168800" y="4010040"/>
              <a:ext cx="457668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b50069"/>
                  </a:solidFill>
                  <a:latin typeface="Times New Roman"/>
                </a:rPr>
                <a:t>We’re losing altitud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b50069"/>
                  </a:solidFill>
                  <a:latin typeface="Times New Roman"/>
                </a:rPr>
                <a:t>Quick Professor, give you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b50069"/>
                  </a:solidFill>
                  <a:latin typeface="Times New Roman"/>
                </a:rPr>
                <a:t>lecture on Charles’ Law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Cloud"/>
          <p:cNvSpPr/>
          <p:nvPr/>
        </p:nvSpPr>
        <p:spPr>
          <a:xfrm>
            <a:off x="5638680" y="380880"/>
            <a:ext cx="2743200" cy="18385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Absolute Zero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retical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emperat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 which a gas would have zero volume and no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lvin calculated by extrap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 K = -273.15 °C = -459 °F = 0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ver attain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ugh we’ve gotten real clos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gas law problems use the Kelvin temperature scal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CDED-349A-43E4-9C1B-DBDB2258C9F2}" type="slidenum">
              <a:t>38</a:t>
            </a:fld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Determining Absolute Zero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pic>
        <p:nvPicPr>
          <p:cNvPr id="270" name="11_16" descr=""/>
          <p:cNvPicPr/>
          <p:nvPr/>
        </p:nvPicPr>
        <p:blipFill>
          <a:blip r:embed="rId1"/>
          <a:srcRect l="0" t="0" r="0" b="3445"/>
          <a:stretch/>
        </p:blipFill>
        <p:spPr>
          <a:xfrm>
            <a:off x="685800" y="1371600"/>
            <a:ext cx="5638680" cy="48988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6476400" y="1600200"/>
            <a:ext cx="2536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iam Thoms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rd of Kelvi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polate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 graph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 vs. Te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termin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tical te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as would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olume of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A7E9-9AEF-44CA-A8D5-4A8102B4B00A}" type="slidenum">
              <a:t>39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FG11_02" descr=""/>
          <p:cNvPicPr/>
          <p:nvPr/>
        </p:nvPicPr>
        <p:blipFill>
          <a:blip r:embed="rId1"/>
          <a:stretch/>
        </p:blipFill>
        <p:spPr>
          <a:xfrm>
            <a:off x="2590920" y="838080"/>
            <a:ext cx="3911400" cy="54864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Soda Straws &amp; Gas Pressure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8360" y="1905120"/>
            <a:ext cx="313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ssure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 inside the straw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me as the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air out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raw – 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quid levels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me on 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98960" y="2209680"/>
            <a:ext cx="302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ssure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 inside the straw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than the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air out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raw – 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quid is pu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 the straw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utside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C660-B698-45DA-AAE5-12C6327C1C03}" type="slidenum">
              <a:t>4</a:t>
            </a:fld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Avogadro’s Law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609624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ume directly proportional to the number of gas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constant 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 P and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gas molecules = larger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 number of gas molecules b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al volumes of gases contain equal numbers of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gas doesn’t m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6553080" y="2209680"/>
                <a:ext cx="218448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1FA4-4C0A-4794-8BCC-F188CDF2FC4C}" type="slidenum">
              <a:t>40</a:t>
            </a:fld>
          </a:p>
        </p:txBody>
      </p:sp>
    </p:spTree>
  </p:cSld>
  <p:transition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Avogadro’s Law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pic>
        <p:nvPicPr>
          <p:cNvPr id="276" name="11_19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3651480" cy="3962160"/>
          </a:xfrm>
          <a:prstGeom prst="rect">
            <a:avLst/>
          </a:prstGeom>
          <a:ln w="0">
            <a:noFill/>
          </a:ln>
        </p:spPr>
      </p:pic>
      <p:pic>
        <p:nvPicPr>
          <p:cNvPr id="277" name="11_18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15944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0DCC-0F2F-4068-8D41-27238A5D2CC4}" type="slidenum">
              <a:t>41</a:t>
            </a:fld>
          </a:p>
        </p:txBody>
      </p:sp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Ideal Gas Law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ombing the gas laws we can write a general eq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called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as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lue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s on the units of P and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use 0.0821          and convert P to atm and V to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Ideal Gas law when have a gas at one condition, use the Combined Gas Law when you have gas whose condition is chan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429000" y="3048120"/>
                <a:ext cx="7509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tm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247840" y="5018040"/>
                <a:ext cx="468648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    or    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797C-A227-4C80-8846-032C261F7AA2}" type="slidenum">
              <a:t>42</a:t>
            </a:fld>
          </a:p>
        </p:txBody>
      </p:sp>
    </p:spTree>
  </p:cSld>
  <p:transition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Molar Mass of a Gas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 methods chemists use to determine the molar mass of an unknown substance is to heat a weighed sample until it becomes a gas, measure the temperature, pressure and volume, and use the Ideal Gas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362320" y="4800600"/>
                <a:ext cx="45972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lar Mas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ass in gram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l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B58F-0EE9-4209-B30A-B4B7C2A909AC}" type="slidenum">
              <a:t>43</a:t>
            </a:fld>
          </a:p>
        </p:txBody>
      </p:sp>
    </p:spTree>
  </p:cSld>
  <p:transition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-360" y="22096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13716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ample of a gas has a mass of 0.311 g.  Its volume is 0.225 L at a temperature of 55°C and a pressure of 886 mmHg.  Find its molar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48320" y="0"/>
            <a:ext cx="44956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0"/>
            <a:ext cx="464832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4320" rIns="274320" tIns="13716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935A-8ECB-429F-9AB0-F7CDF1BC8B1E}" type="slidenum">
              <a:t>44</a:t>
            </a:fld>
          </a:p>
        </p:txBody>
      </p:sp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Ideal vs. Real Gases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 gases often do not behave like ideal gases at high pressure or low tem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l gas laws ass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attractions between gas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 molecules do not take up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the Kinetic-Molecular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low temperatures and high pressures these assumptions are not va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A9B8-D1DF-49EF-8CDA-8933FD84CBF6}" type="slidenum">
              <a:t>45</a:t>
            </a:fld>
          </a:p>
        </p:txBody>
      </p:sp>
    </p:spTree>
  </p:cSld>
  <p:transition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191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Ideal vs. Real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pic>
        <p:nvPicPr>
          <p:cNvPr id="291" name="11_20" descr=""/>
          <p:cNvPicPr/>
          <p:nvPr/>
        </p:nvPicPr>
        <p:blipFill>
          <a:blip r:embed="rId2"/>
          <a:srcRect l="0" t="0" r="0" b="4168"/>
          <a:stretch/>
        </p:blipFill>
        <p:spPr>
          <a:xfrm>
            <a:off x="457200" y="1066680"/>
            <a:ext cx="3301920" cy="5210280"/>
          </a:xfrm>
          <a:prstGeom prst="rect">
            <a:avLst/>
          </a:prstGeom>
          <a:ln w="0">
            <a:noFill/>
          </a:ln>
        </p:spPr>
      </p:pic>
      <p:pic>
        <p:nvPicPr>
          <p:cNvPr id="292" name="11_21" descr=""/>
          <p:cNvPicPr/>
          <p:nvPr/>
        </p:nvPicPr>
        <p:blipFill>
          <a:blip r:embed="rId3"/>
          <a:srcRect l="0" t="0" r="0" b="3412"/>
          <a:stretch/>
        </p:blipFill>
        <p:spPr>
          <a:xfrm>
            <a:off x="4267080" y="1066680"/>
            <a:ext cx="4595760" cy="521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132C-020F-4E1C-9303-59B552075CE2}" type="slidenum">
              <a:t>46</a:t>
            </a:fld>
          </a:p>
        </p:txBody>
      </p:sp>
    </p:spTree>
  </p:cSld>
  <p:transition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Mixtures of Gases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rding to Kinetic Molecular Theory, the particles in a gas behave independ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r is a mixture, yet we can treat it as a single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, we can think of each gas in the mixture independent of the other g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ugh all gases in the mixture have the same volume and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gases completely occupy the container, so all gases in the mixture have the volume of the contai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685800" y="4572000"/>
          <a:ext cx="7772400" cy="1731960"/>
        </p:xfrm>
        <a:graphic>
          <a:graphicData uri="http://schemas.openxmlformats.org/drawingml/2006/table">
            <a:tbl>
              <a:tblPr/>
              <a:tblGrid>
                <a:gridCol w="1816200"/>
                <a:gridCol w="1536480"/>
                <a:gridCol w="2743200"/>
                <a:gridCol w="167652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in Air, by volu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in Air, by volu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gen, 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gon, 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xygen, O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bon dioxide, CO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4C8E-C04F-4A9B-AE79-6A366E68C6DD}" type="slidenum">
              <a:t>47</a:t>
            </a:fld>
          </a:p>
        </p:txBody>
      </p:sp>
    </p:spTree>
  </p:cSld>
  <p:transition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Partial Pressure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gas in the mixture exerts a pressure independent of the other gases in the mix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essure of an component gas in a mixture is called a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rtial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m of the partial pressures of all the gases in a mixture equals the total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lton’s Law of Partial Pres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a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as 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as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80880" y="5638680"/>
                <a:ext cx="83757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i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 atm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1 atm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 atm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 at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78D7-DCBB-4942-A0A6-26D62F880687}" type="slidenum">
              <a:t>48</a:t>
            </a:fld>
          </a:p>
        </p:txBody>
      </p:sp>
    </p:spTree>
  </p:cSld>
  <p:transition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Finding Partial Pressure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5410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the partial pressure of a gas, multiply the total pressure of the mixture by the fractional composition of the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, in a gas mixture that is 80.0% He and 20.0% Ne that has a total pressure of 1.0 atm, the partial pressure of He would b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H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= (0.800)(1.0 atm) = 0.80 a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ctional composition = percentage divided by 10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11_22" descr=""/>
          <p:cNvPicPr/>
          <p:nvPr/>
        </p:nvPicPr>
        <p:blipFill>
          <a:blip r:embed="rId1"/>
          <a:stretch/>
        </p:blipFill>
        <p:spPr>
          <a:xfrm>
            <a:off x="5791320" y="1371600"/>
            <a:ext cx="3159000" cy="44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46C5-1880-47C6-877E-F5A73294DA91}" type="slidenum">
              <a:t>49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FG11_03" descr=""/>
          <p:cNvPicPr/>
          <p:nvPr/>
        </p:nvPicPr>
        <p:blipFill>
          <a:blip r:embed="rId1"/>
          <a:stretch/>
        </p:blipFill>
        <p:spPr>
          <a:xfrm>
            <a:off x="5867280" y="762120"/>
            <a:ext cx="3016440" cy="54864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Air Pressure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tmosphere exerts a pressure on everything it cont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verage 14.7 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tmosphere goes up about 370 miles, but 80% is in the first 10 miles from the  earth’s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same pressure that a column of water would exert if it were about 10.3 m hi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1283-A8EA-4AD3-8282-FC7BF86D8D96}" type="slidenum">
              <a:t>5</a:t>
            </a:fld>
          </a:p>
        </p:txBody>
      </p:sp>
    </p:spTree>
  </p:cSld>
  <p:transition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Times New Roman"/>
              </a:rPr>
              <a:t>Mountain Climbing &amp; Partial Pressure</a:t>
            </a:r>
            <a:endParaRPr b="0" lang="en-US" sz="40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5790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bodies are adapted to breathe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a partial pressure of 0.21 a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rpa, people native to the Himalaya mountains, are adapted to the much lower partial pressure of oxygen in their 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al pressures of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wer than 0.1 atm will lea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ypox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onsciousness or d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mbers of Mt Everest must carry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cylinders to prevent hypox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op of Mt Everest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i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.311 atm, so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.065 a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11_24" descr=""/>
          <p:cNvPicPr/>
          <p:nvPr/>
        </p:nvPicPr>
        <p:blipFill>
          <a:blip r:embed="rId1"/>
          <a:stretch/>
        </p:blipFill>
        <p:spPr>
          <a:xfrm>
            <a:off x="5943600" y="1295280"/>
            <a:ext cx="303048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A44C-C47A-4A84-BE14-5E5410A539F0}" type="slidenum">
              <a:t>50</a:t>
            </a:fld>
          </a:p>
        </p:txBody>
      </p:sp>
    </p:spTree>
  </p:cSld>
  <p:transition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Deep Sea Divers &amp; Partial Pressure</a:t>
            </a:r>
            <a:endParaRPr b="0" lang="en-US" sz="40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s also possible to have too much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 condition calle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xygen tox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1.4 a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gen toxicity can lead to muscle spasms, tunnel vision and convul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s also possible to have too much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 condition calle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itrogen narc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known as Rapture of the D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diving deep, the pressure of the air divers breathe increases – so the partial pressure of the oxygen incr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a depth of 55 m the partial pressure of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1.4 a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 that go below 50 m use a mixture of He and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lled heliox that contains a lower percentage of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n a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89F3-830D-497A-A812-7723EB56EA42}" type="slidenum">
              <a:t>51</a:t>
            </a:fld>
          </a:p>
        </p:txBody>
      </p:sp>
    </p:spTree>
  </p:cSld>
  <p:transition>
    <p:fade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Partial Pressure vs. Total Pressure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pic>
        <p:nvPicPr>
          <p:cNvPr id="308" name="11_23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010280" cy="32288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1194840" y="4689360"/>
            <a:ext cx="703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a depth of 30 m, the total pressure of air in the d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ngs, and the partial pressure of all the gases in the ai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quadrupl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C858-CE12-481C-A623-98998E030A18}" type="slidenum">
              <a:t>52</a:t>
            </a:fld>
          </a:p>
        </p:txBody>
      </p:sp>
    </p:spTree>
  </p:cSld>
  <p:transition>
    <p:fade thruBlk="true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Collecting Gases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es are often collected by having them displace water from a co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lem is that since water evaporates, there is also water vapor in the collected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rtial pressure of the water vapor, called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apor press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epends only on the tempera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you can use a table to find out the partial pressure of the water vapor in the gas you coll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collect a gas sample with a total pressure of 758 mmHg at 25°C, the partial pressure of the water vapor will be 23.8 mmHg – so the partial pressure of the dry gas will be 734 mmH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C587-A680-4CBD-B77B-FAE225F957FB}" type="slidenum">
              <a:t>53</a:t>
            </a:fld>
          </a:p>
        </p:txBody>
      </p:sp>
    </p:spTree>
  </p:cSld>
  <p:transition>
    <p:fade thruBlk="true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Vapor Pressure of Water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5638680" y="1066680"/>
          <a:ext cx="3124080" cy="4921200"/>
        </p:xfrm>
        <a:graphic>
          <a:graphicData uri="http://schemas.openxmlformats.org/drawingml/2006/table">
            <a:tbl>
              <a:tblPr/>
              <a:tblGrid>
                <a:gridCol w="1638360"/>
                <a:gridCol w="14857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., °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sure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H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5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4" name="11_26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5334120" cy="465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D505-7B41-4B06-943E-6002D0F08EF2}" type="slidenum">
              <a:t>54</a:t>
            </a:fld>
          </a:p>
        </p:txBody>
      </p:sp>
    </p:spTree>
  </p:cSld>
  <p:transition>
    <p:fade thruBlk="true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11_25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6388200" cy="51818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6765840" y="457200"/>
            <a:ext cx="21132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n metal re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HCl(aq)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764760" y="3962520"/>
            <a:ext cx="22838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porates, 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vapor 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xed in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765120" y="1676520"/>
            <a:ext cx="2198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s 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 the 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bubbles i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jar, wher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ces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in the j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5B41-E393-4206-95DF-293DF076DCAF}" type="slidenum">
              <a:t>55</a:t>
            </a:fld>
          </a:p>
        </p:txBody>
      </p:sp>
    </p:spTree>
  </p:cSld>
  <p:transition>
    <p:fade thruBlk="true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Reactions Involving Gases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inciples of reaction stoichiometry from Chapter 8 can be combined with the Gas Laws for reactions involving g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reactions of gases, the amount of a gas is often given as a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m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we’ve seen, must state pressure and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deal Gas Law allows us to convert from the volume of the gas to moles; then we can use the coefficients in the equation as a mole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E2AE-9EAA-48EE-982A-3FBCF8B20056}" type="slidenum">
              <a:t>56</a:t>
            </a:fld>
          </a:p>
        </p:txBody>
      </p:sp>
    </p:spTree>
  </p:cSld>
  <p:transition>
    <p:fade thruBlk="true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13716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any liters of oxygen gas form when 294 g of KCl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letely reacts in the following reaction?  Assume the oxygen gas is collected at P = 755 mmHg and T = 308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48320" y="0"/>
            <a:ext cx="44956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0"/>
            <a:ext cx="464832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4320" rIns="274320" tIns="13716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1892160" y="4627440"/>
                <a:ext cx="527076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 KCl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Δ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2 KCl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3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48BC-F4EC-465C-B23F-5806D6BC1C39}" type="slidenum">
              <a:t>57</a:t>
            </a:fld>
          </a:p>
        </p:txBody>
      </p:sp>
    </p:spTree>
  </p:cSld>
  <p:transition>
    <p:fade thruBlk="true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imes New Roman"/>
              </a:rPr>
              <a:t>Calculate the volume occupied by 1.00 moles of an ideal gas at STP.</a:t>
            </a:r>
            <a:endParaRPr b="0" lang="en-US" sz="32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mole of any gas at STP will occupy 22.4 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volume is called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olar vol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can be used as a conversion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long as you work at S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 mol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22.4 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210240" y="2362320"/>
            <a:ext cx="8571240" cy="698760"/>
            <a:chOff x="210240" y="2362320"/>
            <a:chExt cx="8571240" cy="698760"/>
          </a:xfrm>
        </p:grpSpPr>
        <p:sp>
          <p:nvSpPr>
            <p:cNvPr id="328" name=""/>
            <p:cNvSpPr/>
            <p:nvPr/>
          </p:nvSpPr>
          <p:spPr>
            <a:xfrm>
              <a:off x="210240" y="2454120"/>
              <a:ext cx="85712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1.00 atm) x V =  (1.00 moles)(0.0821       )(273 K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475320" y="2362320"/>
              <a:ext cx="826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∙at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l∙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3653640" y="2971800"/>
            <a:ext cx="1975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 = 22.4 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66040" y="1752480"/>
            <a:ext cx="3084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x V = n x R x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1AC6-AD40-4CED-8DF7-B83037A36558}" type="slidenum">
              <a:t>58</a:t>
            </a:fld>
          </a:p>
        </p:txBody>
      </p:sp>
    </p:spTree>
  </p:cSld>
  <p:transition>
    <p:fade thruBlk="true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Molar Volume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pic>
        <p:nvPicPr>
          <p:cNvPr id="333" name="11_26-04UN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5943600" cy="38145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6474960" y="1600200"/>
            <a:ext cx="251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 m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gas st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olume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 is not eff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size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ecules, (u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 condition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4E4A-0628-4C06-A38B-4AD22CBAEF06}" type="slidenum">
              <a:t>59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Properties of Gases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d to completely fill their contai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the shape of their contai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den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ch less than solid or liquid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e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ses are always homogene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AE26-536E-4A28-B518-7A77628AB2F8}" type="slidenum">
              <a:t>6</a:t>
            </a:fld>
          </a:p>
        </p:txBody>
      </p:sp>
    </p:spTree>
  </p:cSld>
  <p:transition>
    <p:fade thruBlk="true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13716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any grams of water will form when 1.24 L of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STP completely reacts with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48320" y="0"/>
            <a:ext cx="44956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0"/>
            <a:ext cx="464832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4320" rIns="274320" tIns="13716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2127240" y="4052880"/>
                <a:ext cx="4672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 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acc>
                      <m:accPr>
                        <m:chr m:val="⃗"/>
                      </m:accPr>
                      <m:e/>
                    </m:acc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2 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1D37-C871-476F-9601-ECCB35A4B58F}" type="slidenum">
              <a:t>60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Kinetic Molecular Theory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rticles of the gas, (either atoms or molecules), are constantly mo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ttraction between particles is neglig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moving particles hit another particle or the container, they do not stick; but they bounce off and continue moving in another di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billiard b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1C55-78A0-4526-8D0C-1A68F4130F61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Kinetic Molecular Theory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 lot of empty space between the p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d to the size of the part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verage kinetic energy of the particles is directly proportional to the Kelvin tem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you raise the temperature of the gas, the average speed of the particles incr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don’t be fooled into thinking all the particles are moving at the same speed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108D-1E3B-4A0A-A289-24C6B0F08D75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Kinetic Molecular Theory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pic>
        <p:nvPicPr>
          <p:cNvPr id="66" name="FG11_04" descr=""/>
          <p:cNvPicPr/>
          <p:nvPr/>
        </p:nvPicPr>
        <p:blipFill>
          <a:blip r:embed="rId2"/>
          <a:srcRect l="0" t="7218" r="0" b="0"/>
          <a:stretch/>
        </p:blipFill>
        <p:spPr>
          <a:xfrm>
            <a:off x="1143000" y="1219320"/>
            <a:ext cx="6858000" cy="489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o's Introductory Chemistry, Chap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6F7C-94D7-419F-A3B6-F0CAA9B8525E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14:53:03Z</dcterms:created>
  <dc:creator>Roy Kennedy</dc:creator>
  <dc:description/>
  <dc:language>en-US</dc:language>
  <cp:lastModifiedBy>WLCSC</cp:lastModifiedBy>
  <dcterms:modified xsi:type="dcterms:W3CDTF">2006-02-16T20:27:02Z</dcterms:modified>
  <cp:revision>63</cp:revision>
  <dc:subject/>
  <dc:title>Introductory Chemistry, 2nd Edition Nivaldo Tro</dc:title>
</cp:coreProperties>
</file>