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.wmf" ContentType="image/x-wmf"/>
  <Override PartName="/ppt/media/image32.wmf" ContentType="image/x-wmf"/>
  <Override PartName="/ppt/media/image20.jpeg" ContentType="image/jpeg"/>
  <Override PartName="/ppt/media/image29.wmf" ContentType="image/x-wmf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26.wmf" ContentType="image/x-wmf"/>
  <Override PartName="/ppt/media/image46.jpeg" ContentType="image/jpeg"/>
  <Override PartName="/ppt/media/image15.jpeg" ContentType="image/jpeg"/>
  <Override PartName="/ppt/media/image25.wmf" ContentType="image/x-wmf"/>
  <Override PartName="/ppt/media/image14.jpeg" ContentType="image/jpeg"/>
  <Override PartName="/ppt/media/image41.jpeg" ContentType="image/jpeg"/>
  <Override PartName="/ppt/media/image22.jpeg" ContentType="image/jpeg"/>
  <Override PartName="/ppt/media/image42.wmf" ContentType="image/x-wmf"/>
  <Override PartName="/ppt/media/image1.jpeg" ContentType="image/jpeg"/>
  <Override PartName="/ppt/media/image35.jpeg" ContentType="image/jpeg"/>
  <Override PartName="/ppt/media/image23.jpeg" ContentType="image/jpeg"/>
  <Override PartName="/ppt/media/image24.jpeg" ContentType="image/jpeg"/>
  <Override PartName="/ppt/media/image3.jpeg" ContentType="image/jpeg"/>
  <Override PartName="/ppt/media/image33.wmf" ContentType="image/x-wmf"/>
  <Override PartName="/ppt/media/image12.jpeg" ContentType="image/jpeg"/>
  <Override PartName="/ppt/media/image34.jpeg" ContentType="image/jpeg"/>
  <Override PartName="/ppt/media/image7.jpeg" ContentType="image/jpeg"/>
  <Override PartName="/ppt/media/image36.jpeg" ContentType="image/jpeg"/>
  <Override PartName="/ppt/media/image9.jpeg" ContentType="image/jpeg"/>
  <Override PartName="/ppt/media/image11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37.wmf" ContentType="image/x-wmf"/>
  <Override PartName="/ppt/media/image30.jpeg" ContentType="image/jpeg"/>
  <Override PartName="/ppt/media/image47.jpeg" ContentType="image/jpeg"/>
  <Override PartName="/ppt/media/image31.jpeg" ContentType="image/jpeg"/>
  <Override PartName="/ppt/media/image38.wmf" ContentType="image/x-wmf"/>
  <Override PartName="/ppt/media/image4.jpeg" ContentType="image/jpeg"/>
  <Override PartName="/ppt/media/image48.jpeg" ContentType="image/jpeg"/>
  <Override PartName="/ppt/media/image49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50.jpeg" ContentType="image/jpeg"/>
  <Override PartName="/ppt/media/image27.jpeg" ContentType="image/jpeg"/>
  <Override PartName="/ppt/media/image5.jpeg" ContentType="image/jpeg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BB8A-B18A-4589-8EBC-6F3828F2B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6A89-719A-4E4D-9EE5-D6CB333CC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AFC3-866C-4928-87FE-55F3E1C0E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0A8F-7ADA-4D13-8D78-80AFC0A07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D0B5-CE4E-4D86-B802-1CD9D4ADB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D48B-98AD-4BF6-897B-18E5DDBF7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338F-2C6D-4680-8477-101936A26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4F06-C23E-42F4-BFD3-AB2D62DDC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4ADD-35CB-4B73-8B1B-F8005332C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4F91-E7ED-4B2D-B939-0C976D708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C3B0-26A0-4A7D-8DCA-4D9243E54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FB9B-D0F4-4847-ACE8-BECD6E014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00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0FABA-EF57-4A63-AEEC-6A75D0E436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ps.prenhall.com/wps/media/objects/1054/1080299/media/AAEDKKM0.html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ps.prenhall.com/wps/media/objects/1054/1080299/media/AABTHBG0.html" TargetMode="External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ps.prenhall.com/wps/media/objects/1054/1080299/media/f5hp/f5hp.html" TargetMode="External"/><Relationship Id="rId2" Type="http://schemas.openxmlformats.org/officeDocument/2006/relationships/package" Target="../embeddings/oleObject1.doc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http://wps.prenhall.com/wps/media/objects/1054/1080299/media/AAEDKKN0.html" TargetMode="External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hyperlink" Target="http://wps.prenhall.com/wps/media/objects/1054/1080299/media/f8hp/f8hp.html" TargetMode="External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7920" y="0"/>
            <a:ext cx="6400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0368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644280" y="6324480"/>
            <a:ext cx="19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006, Prentice Ha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12_00CO" descr=""/>
          <p:cNvPicPr/>
          <p:nvPr/>
        </p:nvPicPr>
        <p:blipFill>
          <a:blip r:embed="rId1"/>
          <a:stretch/>
        </p:blipFill>
        <p:spPr>
          <a:xfrm>
            <a:off x="3809880" y="-152280"/>
            <a:ext cx="5291280" cy="72388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358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Chapter 12</a:t>
            </a: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Liquids</a:t>
            </a: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and</a:t>
            </a: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Solids</a:t>
            </a:r>
            <a:endParaRPr b="0" lang="en-US" sz="4400" spc="-1" strike="noStrike">
              <a:solidFill>
                <a:srgbClr val="99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ff"/>
                </a:solidFill>
                <a:latin typeface="Times New Roman"/>
              </a:rPr>
              <a:t>Gases</a:t>
            </a:r>
            <a:endParaRPr b="0" lang="en-US" sz="4400" spc="-1" strike="noStrike">
              <a:solidFill>
                <a:srgbClr val="9900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cause there is a lot of empty space, the particles can be squeezed closer together – therefore gases are compres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cause the particles are not held in close contact and are moving freely, gases expand to fill and take the shape of their container, and will 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Compressibility%20of%20states" descr=""/>
          <p:cNvPicPr/>
          <p:nvPr/>
        </p:nvPicPr>
        <p:blipFill>
          <a:blip r:embed="rId1"/>
          <a:stretch/>
        </p:blipFill>
        <p:spPr>
          <a:xfrm>
            <a:off x="5105520" y="3962520"/>
            <a:ext cx="2977920" cy="2336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9503-B33C-4367-9529-8515A1ACCB80}" type="slidenum">
              <a:t>10</a:t>
            </a:fld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ff"/>
                </a:solidFill>
                <a:latin typeface="Times New Roman"/>
              </a:rPr>
              <a:t>Liquids</a:t>
            </a:r>
            <a:endParaRPr b="0" lang="en-US" sz="4400" spc="-1" strike="noStrike">
              <a:solidFill>
                <a:srgbClr val="9900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6248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articles in a liquid are closely packed, but they have some ability to move arou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lose packing results in liquids being incompressi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the ability of the particles to move allows liquids to take the shape of their container and to flow – however they don’t have enough freedom to escape and expand to fill the contai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12_02" descr=""/>
          <p:cNvPicPr/>
          <p:nvPr/>
        </p:nvPicPr>
        <p:blipFill>
          <a:blip r:embed="rId1"/>
          <a:stretch/>
        </p:blipFill>
        <p:spPr>
          <a:xfrm>
            <a:off x="6629400" y="1752480"/>
            <a:ext cx="2216160" cy="365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325E-99A8-4DD0-8FAF-440C9B963784}" type="slidenum">
              <a:t>11</a:t>
            </a:fld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ff"/>
                </a:solidFill>
                <a:latin typeface="Times New Roman"/>
              </a:rPr>
              <a:t>Solids</a:t>
            </a:r>
            <a:endParaRPr b="0" lang="en-US" sz="4400" spc="-1" strike="noStrike">
              <a:solidFill>
                <a:srgbClr val="9900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articles in a solid are packed close together and are fixed in pos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ough they are vibra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lose packing of the particles results in solids being incompres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inability of the particles to move around results in solids retaining their shape and volume when placed in a new container; and prevents the particles from flow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5D16-FBB1-423B-B661-3BB51AAE8AB4}" type="slidenum">
              <a:t>12</a:t>
            </a:fld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ff"/>
                </a:solidFill>
                <a:latin typeface="Times New Roman"/>
              </a:rPr>
              <a:t>Solids</a:t>
            </a:r>
            <a:endParaRPr b="0" lang="en-US" sz="4400" spc="-1" strike="noStrike">
              <a:solidFill>
                <a:srgbClr val="9900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6172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solids have their particles arranged in an orderly geometric pattern – we call these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rystalline sol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lt and diam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solids have particles that do not show a regular geometric pattern over a long range – we call these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morphous sol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stic and gl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cystalline%20solid" descr=""/>
          <p:cNvPicPr/>
          <p:nvPr/>
        </p:nvPicPr>
        <p:blipFill>
          <a:blip r:embed="rId1"/>
          <a:stretch/>
        </p:blipFill>
        <p:spPr>
          <a:xfrm>
            <a:off x="6515280" y="1523880"/>
            <a:ext cx="2628720" cy="2248200"/>
          </a:xfrm>
          <a:prstGeom prst="rect">
            <a:avLst/>
          </a:prstGeom>
          <a:ln w="0">
            <a:noFill/>
          </a:ln>
        </p:spPr>
      </p:pic>
      <p:pic>
        <p:nvPicPr>
          <p:cNvPr id="77" name="amorphous%20solid" descr=""/>
          <p:cNvPicPr/>
          <p:nvPr/>
        </p:nvPicPr>
        <p:blipFill>
          <a:blip r:embed="rId2"/>
          <a:stretch/>
        </p:blipFill>
        <p:spPr>
          <a:xfrm>
            <a:off x="6629400" y="4267080"/>
            <a:ext cx="2514600" cy="187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1025-B112-4E70-969B-1D6C388E4346}" type="slidenum">
              <a:t>13</a:t>
            </a:fld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ff"/>
                </a:solidFill>
                <a:latin typeface="Times New Roman"/>
              </a:rPr>
              <a:t>Why is Sugar a Solid But</a:t>
            </a:r>
            <a:br>
              <a:rPr sz="4400"/>
            </a:br>
            <a:r>
              <a:rPr b="0" lang="en-US" sz="4400" spc="-1" strike="noStrike">
                <a:solidFill>
                  <a:srgbClr val="9900ff"/>
                </a:solidFill>
                <a:latin typeface="Times New Roman"/>
              </a:rPr>
              <a:t>Water is a Liquid?</a:t>
            </a:r>
            <a:endParaRPr b="0" lang="en-US" sz="4400" spc="-1" strike="noStrike">
              <a:solidFill>
                <a:srgbClr val="9900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tate a material exists in depends on the attraction between molecules and their ability to overcome the attr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ttractive forces between ions or molecules depends on their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ttractions are electrosta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end on shape, polarity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bility of the molecules to overcome the attraction depends on the amount of kinetic energy they poss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ACD1-4C9D-4D86-921F-A37F4D532B5C}" type="slidenum">
              <a:t>14</a:t>
            </a:fld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ff"/>
                </a:solidFill>
                <a:latin typeface="Times New Roman"/>
              </a:rPr>
              <a:t>Properties of Liquids</a:t>
            </a:r>
            <a:br>
              <a:rPr sz="4400"/>
            </a:br>
            <a:r>
              <a:rPr b="0" lang="en-US" sz="4400" spc="-1" strike="noStrike">
                <a:solidFill>
                  <a:srgbClr val="9900ff"/>
                </a:solidFill>
                <a:latin typeface="Times New Roman"/>
              </a:rPr>
              <a:t>Viscosity</a:t>
            </a:r>
            <a:endParaRPr b="0" lang="en-US" sz="4400" spc="-1" strike="noStrike">
              <a:solidFill>
                <a:srgbClr val="9900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5943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liquids flow more easily than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esistance of a liquid to flow we call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visco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r the attractive forces between the molecules = larger the visco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so, molecules whose shape is not round will have a larger visco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12_07" descr=""/>
          <p:cNvPicPr/>
          <p:nvPr/>
        </p:nvPicPr>
        <p:blipFill>
          <a:blip r:embed="rId1"/>
          <a:stretch/>
        </p:blipFill>
        <p:spPr>
          <a:xfrm>
            <a:off x="6248520" y="2666880"/>
            <a:ext cx="2733480" cy="2162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5487-C8D2-418F-BEA4-C80980CDD9F4}" type="slidenum">
              <a:t>15</a:t>
            </a:fld>
          </a:p>
        </p:txBody>
      </p:sp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ff"/>
                </a:solidFill>
                <a:latin typeface="Times New Roman"/>
              </a:rPr>
              <a:t>Properties of Liquids</a:t>
            </a:r>
            <a:br>
              <a:rPr sz="4400"/>
            </a:br>
            <a:r>
              <a:rPr b="0" lang="en-US" sz="4400" spc="-1" strike="noStrike">
                <a:solidFill>
                  <a:srgbClr val="9900ff"/>
                </a:solidFill>
                <a:latin typeface="Times New Roman"/>
              </a:rPr>
              <a:t>Surface Tension</a:t>
            </a:r>
            <a:endParaRPr b="0" lang="en-US" sz="4400" spc="-1" strike="noStrike">
              <a:solidFill>
                <a:srgbClr val="9900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quids tend to minimize their surface – a phenomenon we call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urface ten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tendency causes liquids to have a surface that resists pene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12_06" descr=""/>
          <p:cNvPicPr/>
          <p:nvPr/>
        </p:nvPicPr>
        <p:blipFill>
          <a:blip r:embed="rId1"/>
          <a:stretch/>
        </p:blipFill>
        <p:spPr>
          <a:xfrm>
            <a:off x="5486400" y="2590920"/>
            <a:ext cx="3486240" cy="2428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C47B-82D5-4F5F-BA2D-DD6666029A3F}" type="slidenum">
              <a:t>16</a:t>
            </a:fld>
          </a:p>
        </p:txBody>
      </p:sp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ff"/>
                </a:solidFill>
                <a:latin typeface="Times New Roman"/>
              </a:rPr>
              <a:t>Surface Tension</a:t>
            </a:r>
            <a:endParaRPr b="0" lang="en-US" sz="4400" spc="-1" strike="noStrike">
              <a:solidFill>
                <a:srgbClr val="9900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6095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lecules in the interior of a liquid experience attractions to surrounding molecules in all dire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molecules on the surface experience an imbalance in attractions, effectively pulling them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minimize this imbalance and maximize attraction, liquids try to minimize the number of molecules on the exposed surface by minimizing their surface a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onger attractive forces between the molecules = larger surface te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12_05" descr=""/>
          <p:cNvPicPr/>
          <p:nvPr/>
        </p:nvPicPr>
        <p:blipFill>
          <a:blip r:embed="rId1"/>
          <a:stretch/>
        </p:blipFill>
        <p:spPr>
          <a:xfrm>
            <a:off x="6095880" y="1219320"/>
            <a:ext cx="2743200" cy="2438280"/>
          </a:xfrm>
          <a:prstGeom prst="rect">
            <a:avLst/>
          </a:prstGeom>
          <a:ln w="0">
            <a:noFill/>
          </a:ln>
        </p:spPr>
      </p:pic>
      <p:pic>
        <p:nvPicPr>
          <p:cNvPr id="89" name="12_09" descr=""/>
          <p:cNvPicPr/>
          <p:nvPr/>
        </p:nvPicPr>
        <p:blipFill>
          <a:blip r:embed="rId2"/>
          <a:srcRect l="11115" t="0" r="19449" b="0"/>
          <a:stretch/>
        </p:blipFill>
        <p:spPr>
          <a:xfrm>
            <a:off x="6324480" y="4038480"/>
            <a:ext cx="2514600" cy="2162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48DA-E1B0-44E6-BB92-EDC07718400A}" type="slidenum">
              <a:t>17</a:t>
            </a:fld>
          </a:p>
        </p:txBody>
      </p:sp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ff"/>
                </a:solidFill>
                <a:latin typeface="Times New Roman"/>
              </a:rPr>
              <a:t>Forces of Attraction </a:t>
            </a:r>
            <a:br>
              <a:rPr sz="4400"/>
            </a:br>
            <a:r>
              <a:rPr b="0" lang="en-US" sz="4400" spc="-1" strike="noStrike">
                <a:solidFill>
                  <a:srgbClr val="9900ff"/>
                </a:solidFill>
                <a:latin typeface="Times New Roman"/>
              </a:rPr>
              <a:t>within a Liquid</a:t>
            </a:r>
            <a:endParaRPr b="0" lang="en-US" sz="4400" spc="-1" strike="noStrike">
              <a:solidFill>
                <a:srgbClr val="9900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ohesive Forc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forces that try to hold the liquid molecules to each o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rface ten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dhesive Forc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forces that bind a substance to a su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pillary 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nisc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6FC6-71ED-4EEE-B639-6012624D6486}" type="slidenum">
              <a:t>18</a:t>
            </a:fld>
          </a:p>
        </p:txBody>
      </p:sp>
    </p:spTree>
  </p:cSld>
  <p:transition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ff"/>
                </a:solidFill>
                <a:latin typeface="Times New Roman"/>
              </a:rPr>
              <a:t>Escaping from the Surface</a:t>
            </a:r>
            <a:endParaRPr b="0" lang="en-US" sz="4400" spc="-1" strike="noStrike">
              <a:solidFill>
                <a:srgbClr val="9900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2280" y="1447560"/>
            <a:ext cx="5943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rocess of molecules of a liquid breaking free from the surface is called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evapo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so known as vapor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aporation is a physical change in which a substance is converted from its liquid form to its gaseous 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gaseous form is called a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vap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12_12" descr=""/>
          <p:cNvPicPr/>
          <p:nvPr/>
        </p:nvPicPr>
        <p:blipFill>
          <a:blip r:embed="rId1"/>
          <a:stretch/>
        </p:blipFill>
        <p:spPr>
          <a:xfrm>
            <a:off x="6248520" y="1981080"/>
            <a:ext cx="2584440" cy="3962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4382-C8B7-4C5E-BDF2-0A5F7A439D34}" type="slidenum">
              <a:t>19</a:t>
            </a:fld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ff"/>
                </a:solidFill>
                <a:latin typeface="Times New Roman"/>
              </a:rPr>
              <a:t>Interactions Between Molecules</a:t>
            </a:r>
            <a:endParaRPr b="0" lang="en-US" sz="4400" spc="-1" strike="noStrike">
              <a:solidFill>
                <a:srgbClr val="9900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of the phenomena we observe are related to interactions between molecules that do not involve a chemical re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r taste and smell organs work because molecules in the thing you are sensing interact with the receptor molecule sites in your tongue and n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is chapter we will examine the physical interactions between molecules and the factors that effect and influence th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8C9C-1DB6-44F2-89F5-740B17B32D17}" type="slidenum">
              <a:t>2</a:t>
            </a:fld>
          </a:p>
        </p:txBody>
      </p:sp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ff"/>
                </a:solidFill>
                <a:latin typeface="Times New Roman"/>
              </a:rPr>
              <a:t>Evaporation</a:t>
            </a:r>
            <a:endParaRPr b="0" lang="en-US" sz="4400" spc="-1" strike="noStrike">
              <a:solidFill>
                <a:srgbClr val="9900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 time, liquids evaporate – the molecules of the liquid mix with and dissolve in the a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vaporation happens at the su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lecules on the surface experience a smaller net attractive force than molecules in the interi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 all the surface molecules do not escape at once, only the ones with sufficient kinetic energy to overcome the attractions will esca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C647-424C-4DCB-A126-396DD8E500EF}" type="slidenum">
              <a:t>20</a:t>
            </a:fld>
          </a:p>
        </p:txBody>
      </p:sp>
    </p:spTree>
  </p:cSld>
  <p:transition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ff"/>
                </a:solidFill>
                <a:latin typeface="Times New Roman"/>
              </a:rPr>
              <a:t>Factors Effecting the </a:t>
            </a:r>
            <a:br>
              <a:rPr sz="4400"/>
            </a:br>
            <a:r>
              <a:rPr b="0" lang="en-US" sz="4400" spc="-1" strike="noStrike">
                <a:solidFill>
                  <a:srgbClr val="9900ff"/>
                </a:solidFill>
                <a:latin typeface="Times New Roman"/>
              </a:rPr>
              <a:t>Rate of Evaporation</a:t>
            </a:r>
            <a:endParaRPr b="0" lang="en-US" sz="4400" spc="-1" strike="noStrike">
              <a:solidFill>
                <a:srgbClr val="9900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reasing the surface area increases the rate of evapo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reasing the temperature increases the rate of evapo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aker attractive forces between the molecules = faster rate of evapo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quids that evaporate quickly are called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volati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iquids, while those that do not are called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nonvolat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442D-EC8B-4625-8AA1-8E2893AFD2D2}" type="slidenum">
              <a:t>21</a:t>
            </a:fld>
          </a:p>
        </p:txBody>
      </p:sp>
    </p:spTree>
  </p:cSld>
  <p:transition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ff"/>
                </a:solidFill>
                <a:latin typeface="Times New Roman"/>
              </a:rPr>
              <a:t>Escaping the Surface</a:t>
            </a:r>
            <a:endParaRPr b="0" lang="en-US" sz="4400" spc="-1" strike="noStrike">
              <a:solidFill>
                <a:srgbClr val="9900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verag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kinetic energy is directly proportional to the kelvin tempera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not all molecules in the sample have the same kinetic ener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ose molecules on the surface that have enough kinetic energy will esca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ising the temperature increases the number of molecules with sufficient energy to esca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12_11" descr=""/>
          <p:cNvPicPr/>
          <p:nvPr/>
        </p:nvPicPr>
        <p:blipFill>
          <a:blip r:embed="rId1"/>
          <a:stretch/>
        </p:blipFill>
        <p:spPr>
          <a:xfrm>
            <a:off x="2819520" y="4343400"/>
            <a:ext cx="3962160" cy="2362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3267-0804-45B8-AF8D-662AD65A4966}" type="slidenum">
              <a:t>22</a:t>
            </a:fld>
          </a:p>
        </p:txBody>
      </p:sp>
    </p:spTree>
  </p:cSld>
  <p:transition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ff"/>
                </a:solidFill>
                <a:latin typeface="Times New Roman"/>
              </a:rPr>
              <a:t>Escaping the Surface</a:t>
            </a:r>
            <a:endParaRPr b="0" lang="en-US" sz="4400" spc="-1" strike="noStrike">
              <a:solidFill>
                <a:srgbClr val="9900f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nce the higher energy molecules from the liquid are leaving, the total kinetic energy of the liquid decreases, and the liquid c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remaining molecules redistribute their energies, generating more high energy molec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result is the liquid continues to evaporat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F91E-1923-4CDF-9B95-7270B6236D5D}" type="slidenum">
              <a:t>23</a:t>
            </a:fld>
          </a:p>
        </p:txBody>
      </p:sp>
    </p:spTree>
  </p:cSld>
  <p:transition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ff"/>
                </a:solidFill>
                <a:latin typeface="Times New Roman"/>
              </a:rPr>
              <a:t>Reconnecting with the Surface</a:t>
            </a:r>
            <a:endParaRPr b="0" lang="en-US" sz="4400" spc="-1" strike="noStrike">
              <a:solidFill>
                <a:srgbClr val="9900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a liquid evaporates in a closed container, the vapor molecules are trapp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vapor molecules may eventually bump into and stick to the surface of the container or get recaptured by the liquid – this process is called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ondens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hysical change in which a gaseous form is converted to a liquid fo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095B-FD54-4E65-B2B8-70EB2CAB51B9}" type="slidenum">
              <a:t>24</a:t>
            </a:fld>
          </a:p>
        </p:txBody>
      </p:sp>
    </p:spTree>
  </p:cSld>
  <p:transition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ff"/>
                </a:solidFill>
                <a:latin typeface="Times New Roman"/>
              </a:rPr>
              <a:t>Dynamic Equilibrium</a:t>
            </a:r>
            <a:endParaRPr b="0" lang="en-US" sz="4400" spc="-1" strike="noStrike">
              <a:solidFill>
                <a:srgbClr val="9900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aporation and condensation are opposite proce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entually, the rate of evaporation and condensation in the container will be the s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posite processes that occur at the same rate in the same system are said to be in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ynamic equilibriu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009F-F469-47A9-BD99-D33E2516B890}" type="slidenum">
              <a:t>25</a:t>
            </a:fld>
          </a:p>
        </p:txBody>
      </p:sp>
    </p:spTree>
  </p:cSld>
  <p:transition>
    <p:fade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Evaporation and Condensation</a:t>
            </a:r>
            <a:endParaRPr b="0" lang="en-US" sz="4400" spc="-1" strike="noStrike">
              <a:solidFill>
                <a:srgbClr val="9900ff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1828800" y="1523880"/>
            <a:ext cx="5204160" cy="4592520"/>
            <a:chOff x="1828800" y="1523880"/>
            <a:chExt cx="5204160" cy="4592520"/>
          </a:xfrm>
        </p:grpSpPr>
        <p:pic>
          <p:nvPicPr>
            <p:cNvPr id="110" name="12_13a" descr=""/>
            <p:cNvPicPr/>
            <p:nvPr/>
          </p:nvPicPr>
          <p:blipFill>
            <a:blip r:embed="rId2"/>
            <a:stretch/>
          </p:blipFill>
          <p:spPr>
            <a:xfrm>
              <a:off x="1828800" y="1523880"/>
              <a:ext cx="2431800" cy="459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4173120" y="2174760"/>
              <a:ext cx="285984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en water is ju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dded to the flask a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t is capped, all th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ater molecules a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n the liquid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1828800" y="1600200"/>
            <a:ext cx="4992120" cy="4592520"/>
            <a:chOff x="1828800" y="1600200"/>
            <a:chExt cx="4992120" cy="4592520"/>
          </a:xfrm>
        </p:grpSpPr>
        <p:pic>
          <p:nvPicPr>
            <p:cNvPr id="113" name="12_13b" descr=""/>
            <p:cNvPicPr/>
            <p:nvPr/>
          </p:nvPicPr>
          <p:blipFill>
            <a:blip r:embed="rId3"/>
            <a:stretch/>
          </p:blipFill>
          <p:spPr>
            <a:xfrm>
              <a:off x="1828800" y="1600200"/>
              <a:ext cx="2514600" cy="459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4340520" y="2209680"/>
              <a:ext cx="2480400" cy="265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hortly, the wat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tarts to evaporate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nitially the spe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f evaporation 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uch faster than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eed of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ndens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1828800" y="1600200"/>
            <a:ext cx="5288760" cy="4592520"/>
            <a:chOff x="1828800" y="1600200"/>
            <a:chExt cx="5288760" cy="4592520"/>
          </a:xfrm>
        </p:grpSpPr>
        <p:pic>
          <p:nvPicPr>
            <p:cNvPr id="116" name="12_13c" descr=""/>
            <p:cNvPicPr/>
            <p:nvPr/>
          </p:nvPicPr>
          <p:blipFill>
            <a:blip r:embed="rId4"/>
            <a:stretch/>
          </p:blipFill>
          <p:spPr>
            <a:xfrm>
              <a:off x="1828800" y="1600200"/>
              <a:ext cx="2514600" cy="459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4629600" y="2251080"/>
              <a:ext cx="2487960" cy="265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ventually th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ndensation a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vaporation reac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he same speed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he air in the flas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s now saturat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ith water vapor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EBDC-1C26-4137-8AD7-1BFC72A7561B}" type="slidenum">
              <a:t>26</a:t>
            </a:fld>
          </a:p>
        </p:txBody>
      </p:sp>
    </p:spTree>
  </p:cSld>
  <p:transition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Vapor Pressure</a:t>
            </a:r>
            <a:endParaRPr b="0" lang="en-US" sz="4400" spc="-1" strike="noStrike">
              <a:solidFill>
                <a:srgbClr val="9900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ce equilibrium is reached, from that time forward, the amount of vapor in the container will remain the s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long as you don’t change the condi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artial pressure exerted by the vapor is called the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vapor pres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vapor pressure of a liquid depends on the temperature and strength of intermolecular attr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1974-C179-4740-8E5D-FFA622687003}" type="slidenum">
              <a:t>27</a:t>
            </a:fld>
          </a:p>
        </p:txBody>
      </p:sp>
    </p:spTree>
  </p:cSld>
  <p:transition>
    <p:fade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ff"/>
                </a:solidFill>
                <a:latin typeface="Times New Roman"/>
              </a:rPr>
              <a:t>Boiling</a:t>
            </a:r>
            <a:endParaRPr b="0" lang="en-US" sz="4400" spc="-1" strike="noStrike">
              <a:solidFill>
                <a:srgbClr val="9900ff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5943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an open container, as you heat a liquid the average kinetic energy of the molecules increases, giving more molecules enough energy to escape the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e rate of evaporation incre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tually the temperature is high enough for molecules in the interior of the liquid to escape – a phenomenon we call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oi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12_14" descr=""/>
          <p:cNvPicPr/>
          <p:nvPr/>
        </p:nvPicPr>
        <p:blipFill>
          <a:blip r:embed="rId1"/>
          <a:stretch/>
        </p:blipFill>
        <p:spPr>
          <a:xfrm>
            <a:off x="5943600" y="2971800"/>
            <a:ext cx="2973240" cy="274320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6477120" y="838080"/>
            <a:ext cx="1676160" cy="1981440"/>
            <a:chOff x="6477120" y="838080"/>
            <a:chExt cx="1676160" cy="1981440"/>
          </a:xfrm>
        </p:grpSpPr>
        <p:sp>
          <p:nvSpPr>
            <p:cNvPr id="124" name=""/>
            <p:cNvSpPr/>
            <p:nvPr/>
          </p:nvSpPr>
          <p:spPr>
            <a:xfrm>
              <a:off x="6477120" y="838080"/>
              <a:ext cx="1676160" cy="1981440"/>
            </a:xfrm>
            <a:prstGeom prst="wedgeRectCallout">
              <a:avLst>
                <a:gd name="adj1" fmla="val 1324"/>
                <a:gd name="adj2" fmla="val 152162"/>
              </a:avLst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5" name="12_14insert" descr=""/>
            <p:cNvPicPr/>
            <p:nvPr/>
          </p:nvPicPr>
          <p:blipFill>
            <a:blip r:embed="rId2"/>
            <a:stretch/>
          </p:blipFill>
          <p:spPr>
            <a:xfrm>
              <a:off x="6477120" y="851040"/>
              <a:ext cx="1652400" cy="194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6BB8-95B4-4E0F-A17C-7AB92F7C994B}" type="slidenum">
              <a:t>28</a:t>
            </a:fld>
          </a:p>
        </p:txBody>
      </p:sp>
    </p:spTree>
  </p:cSld>
  <p:transition>
    <p:fade thruBlk="true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ff"/>
                </a:solidFill>
                <a:latin typeface="Times New Roman"/>
              </a:rPr>
              <a:t>Boiling Point</a:t>
            </a:r>
            <a:endParaRPr b="0" lang="en-US" sz="4400" spc="-1" strike="noStrike">
              <a:solidFill>
                <a:srgbClr val="9900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9250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emperature at which the vapor pressure of the liquid is the same as the atmospheric pressure is called the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boiling po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normal boiling point is the temperature required for the vapor pressure of the liquid to be equal to 1 at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boiling point depends on what the atmospheric pressure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temperature of boiling water on the top of a mountain will be cooler than boiling water at sea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6EEB-0F51-4116-AF06-6C8D630FA26C}" type="slidenum">
              <a:t>29</a:t>
            </a:fld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The Physical States of Matter</a:t>
            </a:r>
            <a:endParaRPr b="0" lang="en-US" sz="4400" spc="-1" strike="noStrike">
              <a:solidFill>
                <a:srgbClr val="9900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tter can be classified as solid, liquid or gas based on what properties it exhibi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3200400"/>
          <a:ext cx="8231040" cy="21891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3200400"/>
                    <a:ext cx="8231040" cy="21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914760" y="5257800"/>
            <a:ext cx="727164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4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xed = keeps shape when placed in a container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finite = takes the shape of the contai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56FF-FC78-45BD-8FD8-FBE67FA58D04}" type="slidenum">
              <a:t>3</a:t>
            </a:fld>
          </a:p>
        </p:txBody>
      </p:sp>
    </p:spTree>
  </p:cSld>
  <p:transition>
    <p:fade thruBlk="true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12_15" descr=""/>
          <p:cNvPicPr/>
          <p:nvPr/>
        </p:nvPicPr>
        <p:blipFill>
          <a:blip r:embed="rId1"/>
          <a:stretch/>
        </p:blipFill>
        <p:spPr>
          <a:xfrm>
            <a:off x="5562720" y="2249640"/>
            <a:ext cx="3352680" cy="24606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ff"/>
                </a:solidFill>
                <a:latin typeface="Times New Roman"/>
              </a:rPr>
              <a:t>Temperature and Boiling</a:t>
            </a:r>
            <a:endParaRPr b="0" lang="en-US" sz="4400" spc="-1" strike="noStrike">
              <a:solidFill>
                <a:srgbClr val="9900f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5486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you heat a liquid, its temperature increases until it reaches the boiling po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ce the liquid starts to boil, the temperature remains the same until it all turns to a g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the energy from the heat source is being used to overcome the attractive forces in the liqu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CA7C-8968-4202-B0B0-3A9B2A8148A9}" type="slidenum">
              <a:t>30</a:t>
            </a:fld>
          </a:p>
        </p:txBody>
      </p:sp>
    </p:spTree>
  </p:cSld>
  <p:transition>
    <p:fade thruBlk="true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ff"/>
                </a:solidFill>
                <a:latin typeface="Times New Roman"/>
              </a:rPr>
              <a:t>Energetics of Evaporation</a:t>
            </a:r>
            <a:endParaRPr b="0" lang="en-US" sz="4400" spc="-1" strike="noStrike">
              <a:solidFill>
                <a:srgbClr val="9900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3055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it loses the high energy molecules through evaporation, the liquid co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 the liquid absorbs heat from its surroundings to raise its temperature back to the same as the surround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esses in which heat flows into a system from the surroundings are said to be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endotherm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heat flows out of the surroundings, it causes the surroundings to c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alcohol evaporates off your skin, it causes your skin to c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976D-7F1A-4632-89BA-C026AA85F640}" type="slidenum">
              <a:t>31</a:t>
            </a:fld>
          </a:p>
        </p:txBody>
      </p:sp>
    </p:spTree>
  </p:cSld>
  <p:transition>
    <p:fade thruBlk="true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ff"/>
                </a:solidFill>
                <a:latin typeface="Times New Roman"/>
              </a:rPr>
              <a:t>Energetics of Condensation</a:t>
            </a:r>
            <a:endParaRPr b="0" lang="en-US" sz="4400" spc="-1" strike="noStrike">
              <a:solidFill>
                <a:srgbClr val="9900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3055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 it gains the high energy molecules through condensation, the liquid wa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 the liquid releases heat to its surroundings to reduce its temperature back to the same as the surround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sses in which heat flows out of a system into the surroundings are said to be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exotherm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 heat flows into the surroundings, it causes the surroundings to wa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2A60-0090-41BF-869F-319CDD16E3A7}" type="slidenum">
              <a:t>32</a:t>
            </a:fld>
          </a:p>
        </p:txBody>
      </p:sp>
    </p:spTree>
  </p:cSld>
  <p:transition>
    <p:fade thruBlk="true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ff"/>
                </a:solidFill>
                <a:latin typeface="Times New Roman"/>
              </a:rPr>
              <a:t>Heat of Vaporization</a:t>
            </a:r>
            <a:endParaRPr b="0" lang="en-US" sz="4400" spc="-1" strike="noStrike">
              <a:solidFill>
                <a:srgbClr val="9900ff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3818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mount of heat needed to vaporize one mole of a liquid is called the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heat of vapor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v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requires 40.7 kJ of heat to vaporize one mole of water at 100°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otherm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va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epends on the initial tempera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ce condensation is the opposite process to evaporation, the same amount of energy is transferred but in the opposite dir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on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-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v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58E0-E5DF-4161-985C-7A171FE75AF0}" type="slidenum">
              <a:t>33</a:t>
            </a:fld>
          </a:p>
        </p:txBody>
      </p:sp>
    </p:spTree>
  </p:cSld>
  <p:transition>
    <p:fade thruBlk="true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ff"/>
                </a:solidFill>
                <a:latin typeface="Times New Roman"/>
              </a:rPr>
              <a:t>Heats of Vaporization of Liquids</a:t>
            </a:r>
            <a:br>
              <a:rPr sz="3600"/>
            </a:br>
            <a:r>
              <a:rPr b="0" lang="en-US" sz="3600" spc="-1" strike="noStrike">
                <a:solidFill>
                  <a:srgbClr val="9900ff"/>
                </a:solidFill>
                <a:latin typeface="Times New Roman"/>
              </a:rPr>
              <a:t>at their Boiling Points and at 25°C</a:t>
            </a:r>
            <a:endParaRPr b="0" lang="en-US" sz="3600" spc="-1" strike="noStrike">
              <a:solidFill>
                <a:srgbClr val="9900ff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380880" y="1397160"/>
          <a:ext cx="8534520" cy="4722480"/>
        </p:xfrm>
        <a:graphic>
          <a:graphicData uri="http://schemas.openxmlformats.org/drawingml/2006/table">
            <a:tbl>
              <a:tblPr/>
              <a:tblGrid>
                <a:gridCol w="1706760"/>
                <a:gridCol w="1646280"/>
                <a:gridCol w="1600200"/>
                <a:gridCol w="1874880"/>
                <a:gridCol w="1706400"/>
              </a:tblGrid>
              <a:tr h="1859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qui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mic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ormul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rmal Boiling Point, °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vap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at Boiling Point, (kJ/mol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vap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at 25°C, (kJ/mol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t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.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sopropyl alcoh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.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eto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6.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.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ethyl eth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.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5EEB-6ED0-49C7-BF57-28F02E142037}" type="slidenum">
              <a:t>34</a:t>
            </a:fld>
          </a:p>
        </p:txBody>
      </p:sp>
    </p:spTree>
  </p:cSld>
  <p:transition>
    <p:fade thruBlk="true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1981080" y="3124080"/>
                <a:ext cx="5764320" cy="117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5</m:t>
                    </m:r>
                    <m:r>
                      <m:rPr>
                        <m:lit/>
                        <m:nor/>
                      </m:rPr>
                      <m:t xml:space="preserve"> kJ</m:t>
                    </m:r>
                    <m:r>
                      <m:t xml:space="preserve">×</m:t>
                    </m:r>
                    <m:f>
                      <m:num>
                        <m:r>
                          <m:t xml:space="preserve">1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mol 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O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 kJ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g 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O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 mol 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O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0" y="2286000"/>
            <a:ext cx="9144000" cy="457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274320" rIns="274320" tIns="13716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y the Solution Map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2742840" y="3505320"/>
            <a:ext cx="2133720" cy="609480"/>
            <a:chOff x="2742840" y="3505320"/>
            <a:chExt cx="2133720" cy="609480"/>
          </a:xfrm>
        </p:grpSpPr>
        <p:sp>
          <p:nvSpPr>
            <p:cNvPr id="142" name=""/>
            <p:cNvSpPr/>
            <p:nvPr/>
          </p:nvSpPr>
          <p:spPr>
            <a:xfrm flipH="1">
              <a:off x="2742840" y="3505320"/>
              <a:ext cx="304920" cy="3045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4571640" y="3809880"/>
              <a:ext cx="304920" cy="304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4202280" y="4343400"/>
            <a:ext cx="2508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68.626 g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202640" y="5257800"/>
            <a:ext cx="2151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68.6 g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29680" y="4952880"/>
            <a:ext cx="333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. Figs. &amp; Roun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4266720" y="3276720"/>
            <a:ext cx="2667240" cy="838080"/>
            <a:chOff x="4266720" y="3276720"/>
            <a:chExt cx="2667240" cy="838080"/>
          </a:xfrm>
        </p:grpSpPr>
        <p:sp>
          <p:nvSpPr>
            <p:cNvPr id="148" name=""/>
            <p:cNvSpPr/>
            <p:nvPr/>
          </p:nvSpPr>
          <p:spPr>
            <a:xfrm flipH="1">
              <a:off x="4266720" y="3276720"/>
              <a:ext cx="304920" cy="3045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6629040" y="3809880"/>
              <a:ext cx="304920" cy="304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038480" y="0"/>
            <a:ext cx="510552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274320" rIns="274320" tIns="13716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5 k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F: 40.7 kJ = 1 mol; 18.02 g = 1 m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: kJ → mol → 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title"/>
          </p:nvPr>
        </p:nvSpPr>
        <p:spPr>
          <a:xfrm>
            <a:off x="0" y="0"/>
            <a:ext cx="403848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274320" rIns="274320" tIns="13716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ff"/>
                </a:solidFill>
                <a:latin typeface="Times New Roman"/>
              </a:rPr>
              <a:t>Example:</a:t>
            </a:r>
            <a:br>
              <a:rPr sz="2400"/>
            </a:br>
            <a:r>
              <a:rPr b="0" lang="en-US" sz="2400" spc="-1" strike="noStrike">
                <a:solidFill>
                  <a:srgbClr val="9900ff"/>
                </a:solidFill>
                <a:latin typeface="Times New Roman"/>
              </a:rPr>
              <a:t>Calculate the amount of water in grams that can be vaporized at its boiling point with 155 kJ of heat.</a:t>
            </a:r>
            <a:endParaRPr b="0" lang="en-US" sz="2400" spc="-1" strike="noStrike">
              <a:solidFill>
                <a:srgbClr val="99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F387-2B60-4868-924C-42ED5743B9C0}" type="slidenum">
              <a:t>35</a:t>
            </a:fld>
          </a:p>
        </p:txBody>
      </p:sp>
    </p:spTree>
  </p:cSld>
  <p:transition>
    <p:fade thruBlk="true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12_16" descr=""/>
          <p:cNvPicPr/>
          <p:nvPr/>
        </p:nvPicPr>
        <p:blipFill>
          <a:blip r:embed="rId1"/>
          <a:stretch/>
        </p:blipFill>
        <p:spPr>
          <a:xfrm>
            <a:off x="5842080" y="2435400"/>
            <a:ext cx="3200400" cy="227304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ff"/>
                </a:solidFill>
                <a:latin typeface="Times New Roman"/>
              </a:rPr>
              <a:t>Temperature and Melting</a:t>
            </a:r>
            <a:endParaRPr b="0" lang="en-US" sz="4400" spc="-1" strike="noStrike">
              <a:solidFill>
                <a:srgbClr val="9900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55600" y="1294920"/>
            <a:ext cx="5562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you heat a solid, its temperature increases until it reaches the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melting po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ce the solid starts to melt, the temperature remains the same until it all turns to a liqu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the energy from the heat source is being used to overcome the attractive forces in the solid that hold them in pl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C8B0-A8F4-47CC-935D-75503D5B131C}" type="slidenum">
              <a:t>36</a:t>
            </a:fld>
          </a:p>
        </p:txBody>
      </p:sp>
    </p:spTree>
  </p:cSld>
  <p:transition>
    <p:fade thruBlk="true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ff"/>
                </a:solidFill>
                <a:latin typeface="Times New Roman"/>
              </a:rPr>
              <a:t>Energetics of Melting and Freezing</a:t>
            </a:r>
            <a:endParaRPr b="0" lang="en-US" sz="4400" spc="-1" strike="noStrike">
              <a:solidFill>
                <a:srgbClr val="9900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a solid melts, it absorbs heat from its surroundings, it is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endotherm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 heat flows out of the surroundings, it causes the surroundings to co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ice in your drink melts, it cause the liquid to c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a liquid freezes, it releases heat into its surroundings, it is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exotherm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 heat flows into the surroundings, it causes the surroundings to wa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DED5-C62D-44A2-9E3A-1E16D2DC3F6A}" type="slidenum">
              <a:t>37</a:t>
            </a:fld>
          </a:p>
        </p:txBody>
      </p:sp>
    </p:spTree>
  </p:cSld>
  <p:transition>
    <p:fade thruBlk="true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ff"/>
                </a:solidFill>
                <a:latin typeface="Times New Roman"/>
              </a:rPr>
              <a:t>Heat of Fusion</a:t>
            </a:r>
            <a:endParaRPr b="0" lang="en-US" sz="4400" spc="-1" strike="noStrike">
              <a:solidFill>
                <a:srgbClr val="9900ff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mount of heat needed to melt one mole of a solid is called the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heat of f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f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sion is an old term for heating a substance until it melts, it is not the same as nuclear fu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ce freezing is the opposite process to melting, the same amount of energy transferred is the same, but in the opposite dir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rystal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-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f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va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gt;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fu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cause vaporization requires breaking all attractive fo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B1E6-4AC9-462A-A90B-0F7025B19850}" type="slidenum">
              <a:t>38</a:t>
            </a:fld>
          </a:p>
        </p:txBody>
      </p:sp>
    </p:spTree>
  </p:cSld>
  <p:transition>
    <p:fade thruBlk="true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ff"/>
                </a:solidFill>
                <a:latin typeface="Times New Roman"/>
              </a:rPr>
              <a:t>Heats of Fusion of Several Substances</a:t>
            </a:r>
            <a:endParaRPr b="0" lang="en-US" sz="3600" spc="-1" strike="noStrike">
              <a:solidFill>
                <a:srgbClr val="9900ff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457200" y="2209680"/>
          <a:ext cx="8305920" cy="3014640"/>
        </p:xfrm>
        <a:graphic>
          <a:graphicData uri="http://schemas.openxmlformats.org/drawingml/2006/table">
            <a:tbl>
              <a:tblPr/>
              <a:tblGrid>
                <a:gridCol w="3048120"/>
                <a:gridCol w="1752480"/>
                <a:gridCol w="1752480"/>
                <a:gridCol w="1752840"/>
              </a:tblGrid>
              <a:tr h="1006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qui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mic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ormul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lting Point, °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fusion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(kJ/mol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t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0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sopropyl alcoh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89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3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eto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94.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6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ethyl eth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16.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5F46-334C-4450-A72C-FC22CD0F0DE1}" type="slidenum">
              <a:t>39</a:t>
            </a:fld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ff"/>
                </a:solidFill>
                <a:latin typeface="Times New Roman"/>
              </a:rPr>
              <a:t>Structure Determines Properties</a:t>
            </a:r>
            <a:endParaRPr b="0" lang="en-US" sz="4400" spc="-1" strike="noStrike">
              <a:solidFill>
                <a:srgbClr val="9900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toms or molecules have different structures in solids, liquid and gases, leading to different proper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states%20of%20matter" descr=""/>
          <p:cNvPicPr/>
          <p:nvPr/>
        </p:nvPicPr>
        <p:blipFill>
          <a:blip r:embed="rId1"/>
          <a:stretch/>
        </p:blipFill>
        <p:spPr>
          <a:xfrm>
            <a:off x="2095560" y="3092400"/>
            <a:ext cx="4991040" cy="314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62D0-6884-4941-BB5B-F706C86B31C2}" type="slidenum">
              <a:t>4</a:t>
            </a:fld>
          </a:p>
        </p:txBody>
      </p:sp>
    </p:spTree>
  </p:cSld>
  <p:transition>
    <p:fade thruBlk="true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Sublimation</a:t>
            </a:r>
            <a:endParaRPr b="0" lang="en-US" sz="4400" spc="-1" strike="noStrike">
              <a:solidFill>
                <a:srgbClr val="9900ff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5410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limation is a physical change in which the solid form changes directly to the gaseous 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thout going through the liquid fo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ke melting, sublimation is endotherm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dry%20ice" descr=""/>
          <p:cNvPicPr/>
          <p:nvPr/>
        </p:nvPicPr>
        <p:blipFill>
          <a:blip r:embed="rId2"/>
          <a:stretch/>
        </p:blipFill>
        <p:spPr>
          <a:xfrm>
            <a:off x="5867280" y="1905120"/>
            <a:ext cx="2793960" cy="335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8C6E-7941-4CC9-9756-C4B5F1C32AA9}" type="slidenum">
              <a:t>40</a:t>
            </a:fld>
          </a:p>
        </p:txBody>
      </p:sp>
    </p:spTree>
  </p:cSld>
  <p:transition>
    <p:fade thruBlk="true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ff"/>
                </a:solidFill>
                <a:latin typeface="Times New Roman"/>
              </a:rPr>
              <a:t>Intermolecular</a:t>
            </a:r>
            <a:br>
              <a:rPr sz="4400"/>
            </a:br>
            <a:r>
              <a:rPr b="0" lang="en-US" sz="4400" spc="-1" strike="noStrike">
                <a:solidFill>
                  <a:srgbClr val="9900ff"/>
                </a:solidFill>
                <a:latin typeface="Times New Roman"/>
              </a:rPr>
              <a:t>Attractive Forces</a:t>
            </a:r>
            <a:endParaRPr b="0" lang="en-US" sz="4400" spc="-1" strike="noStrike">
              <a:solidFill>
                <a:srgbClr val="9900ff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ff"/>
                </a:solidFill>
                <a:latin typeface="Times New Roman"/>
              </a:rPr>
              <a:t>Why are molecules attracted to each other? </a:t>
            </a:r>
            <a:endParaRPr b="0" lang="en-US" sz="4400" spc="-1" strike="noStrike">
              <a:solidFill>
                <a:srgbClr val="9900ff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44520" y="1981080"/>
            <a:ext cx="84326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molecular attractions are due to attractive forces between opposite char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ion to - 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end of polar molecule to - end of polar molec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-bonding especially str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larger charge = stronger attr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nonpolar molecules will have a temporary induced dipo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EA4E-69D5-4194-BFC0-4F55DB893EF6}" type="slidenum">
              <a:t>42</a:t>
            </a:fld>
          </a:p>
        </p:txBody>
      </p:sp>
    </p:spTree>
  </p:cSld>
  <p:transition>
    <p:fade thruBlk="true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ff"/>
                </a:solidFill>
                <a:latin typeface="Times New Roman"/>
              </a:rPr>
              <a:t>Dispersion Forces</a:t>
            </a:r>
            <a:endParaRPr b="0" lang="en-US" sz="4400" spc="-1" strike="noStrike">
              <a:solidFill>
                <a:srgbClr val="9900ff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4040" y="1371600"/>
            <a:ext cx="7086600" cy="327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known as London Forces or Induced Dipo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used by electrons on one molecule distorting the electron cloud on ano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molecules have dispersion for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1294920" y="4343400"/>
            <a:ext cx="817200" cy="1749960"/>
            <a:chOff x="1294920" y="4343400"/>
            <a:chExt cx="817200" cy="1749960"/>
          </a:xfrm>
        </p:grpSpPr>
        <p:sp>
          <p:nvSpPr>
            <p:cNvPr id="171" name=""/>
            <p:cNvSpPr/>
            <p:nvPr/>
          </p:nvSpPr>
          <p:spPr>
            <a:xfrm>
              <a:off x="1385640" y="4510080"/>
              <a:ext cx="685800" cy="1447920"/>
            </a:xfrm>
            <a:custGeom>
              <a:avLst/>
              <a:gdLst>
                <a:gd name="textAreaLeft" fmla="*/ 97560 w 685800"/>
                <a:gd name="textAreaRight" fmla="*/ 588240 w 685800"/>
                <a:gd name="textAreaTop" fmla="*/ 97560 h 1447920"/>
                <a:gd name="textAreaBottom" fmla="*/ 1350360 h 1447920"/>
              </a:gdLst>
              <a:ahLst/>
              <a:rect l="textAreaLeft" t="textAreaTop" r="textAreaRight" b="textAreaBottom"/>
              <a:pathLst>
                <a:path w="21600" h="45591">
                  <a:moveTo>
                    <a:pt x="10499" y="0"/>
                  </a:moveTo>
                  <a:arcTo wR="10499" hR="10499" stAng="16200000" swAng="-5400000"/>
                  <a:lnTo>
                    <a:pt x="0" y="35092"/>
                  </a:lnTo>
                  <a:arcTo wR="10499" hR="10499" stAng="10800000" swAng="-5400000"/>
                  <a:lnTo>
                    <a:pt x="11101" y="45591"/>
                  </a:lnTo>
                  <a:arcTo wR="10499" hR="10499" stAng="5400000" swAng="-5400000"/>
                  <a:lnTo>
                    <a:pt x="21600" y="10499"/>
                  </a:lnTo>
                  <a:arcTo wR="10499" hR="10499" stAng="0" swAng="-5400000"/>
                  <a:close/>
                </a:path>
              </a:pathLst>
            </a:custGeom>
            <a:gradFill rotWithShape="0">
              <a:gsLst>
                <a:gs pos="0">
                  <a:srgbClr val="7d0013"/>
                </a:gs>
                <a:gs pos="100000">
                  <a:srgbClr val="fc012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523520" y="5029200"/>
              <a:ext cx="3535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99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828440" y="4572000"/>
              <a:ext cx="2836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99ff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371240" y="4572000"/>
              <a:ext cx="2836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99ff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828440" y="4952880"/>
              <a:ext cx="2836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99ff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294920" y="4876920"/>
              <a:ext cx="2836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99ff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294920" y="5257800"/>
              <a:ext cx="2836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99ff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828440" y="5257800"/>
              <a:ext cx="2836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99ff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371240" y="5562720"/>
              <a:ext cx="2836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99ff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828440" y="5562720"/>
              <a:ext cx="2836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99ff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599840" y="5638680"/>
              <a:ext cx="2836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99ff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599840" y="4343400"/>
              <a:ext cx="2836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99ff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4938480" y="4397400"/>
            <a:ext cx="3327120" cy="1643760"/>
            <a:chOff x="4938480" y="4397400"/>
            <a:chExt cx="3327120" cy="1643760"/>
          </a:xfrm>
        </p:grpSpPr>
        <p:grpSp>
          <p:nvGrpSpPr>
            <p:cNvPr id="184" name=""/>
            <p:cNvGrpSpPr/>
            <p:nvPr/>
          </p:nvGrpSpPr>
          <p:grpSpPr>
            <a:xfrm>
              <a:off x="4938480" y="4443480"/>
              <a:ext cx="1540080" cy="1597680"/>
              <a:chOff x="4938480" y="4443480"/>
              <a:chExt cx="1540080" cy="1597680"/>
            </a:xfrm>
          </p:grpSpPr>
          <p:grpSp>
            <p:nvGrpSpPr>
              <p:cNvPr id="185" name=""/>
              <p:cNvGrpSpPr/>
              <p:nvPr/>
            </p:nvGrpSpPr>
            <p:grpSpPr>
              <a:xfrm>
                <a:off x="5258160" y="4611600"/>
                <a:ext cx="1220400" cy="1371240"/>
                <a:chOff x="5258160" y="4611600"/>
                <a:chExt cx="1220400" cy="1371240"/>
              </a:xfrm>
            </p:grpSpPr>
            <p:grpSp>
              <p:nvGrpSpPr>
                <p:cNvPr id="186" name=""/>
                <p:cNvGrpSpPr/>
                <p:nvPr/>
              </p:nvGrpSpPr>
              <p:grpSpPr>
                <a:xfrm>
                  <a:off x="5258160" y="4611600"/>
                  <a:ext cx="1220400" cy="1371240"/>
                  <a:chOff x="5258160" y="4611600"/>
                  <a:chExt cx="1220400" cy="1371240"/>
                </a:xfrm>
              </p:grpSpPr>
              <p:sp>
                <p:nvSpPr>
                  <p:cNvPr id="187" name=""/>
                  <p:cNvSpPr/>
                  <p:nvPr/>
                </p:nvSpPr>
                <p:spPr>
                  <a:xfrm rot="10800000">
                    <a:off x="5258160" y="4611600"/>
                    <a:ext cx="1218960" cy="13712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772" y="0"/>
                        </a:moveTo>
                        <a:arcTo wR="10800" hR="10800" stAng="-5408952" swAng="5408952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772" y="0"/>
                        </a:moveTo>
                        <a:arcTo wR="10800" hR="10800" stAng="-5408952" swAng="5408952"/>
                      </a:path>
                    </a:pathLst>
                  </a:custGeom>
                  <a:gradFill rotWithShape="0">
                    <a:gsLst>
                      <a:gs pos="0">
                        <a:srgbClr val="fc0128"/>
                      </a:gs>
                      <a:gs pos="100000">
                        <a:srgbClr val="c8001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8" name=""/>
                  <p:cNvSpPr/>
                  <p:nvPr/>
                </p:nvSpPr>
                <p:spPr>
                  <a:xfrm>
                    <a:off x="5259240" y="4611600"/>
                    <a:ext cx="1219320" cy="13712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0" y="10800"/>
                        </a:moveTo>
                        <a:arcTo wR="10800" hR="10800" stAng="10800000" swAng="539104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0" y="10800"/>
                        </a:moveTo>
                        <a:arcTo wR="10800" hR="10800" stAng="10800000" swAng="5391048"/>
                      </a:path>
                    </a:pathLst>
                  </a:custGeom>
                  <a:gradFill rotWithShape="0">
                    <a:gsLst>
                      <a:gs pos="0">
                        <a:srgbClr val="fc0128"/>
                      </a:gs>
                      <a:gs pos="100000">
                        <a:srgbClr val="c8001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9" name=""/>
                <p:cNvGrpSpPr/>
                <p:nvPr/>
              </p:nvGrpSpPr>
              <p:grpSpPr>
                <a:xfrm>
                  <a:off x="5487120" y="4611600"/>
                  <a:ext cx="610200" cy="1371240"/>
                  <a:chOff x="5487120" y="4611600"/>
                  <a:chExt cx="610200" cy="1371240"/>
                </a:xfrm>
              </p:grpSpPr>
              <p:sp>
                <p:nvSpPr>
                  <p:cNvPr id="190" name=""/>
                  <p:cNvSpPr/>
                  <p:nvPr/>
                </p:nvSpPr>
                <p:spPr>
                  <a:xfrm rot="10800000">
                    <a:off x="5487840" y="4611600"/>
                    <a:ext cx="609480" cy="13712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0" y="10800"/>
                        </a:moveTo>
                        <a:arcTo wR="10800" hR="10800" stAng="10800000" swAng="5382095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0" y="10800"/>
                        </a:moveTo>
                        <a:arcTo wR="10800" hR="10800" stAng="10800000" swAng="5382095"/>
                      </a:path>
                    </a:pathLst>
                  </a:custGeom>
                  <a:gradFill rotWithShape="0">
                    <a:gsLst>
                      <a:gs pos="0">
                        <a:srgbClr val="fc0128"/>
                      </a:gs>
                      <a:gs pos="100000">
                        <a:srgbClr val="c8001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" name=""/>
                  <p:cNvSpPr/>
                  <p:nvPr/>
                </p:nvSpPr>
                <p:spPr>
                  <a:xfrm>
                    <a:off x="5487120" y="4611600"/>
                    <a:ext cx="608400" cy="13712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gradFill rotWithShape="0">
                    <a:gsLst>
                      <a:gs pos="0">
                        <a:srgbClr val="fc0128"/>
                      </a:gs>
                      <a:gs pos="100000">
                        <a:srgbClr val="c8001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92" name=""/>
              <p:cNvSpPr/>
              <p:nvPr/>
            </p:nvSpPr>
            <p:spPr>
              <a:xfrm>
                <a:off x="6081480" y="5129280"/>
                <a:ext cx="3535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99ff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6005160" y="5510160"/>
                <a:ext cx="3535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99ff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6005160" y="4748040"/>
                <a:ext cx="3535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99ff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5624280" y="5052960"/>
                <a:ext cx="3535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99ff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5852880" y="4748040"/>
                <a:ext cx="28368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99ff"/>
                    </a:solidFill>
                    <a:latin typeface="Times New Roman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5928840" y="5052960"/>
                <a:ext cx="28368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99ff"/>
                    </a:solidFill>
                    <a:latin typeface="Times New Roman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5928840" y="5357880"/>
                <a:ext cx="28368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99ff"/>
                    </a:solidFill>
                    <a:latin typeface="Times New Roman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5547960" y="4443480"/>
                <a:ext cx="28368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99ff"/>
                    </a:solidFill>
                    <a:latin typeface="Times New Roman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471640" y="4748040"/>
                <a:ext cx="28368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99ff"/>
                    </a:solidFill>
                    <a:latin typeface="Times New Roman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5547960" y="5586480"/>
                <a:ext cx="28368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99ff"/>
                    </a:solidFill>
                    <a:latin typeface="Times New Roman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5395680" y="5433840"/>
                <a:ext cx="28368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99ff"/>
                    </a:solidFill>
                    <a:latin typeface="Times New Roman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5471640" y="5281560"/>
                <a:ext cx="28368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99ff"/>
                    </a:solidFill>
                    <a:latin typeface="Times New Roman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243040" y="5205240"/>
                <a:ext cx="28368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99ff"/>
                    </a:solidFill>
                    <a:latin typeface="Times New Roman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319360" y="5052960"/>
                <a:ext cx="28368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99ff"/>
                    </a:solidFill>
                    <a:latin typeface="Times New Roman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5243040" y="4824360"/>
                <a:ext cx="28368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99ff"/>
                    </a:solidFill>
                    <a:latin typeface="Times New Roman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5395680" y="4595760"/>
                <a:ext cx="28368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99ff"/>
                    </a:solidFill>
                    <a:latin typeface="Times New Roman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5167080" y="5433840"/>
                <a:ext cx="28368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99ff"/>
                    </a:solidFill>
                    <a:latin typeface="Times New Roman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4938480" y="5052960"/>
                <a:ext cx="28368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99ff"/>
                    </a:solidFill>
                    <a:latin typeface="Times New Roman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5167080" y="4519440"/>
                <a:ext cx="28368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99ff"/>
                    </a:solidFill>
                    <a:latin typeface="Times New Roman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1" name=""/>
            <p:cNvGrpSpPr/>
            <p:nvPr/>
          </p:nvGrpSpPr>
          <p:grpSpPr>
            <a:xfrm>
              <a:off x="6725880" y="4397400"/>
              <a:ext cx="1539720" cy="1597680"/>
              <a:chOff x="6725880" y="4397400"/>
              <a:chExt cx="1539720" cy="1597680"/>
            </a:xfrm>
          </p:grpSpPr>
          <p:grpSp>
            <p:nvGrpSpPr>
              <p:cNvPr id="212" name=""/>
              <p:cNvGrpSpPr/>
              <p:nvPr/>
            </p:nvGrpSpPr>
            <p:grpSpPr>
              <a:xfrm>
                <a:off x="7045560" y="4565520"/>
                <a:ext cx="1220040" cy="1371240"/>
                <a:chOff x="7045560" y="4565520"/>
                <a:chExt cx="1220040" cy="137124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7045560" y="4565520"/>
                  <a:ext cx="1220040" cy="1371240"/>
                  <a:chOff x="7045560" y="4565520"/>
                  <a:chExt cx="1220040" cy="137124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 rot="10800000">
                    <a:off x="7045560" y="4565520"/>
                    <a:ext cx="1218960" cy="13712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772" y="0"/>
                        </a:moveTo>
                        <a:arcTo wR="10800" hR="10800" stAng="-5408952" swAng="5408952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772" y="0"/>
                        </a:moveTo>
                        <a:arcTo wR="10800" hR="10800" stAng="-5408952" swAng="5408952"/>
                      </a:path>
                    </a:pathLst>
                  </a:custGeom>
                  <a:gradFill rotWithShape="0">
                    <a:gsLst>
                      <a:gs pos="0">
                        <a:srgbClr val="fc0128"/>
                      </a:gs>
                      <a:gs pos="100000">
                        <a:srgbClr val="c8001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7047000" y="4565520"/>
                    <a:ext cx="1218600" cy="13712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0" y="10800"/>
                        </a:moveTo>
                        <a:arcTo wR="10800" hR="10800" stAng="10800000" swAng="539104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0" y="10800"/>
                        </a:moveTo>
                        <a:arcTo wR="10800" hR="10800" stAng="10800000" swAng="5391048"/>
                      </a:path>
                    </a:pathLst>
                  </a:custGeom>
                  <a:gradFill rotWithShape="0">
                    <a:gsLst>
                      <a:gs pos="0">
                        <a:srgbClr val="fc0128"/>
                      </a:gs>
                      <a:gs pos="100000">
                        <a:srgbClr val="c8001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6" name=""/>
                <p:cNvGrpSpPr/>
                <p:nvPr/>
              </p:nvGrpSpPr>
              <p:grpSpPr>
                <a:xfrm>
                  <a:off x="7274160" y="4565520"/>
                  <a:ext cx="610560" cy="1371240"/>
                  <a:chOff x="7274160" y="4565520"/>
                  <a:chExt cx="610560" cy="1371240"/>
                </a:xfrm>
              </p:grpSpPr>
              <p:sp>
                <p:nvSpPr>
                  <p:cNvPr id="217" name=""/>
                  <p:cNvSpPr/>
                  <p:nvPr/>
                </p:nvSpPr>
                <p:spPr>
                  <a:xfrm rot="10800000">
                    <a:off x="7275240" y="4565520"/>
                    <a:ext cx="609480" cy="13712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0" y="10800"/>
                        </a:moveTo>
                        <a:arcTo wR="10800" hR="10800" stAng="10800000" swAng="5382095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0" y="10800"/>
                        </a:moveTo>
                        <a:arcTo wR="10800" hR="10800" stAng="10800000" swAng="5382095"/>
                      </a:path>
                    </a:pathLst>
                  </a:custGeom>
                  <a:gradFill rotWithShape="0">
                    <a:gsLst>
                      <a:gs pos="0">
                        <a:srgbClr val="fc0128"/>
                      </a:gs>
                      <a:gs pos="100000">
                        <a:srgbClr val="c8001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8" name=""/>
                  <p:cNvSpPr/>
                  <p:nvPr/>
                </p:nvSpPr>
                <p:spPr>
                  <a:xfrm>
                    <a:off x="7274160" y="4565520"/>
                    <a:ext cx="609120" cy="13712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gradFill rotWithShape="0">
                    <a:gsLst>
                      <a:gs pos="0">
                        <a:srgbClr val="fc0128"/>
                      </a:gs>
                      <a:gs pos="100000">
                        <a:srgbClr val="c8001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19" name=""/>
              <p:cNvSpPr/>
              <p:nvPr/>
            </p:nvSpPr>
            <p:spPr>
              <a:xfrm>
                <a:off x="7868880" y="5083200"/>
                <a:ext cx="3535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99ff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7792560" y="5464080"/>
                <a:ext cx="3535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99ff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7792560" y="4702320"/>
                <a:ext cx="3535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99ff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7411680" y="5006880"/>
                <a:ext cx="3535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99ff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0280" y="4702320"/>
                <a:ext cx="28368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99ff"/>
                    </a:solidFill>
                    <a:latin typeface="Times New Roman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7716600" y="5006880"/>
                <a:ext cx="28368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99ff"/>
                    </a:solidFill>
                    <a:latin typeface="Times New Roman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7716600" y="5311800"/>
                <a:ext cx="28368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99ff"/>
                    </a:solidFill>
                    <a:latin typeface="Times New Roman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7335360" y="4397400"/>
                <a:ext cx="28368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99ff"/>
                    </a:solidFill>
                    <a:latin typeface="Times New Roman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7259400" y="4702320"/>
                <a:ext cx="28368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99ff"/>
                    </a:solidFill>
                    <a:latin typeface="Times New Roman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335360" y="5540400"/>
                <a:ext cx="28368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99ff"/>
                    </a:solidFill>
                    <a:latin typeface="Times New Roman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7183080" y="5388120"/>
                <a:ext cx="28368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99ff"/>
                    </a:solidFill>
                    <a:latin typeface="Times New Roman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7259400" y="5235480"/>
                <a:ext cx="28368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99ff"/>
                    </a:solidFill>
                    <a:latin typeface="Times New Roman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7030800" y="5159520"/>
                <a:ext cx="28368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99ff"/>
                    </a:solidFill>
                    <a:latin typeface="Times New Roman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7106760" y="5006880"/>
                <a:ext cx="28368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99ff"/>
                    </a:solidFill>
                    <a:latin typeface="Times New Roman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7030800" y="4778280"/>
                <a:ext cx="28368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99ff"/>
                    </a:solidFill>
                    <a:latin typeface="Times New Roman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7183080" y="4549680"/>
                <a:ext cx="28368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99ff"/>
                    </a:solidFill>
                    <a:latin typeface="Times New Roman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6954480" y="5388120"/>
                <a:ext cx="28368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99ff"/>
                    </a:solidFill>
                    <a:latin typeface="Times New Roman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6725880" y="5006880"/>
                <a:ext cx="28368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99ff"/>
                    </a:solidFill>
                    <a:latin typeface="Times New Roman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6954480" y="4473720"/>
                <a:ext cx="28368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99ff"/>
                    </a:solidFill>
                    <a:latin typeface="Times New Roman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8" name=""/>
          <p:cNvGrpSpPr/>
          <p:nvPr/>
        </p:nvGrpSpPr>
        <p:grpSpPr>
          <a:xfrm>
            <a:off x="2437920" y="4343400"/>
            <a:ext cx="817200" cy="1749960"/>
            <a:chOff x="2437920" y="4343400"/>
            <a:chExt cx="817200" cy="1749960"/>
          </a:xfrm>
        </p:grpSpPr>
        <p:sp>
          <p:nvSpPr>
            <p:cNvPr id="239" name=""/>
            <p:cNvSpPr/>
            <p:nvPr/>
          </p:nvSpPr>
          <p:spPr>
            <a:xfrm>
              <a:off x="2528640" y="4510080"/>
              <a:ext cx="685800" cy="1447920"/>
            </a:xfrm>
            <a:custGeom>
              <a:avLst/>
              <a:gdLst>
                <a:gd name="textAreaLeft" fmla="*/ 97560 w 685800"/>
                <a:gd name="textAreaRight" fmla="*/ 588240 w 685800"/>
                <a:gd name="textAreaTop" fmla="*/ 97560 h 1447920"/>
                <a:gd name="textAreaBottom" fmla="*/ 1350360 h 1447920"/>
              </a:gdLst>
              <a:ahLst/>
              <a:rect l="textAreaLeft" t="textAreaTop" r="textAreaRight" b="textAreaBottom"/>
              <a:pathLst>
                <a:path w="21600" h="45591">
                  <a:moveTo>
                    <a:pt x="10499" y="0"/>
                  </a:moveTo>
                  <a:arcTo wR="10499" hR="10499" stAng="16200000" swAng="-5400000"/>
                  <a:lnTo>
                    <a:pt x="0" y="35092"/>
                  </a:lnTo>
                  <a:arcTo wR="10499" hR="10499" stAng="10800000" swAng="-5400000"/>
                  <a:lnTo>
                    <a:pt x="11101" y="45591"/>
                  </a:lnTo>
                  <a:arcTo wR="10499" hR="10499" stAng="5400000" swAng="-5400000"/>
                  <a:lnTo>
                    <a:pt x="21600" y="10499"/>
                  </a:lnTo>
                  <a:arcTo wR="10499" hR="10499" stAng="0" swAng="-5400000"/>
                  <a:close/>
                </a:path>
              </a:pathLst>
            </a:custGeom>
            <a:gradFill rotWithShape="0">
              <a:gsLst>
                <a:gs pos="0">
                  <a:srgbClr val="7d0013"/>
                </a:gs>
                <a:gs pos="100000">
                  <a:srgbClr val="fc012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666520" y="5029200"/>
              <a:ext cx="3535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99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971440" y="4572000"/>
              <a:ext cx="2836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99ff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514240" y="4572000"/>
              <a:ext cx="2836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99ff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971440" y="4952880"/>
              <a:ext cx="2836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99ff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437920" y="4876920"/>
              <a:ext cx="2836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99ff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437920" y="5257800"/>
              <a:ext cx="2836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99ff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971440" y="5257800"/>
              <a:ext cx="2836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99ff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514240" y="5562720"/>
              <a:ext cx="2836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99ff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971440" y="5562720"/>
              <a:ext cx="2836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99ff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742840" y="5638680"/>
              <a:ext cx="2836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99ff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742840" y="4343400"/>
              <a:ext cx="2836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99ff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4A2E-8D6C-4E53-AE98-383D58C45AE6}" type="slidenum">
              <a:t>43</a:t>
            </a:fld>
          </a:p>
        </p:txBody>
      </p:sp>
    </p:spTree>
  </p:cSld>
  <p:transition>
    <p:fade thruBlk="true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Instantaneous Dipoles</a:t>
            </a:r>
            <a:endParaRPr b="0" lang="en-US" sz="4400" spc="-1" strike="noStrike">
              <a:solidFill>
                <a:srgbClr val="9900ff"/>
              </a:solidFill>
              <a:latin typeface="Times New Roman"/>
            </a:endParaRPr>
          </a:p>
        </p:txBody>
      </p:sp>
      <p:pic>
        <p:nvPicPr>
          <p:cNvPr id="252" name="12_17" descr=""/>
          <p:cNvPicPr/>
          <p:nvPr/>
        </p:nvPicPr>
        <p:blipFill>
          <a:blip r:embed="rId2"/>
          <a:srcRect l="0" t="0" r="0" b="6813"/>
          <a:stretch/>
        </p:blipFill>
        <p:spPr>
          <a:xfrm>
            <a:off x="1828800" y="1828800"/>
            <a:ext cx="5486400" cy="1935000"/>
          </a:xfrm>
          <a:prstGeom prst="rect">
            <a:avLst/>
          </a:prstGeom>
          <a:ln w="0">
            <a:noFill/>
          </a:ln>
        </p:spPr>
      </p:pic>
      <p:pic>
        <p:nvPicPr>
          <p:cNvPr id="253" name="12_18" descr=""/>
          <p:cNvPicPr/>
          <p:nvPr/>
        </p:nvPicPr>
        <p:blipFill>
          <a:blip r:embed="rId3"/>
          <a:stretch/>
        </p:blipFill>
        <p:spPr>
          <a:xfrm>
            <a:off x="1752480" y="4114800"/>
            <a:ext cx="5486400" cy="200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1E81-62DB-4C31-B7DE-DF553ECCE484}" type="slidenum">
              <a:t>44</a:t>
            </a:fld>
          </a:p>
        </p:txBody>
      </p:sp>
    </p:spTree>
  </p:cSld>
  <p:transition>
    <p:fade thruBlk="true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ff"/>
                </a:solidFill>
                <a:latin typeface="Times New Roman"/>
              </a:rPr>
              <a:t>Strength of the Dispersion Force</a:t>
            </a:r>
            <a:endParaRPr b="0" lang="en-US" sz="4400" spc="-1" strike="noStrike">
              <a:solidFill>
                <a:srgbClr val="9900ff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pends on how easily the electrons can move, or be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olar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more electrons and the farther they are from the nuclei, the larger the dipole that can be induc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trength of the dispersion force gets larger with larger molec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C853-3F2C-4ED5-926F-F220391CF531}" type="slidenum">
              <a:t>45</a:t>
            </a:fld>
          </a:p>
        </p:txBody>
      </p:sp>
    </p:spTree>
  </p:cSld>
  <p:transition>
    <p:fade thruBlk="true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69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ff"/>
                </a:solidFill>
                <a:latin typeface="Times New Roman"/>
              </a:rPr>
              <a:t>Attractive Forces and Properties</a:t>
            </a:r>
            <a:endParaRPr b="0" lang="en-US" sz="4400" spc="-1" strike="noStrike">
              <a:solidFill>
                <a:srgbClr val="9900ff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040" y="182880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onger attractive forces between molecules = higher boiling po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pure subs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onger attractive forces between molecules = higher melting po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pure subs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ough also depends on crystal pac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DBD3-A3BF-4B9E-BCEA-8CDF374444A1}" type="slidenum">
              <a:t>46</a:t>
            </a:fld>
          </a:p>
        </p:txBody>
      </p:sp>
    </p:spTree>
  </p:cSld>
  <p:transition>
    <p:fade thruBlk="true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8" name=""/>
          <p:cNvGraphicFramePr/>
          <p:nvPr/>
        </p:nvGraphicFramePr>
        <p:xfrm>
          <a:off x="380880" y="1600200"/>
          <a:ext cx="8429760" cy="4734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600200"/>
                    <a:ext cx="8429760" cy="473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ff"/>
                </a:solidFill>
                <a:latin typeface="Times New Roman"/>
              </a:rPr>
              <a:t>Dispersion Force and Molar Mass</a:t>
            </a:r>
            <a:endParaRPr b="0" lang="en-US" sz="4400" spc="-1" strike="noStrike">
              <a:solidFill>
                <a:srgbClr val="99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B484-79AD-40CF-8536-7F3FD5E08835}" type="slidenum">
              <a:t>47</a:t>
            </a:fld>
          </a:p>
        </p:txBody>
      </p:sp>
    </p:spTree>
  </p:cSld>
  <p:transition>
    <p:fade thruBlk="true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1" name=""/>
          <p:cNvGraphicFramePr/>
          <p:nvPr/>
        </p:nvGraphicFramePr>
        <p:xfrm>
          <a:off x="152280" y="838080"/>
          <a:ext cx="8763120" cy="5270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838080"/>
                    <a:ext cx="8763120" cy="527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457F-DD87-4153-B7E0-EC4D5CA1F0D3}" type="slidenum">
              <a:t>48</a:t>
            </a:fld>
          </a:p>
        </p:txBody>
      </p:sp>
    </p:spTree>
  </p:cSld>
  <p:transition>
    <p:fade thruBlk="true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ff"/>
                </a:solidFill>
                <a:latin typeface="Times New Roman"/>
              </a:rPr>
              <a:t>Permanent Dipoles</a:t>
            </a:r>
            <a:endParaRPr b="0" lang="en-US" sz="4400" spc="-1" strike="noStrike">
              <a:solidFill>
                <a:srgbClr val="9900ff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343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cause of the kinds of atoms that are bonded together and their relative positions in the molecule, some molecules have a permanent dipo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polar molecules have a permanent dipo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" name="12_19" descr=""/>
          <p:cNvPicPr/>
          <p:nvPr/>
        </p:nvPicPr>
        <p:blipFill>
          <a:blip r:embed="rId1"/>
          <a:stretch/>
        </p:blipFill>
        <p:spPr>
          <a:xfrm>
            <a:off x="5257800" y="2286000"/>
            <a:ext cx="3505320" cy="245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0D1D-4980-4671-82FF-4A0EE26FC263}" type="slidenum">
              <a:t>49</a:t>
            </a:fld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ff"/>
                </a:solidFill>
                <a:latin typeface="Times New Roman"/>
              </a:rPr>
              <a:t>Properties of the States of Matter</a:t>
            </a:r>
            <a:br>
              <a:rPr sz="4400"/>
            </a:br>
            <a:r>
              <a:rPr b="0" lang="en-US" sz="4400" spc="-1" strike="noStrike">
                <a:solidFill>
                  <a:srgbClr val="9900ff"/>
                </a:solidFill>
                <a:latin typeface="Times New Roman"/>
              </a:rPr>
              <a:t>Gases</a:t>
            </a:r>
            <a:endParaRPr b="0" lang="en-US" sz="4400" spc="-1" strike="noStrike">
              <a:solidFill>
                <a:srgbClr val="9900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79246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w densities compared to solids and liqu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u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terial exhibits a smooth, continuous flow as it mo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ke the shape of their contain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and to fill their contain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be compressed into a smaller volu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C96F-F7AF-4488-9533-15A1230C9C78}" type="slidenum">
              <a:t>5</a:t>
            </a:fld>
          </a:p>
        </p:txBody>
      </p:sp>
    </p:spTree>
  </p:cSld>
  <p:transition>
    <p:fade thruBlk="true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ff"/>
                </a:solidFill>
                <a:latin typeface="Times New Roman"/>
              </a:rPr>
              <a:t>Dipole-to-Dipole Attraction</a:t>
            </a:r>
            <a:endParaRPr b="0" lang="en-US" sz="4400" spc="-1" strike="noStrike">
              <a:solidFill>
                <a:srgbClr val="9900ff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lar molecules have a permanent dipo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+ end and a – 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+ end of one molecule will be attracted to the – end of ano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12_20" descr=""/>
          <p:cNvPicPr/>
          <p:nvPr/>
        </p:nvPicPr>
        <p:blipFill>
          <a:blip r:embed="rId1"/>
          <a:stretch/>
        </p:blipFill>
        <p:spPr>
          <a:xfrm>
            <a:off x="6019920" y="1523880"/>
            <a:ext cx="2361960" cy="4724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B84F-00F9-4D17-976C-D8ADED6A2973}" type="slidenum">
              <a:t>50</a:t>
            </a:fld>
          </a:p>
        </p:txBody>
      </p:sp>
    </p:spTree>
  </p:cSld>
  <p:transition>
    <p:fade thruBlk="true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9" name=""/>
          <p:cNvGraphicFramePr/>
          <p:nvPr/>
        </p:nvGraphicFramePr>
        <p:xfrm>
          <a:off x="299880" y="2281320"/>
          <a:ext cx="8636040" cy="3797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9880" y="2281320"/>
                    <a:ext cx="8636040" cy="379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ff"/>
                </a:solidFill>
                <a:latin typeface="Times New Roman"/>
              </a:rPr>
              <a:t>Polarity and </a:t>
            </a:r>
            <a:br>
              <a:rPr sz="4400"/>
            </a:br>
            <a:r>
              <a:rPr b="0" lang="en-US" sz="4400" spc="-1" strike="noStrike">
                <a:solidFill>
                  <a:srgbClr val="9900ff"/>
                </a:solidFill>
                <a:latin typeface="Times New Roman"/>
              </a:rPr>
              <a:t>Dipole-to-Dipole Attraction</a:t>
            </a:r>
            <a:endParaRPr b="0" lang="en-US" sz="4400" spc="-1" strike="noStrike">
              <a:solidFill>
                <a:srgbClr val="99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6E5C-D079-419A-9BF1-F9B6908BF68A}" type="slidenum">
              <a:t>51</a:t>
            </a:fld>
          </a:p>
        </p:txBody>
      </p:sp>
    </p:spTree>
  </p:cSld>
  <p:transition>
    <p:fade thruBlk="true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ff"/>
                </a:solidFill>
                <a:latin typeface="Times New Roman"/>
              </a:rPr>
              <a:t>Attractive Forces</a:t>
            </a:r>
            <a:endParaRPr b="0" lang="en-US" sz="4400" spc="-1" strike="noStrike">
              <a:solidFill>
                <a:srgbClr val="9900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290760" y="4572000"/>
            <a:ext cx="1219320" cy="685800"/>
          </a:xfrm>
          <a:prstGeom prst="ellipse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147760" y="4952880"/>
            <a:ext cx="10670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4952880"/>
            <a:ext cx="761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76160" y="4572000"/>
            <a:ext cx="1219320" cy="685800"/>
          </a:xfrm>
          <a:prstGeom prst="ellipse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61400" y="4710240"/>
            <a:ext cx="1217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+         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275640" y="4710240"/>
            <a:ext cx="1294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+         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5561280" y="4572000"/>
            <a:ext cx="2558880" cy="685800"/>
            <a:chOff x="5561280" y="4572000"/>
            <a:chExt cx="2558880" cy="685800"/>
          </a:xfrm>
        </p:grpSpPr>
        <p:sp>
          <p:nvSpPr>
            <p:cNvPr id="280" name=""/>
            <p:cNvSpPr/>
            <p:nvPr/>
          </p:nvSpPr>
          <p:spPr>
            <a:xfrm>
              <a:off x="5652720" y="4572000"/>
              <a:ext cx="1218960" cy="68580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872040" y="4572000"/>
              <a:ext cx="1218960" cy="685800"/>
            </a:xfrm>
            <a:prstGeom prst="ellipse">
              <a:avLst/>
            </a:prstGeom>
            <a:solidFill>
              <a:srgbClr val="114f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561280" y="4709880"/>
              <a:ext cx="25588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ff33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66ff33"/>
                  </a:solidFill>
                  <a:latin typeface="Times New Roman"/>
                </a:rPr>
                <a:t>+           -  +          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3" name=""/>
          <p:cNvSpPr/>
          <p:nvPr/>
        </p:nvSpPr>
        <p:spPr>
          <a:xfrm>
            <a:off x="3200400" y="2590920"/>
            <a:ext cx="685800" cy="685800"/>
          </a:xfrm>
          <a:prstGeom prst="ellipse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143000" y="2590920"/>
            <a:ext cx="685800" cy="685800"/>
          </a:xfrm>
          <a:prstGeom prst="ellipse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057400" y="297180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191120" y="2971800"/>
            <a:ext cx="99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5486400" y="2416320"/>
            <a:ext cx="1134360" cy="1048680"/>
            <a:chOff x="5486400" y="2416320"/>
            <a:chExt cx="1134360" cy="1048680"/>
          </a:xfrm>
        </p:grpSpPr>
        <p:grpSp>
          <p:nvGrpSpPr>
            <p:cNvPr id="288" name=""/>
            <p:cNvGrpSpPr/>
            <p:nvPr/>
          </p:nvGrpSpPr>
          <p:grpSpPr>
            <a:xfrm>
              <a:off x="5486400" y="2590560"/>
              <a:ext cx="914400" cy="685440"/>
              <a:chOff x="5486400" y="2590560"/>
              <a:chExt cx="914400" cy="685440"/>
            </a:xfrm>
          </p:grpSpPr>
          <p:sp>
            <p:nvSpPr>
              <p:cNvPr id="289" name=""/>
              <p:cNvSpPr/>
              <p:nvPr/>
            </p:nvSpPr>
            <p:spPr>
              <a:xfrm>
                <a:off x="5562720" y="2666520"/>
                <a:ext cx="838080" cy="532800"/>
              </a:xfrm>
              <a:prstGeom prst="ellipse">
                <a:avLst/>
              </a:pr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5486400" y="2590560"/>
                <a:ext cx="685800" cy="685440"/>
              </a:xfrm>
              <a:prstGeom prst="ellipse">
                <a:avLst/>
              </a:pr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1" name=""/>
            <p:cNvGrpSpPr/>
            <p:nvPr/>
          </p:nvGrpSpPr>
          <p:grpSpPr>
            <a:xfrm>
              <a:off x="6081120" y="2416320"/>
              <a:ext cx="539640" cy="1048680"/>
              <a:chOff x="6081120" y="2416320"/>
              <a:chExt cx="539640" cy="1048680"/>
            </a:xfrm>
          </p:grpSpPr>
          <p:sp>
            <p:nvSpPr>
              <p:cNvPr id="292" name=""/>
              <p:cNvSpPr/>
              <p:nvPr/>
            </p:nvSpPr>
            <p:spPr>
              <a:xfrm>
                <a:off x="6081120" y="2416320"/>
                <a:ext cx="31104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6309720" y="2568240"/>
                <a:ext cx="31104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6309720" y="2873160"/>
                <a:ext cx="31104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6081120" y="3101760"/>
                <a:ext cx="31104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6" name=""/>
          <p:cNvGrpSpPr/>
          <p:nvPr/>
        </p:nvGrpSpPr>
        <p:grpSpPr>
          <a:xfrm>
            <a:off x="6843240" y="2340000"/>
            <a:ext cx="1157400" cy="1125000"/>
            <a:chOff x="6843240" y="2340000"/>
            <a:chExt cx="1157400" cy="1125000"/>
          </a:xfrm>
        </p:grpSpPr>
        <p:grpSp>
          <p:nvGrpSpPr>
            <p:cNvPr id="297" name=""/>
            <p:cNvGrpSpPr/>
            <p:nvPr/>
          </p:nvGrpSpPr>
          <p:grpSpPr>
            <a:xfrm>
              <a:off x="7086240" y="2590560"/>
              <a:ext cx="914400" cy="685440"/>
              <a:chOff x="7086240" y="2590560"/>
              <a:chExt cx="914400" cy="685440"/>
            </a:xfrm>
          </p:grpSpPr>
          <p:sp>
            <p:nvSpPr>
              <p:cNvPr id="298" name=""/>
              <p:cNvSpPr/>
              <p:nvPr/>
            </p:nvSpPr>
            <p:spPr>
              <a:xfrm>
                <a:off x="7162560" y="2666520"/>
                <a:ext cx="838080" cy="532800"/>
              </a:xfrm>
              <a:prstGeom prst="ellipse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7086240" y="2590560"/>
                <a:ext cx="685800" cy="685440"/>
              </a:xfrm>
              <a:prstGeom prst="ellipse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6843240" y="2340000"/>
              <a:ext cx="448200" cy="1125000"/>
              <a:chOff x="6843240" y="2340000"/>
              <a:chExt cx="448200" cy="1125000"/>
            </a:xfrm>
          </p:grpSpPr>
          <p:sp>
            <p:nvSpPr>
              <p:cNvPr id="301" name=""/>
              <p:cNvSpPr/>
              <p:nvPr/>
            </p:nvSpPr>
            <p:spPr>
              <a:xfrm>
                <a:off x="6919560" y="2340000"/>
                <a:ext cx="2959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_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6843240" y="2568240"/>
                <a:ext cx="2959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_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919560" y="2873160"/>
                <a:ext cx="2959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_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6995520" y="3101760"/>
                <a:ext cx="2959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_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5" name=""/>
          <p:cNvSpPr/>
          <p:nvPr/>
        </p:nvSpPr>
        <p:spPr>
          <a:xfrm>
            <a:off x="437400" y="1565280"/>
            <a:ext cx="43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persion Forces – all molec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51440" y="3809880"/>
            <a:ext cx="542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pole-to-Dipole Forces – polar molec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148B-94F0-4A8D-91F5-5B6DEFFA9DB2}" type="slidenum">
              <a:t>52</a:t>
            </a:fld>
          </a:p>
        </p:txBody>
      </p:sp>
    </p:spTree>
  </p:cSld>
  <p:transition>
    <p:fade thruBlk="true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ff"/>
                </a:solidFill>
                <a:latin typeface="Times New Roman"/>
              </a:rPr>
              <a:t>Attractive Forces and Properties</a:t>
            </a:r>
            <a:endParaRPr b="0" lang="en-US" sz="4400" spc="-1" strike="noStrike">
              <a:solidFill>
                <a:srgbClr val="9900ff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1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ke dissolves Li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1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isci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liquids that do not separate, no matter what the propor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1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lar molecules dissolve in polar solv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1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ter, alcohol, 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1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lecules with O or N higher solubility in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 due to H-bonding with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1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npolar molecules dissolve in nonpolar solv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1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groin (hexane), toluene, CC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molecule has both polar &amp; nonpolar parts, then hydrophilic - hydrophobic compet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61B4-387B-4180-A356-6E84183294B8}" type="slidenum">
              <a:t>53</a:t>
            </a:fld>
          </a:p>
        </p:txBody>
      </p:sp>
    </p:spTree>
  </p:cSld>
  <p:transition>
    <p:fade thruBlk="true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409720" y="609120"/>
            <a:ext cx="304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ff"/>
                </a:solidFill>
                <a:latin typeface="Times New Roman"/>
              </a:rPr>
              <a:t>Immiscible Liquids</a:t>
            </a:r>
            <a:endParaRPr b="0" lang="en-US" sz="4400" spc="-1" strike="noStrike">
              <a:solidFill>
                <a:srgbClr val="9900ff"/>
              </a:solidFill>
              <a:latin typeface="Times New Roman"/>
            </a:endParaRPr>
          </a:p>
        </p:txBody>
      </p:sp>
      <p:pic>
        <p:nvPicPr>
          <p:cNvPr id="310" name="12_21a" descr=""/>
          <p:cNvPicPr/>
          <p:nvPr/>
        </p:nvPicPr>
        <p:blipFill>
          <a:blip r:embed="rId1"/>
          <a:stretch/>
        </p:blipFill>
        <p:spPr>
          <a:xfrm>
            <a:off x="0" y="-838080"/>
            <a:ext cx="5372280" cy="769608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483520" y="2209680"/>
            <a:ext cx="3073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liquid pentan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nonpolar substanc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mixed with water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olar substanc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wo liquids sepa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they are m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racted to their 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nd of molecule th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the o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15BB-840B-414D-841D-8257B45E4D18}" type="slidenum">
              <a:t>54</a:t>
            </a:fld>
          </a:p>
        </p:txBody>
      </p:sp>
    </p:spTree>
  </p:cSld>
  <p:transition>
    <p:fade thruBlk="true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ff"/>
                </a:solidFill>
                <a:latin typeface="Times New Roman"/>
              </a:rPr>
              <a:t>Hydrogen Bonding</a:t>
            </a:r>
            <a:endParaRPr b="0" lang="en-US" sz="4400" spc="-1" strike="noStrike">
              <a:solidFill>
                <a:srgbClr val="9900ff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47242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lecules that have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HF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OH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or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N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groups have particularly strong intermolecular attr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usually high melting and boiling poi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usually high solubility in wa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kind of attraction is called a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Hydrogen Bo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12_23" descr=""/>
          <p:cNvPicPr/>
          <p:nvPr/>
        </p:nvPicPr>
        <p:blipFill>
          <a:blip r:embed="rId1"/>
          <a:stretch/>
        </p:blipFill>
        <p:spPr>
          <a:xfrm>
            <a:off x="5734080" y="1295280"/>
            <a:ext cx="2527200" cy="4724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3834-8B68-4B16-9D0D-01248FAE60E3}" type="slidenum">
              <a:t>55</a:t>
            </a:fld>
          </a:p>
        </p:txBody>
      </p:sp>
    </p:spTree>
  </p:cSld>
  <p:transition>
    <p:fade thruBlk="true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ff"/>
                </a:solidFill>
                <a:latin typeface="Times New Roman"/>
              </a:rPr>
              <a:t>Properties and H-Bonding</a:t>
            </a:r>
            <a:endParaRPr b="0" lang="en-US" sz="4400" spc="-1" strike="noStrike">
              <a:solidFill>
                <a:srgbClr val="9900ff"/>
              </a:solidFill>
              <a:latin typeface="Times New Roman"/>
            </a:endParaRPr>
          </a:p>
        </p:txBody>
      </p:sp>
      <p:graphicFrame>
        <p:nvGraphicFramePr>
          <p:cNvPr id="316" name=""/>
          <p:cNvGraphicFramePr/>
          <p:nvPr/>
        </p:nvGraphicFramePr>
        <p:xfrm>
          <a:off x="380880" y="1828800"/>
          <a:ext cx="8534520" cy="3681360"/>
        </p:xfrm>
        <a:graphic>
          <a:graphicData uri="http://schemas.openxmlformats.org/drawingml/2006/table">
            <a:tbl>
              <a:tblPr/>
              <a:tblGrid>
                <a:gridCol w="1219320"/>
                <a:gridCol w="1143000"/>
                <a:gridCol w="1066680"/>
                <a:gridCol w="1676520"/>
                <a:gridCol w="1143000"/>
                <a:gridCol w="1143000"/>
                <a:gridCol w="1143000"/>
              </a:tblGrid>
              <a:tr h="1267560"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Na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Form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ul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Molar Ma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(g/mol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Struct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Boiling Point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°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Melting Point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°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Solubil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ity in Wa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8520"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tha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8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7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mmis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5280"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than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.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97.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sc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7" name=""/>
          <p:cNvGraphicFramePr/>
          <p:nvPr/>
        </p:nvGraphicFramePr>
        <p:xfrm>
          <a:off x="3962520" y="3200400"/>
          <a:ext cx="1371600" cy="103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2520" y="3200400"/>
                    <a:ext cx="1371600" cy="103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9" name=""/>
          <p:cNvGraphicFramePr/>
          <p:nvPr/>
        </p:nvGraphicFramePr>
        <p:xfrm>
          <a:off x="3962520" y="4343400"/>
          <a:ext cx="1352520" cy="1009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62520" y="4343400"/>
                    <a:ext cx="1352520" cy="100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5A13-3401-4C83-A36C-4B2D8D284FC2}" type="slidenum">
              <a:t>56</a:t>
            </a:fld>
          </a:p>
        </p:txBody>
      </p:sp>
    </p:spTree>
  </p:cSld>
  <p:transition>
    <p:fade thruBlk="true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ff"/>
                </a:solidFill>
                <a:latin typeface="Times New Roman"/>
              </a:rPr>
              <a:t>Intermolecular H-Bonding</a:t>
            </a:r>
            <a:endParaRPr b="0" lang="en-US" sz="4400" spc="-1" strike="noStrike">
              <a:solidFill>
                <a:srgbClr val="9900ff"/>
              </a:solidFill>
              <a:latin typeface="Times New Roman"/>
            </a:endParaRPr>
          </a:p>
        </p:txBody>
      </p:sp>
      <p:pic>
        <p:nvPicPr>
          <p:cNvPr id="322" name="12_22" descr=""/>
          <p:cNvPicPr/>
          <p:nvPr/>
        </p:nvPicPr>
        <p:blipFill>
          <a:blip r:embed="rId1"/>
          <a:srcRect l="0" t="0" r="0" b="4777"/>
          <a:stretch/>
        </p:blipFill>
        <p:spPr>
          <a:xfrm>
            <a:off x="2514600" y="1577880"/>
            <a:ext cx="3962520" cy="1698840"/>
          </a:xfrm>
          <a:prstGeom prst="rect">
            <a:avLst/>
          </a:prstGeom>
          <a:ln w="0">
            <a:noFill/>
          </a:ln>
        </p:spPr>
      </p:pic>
      <p:grpSp>
        <p:nvGrpSpPr>
          <p:cNvPr id="323" name=""/>
          <p:cNvGrpSpPr/>
          <p:nvPr/>
        </p:nvGrpSpPr>
        <p:grpSpPr>
          <a:xfrm>
            <a:off x="774720" y="3400560"/>
            <a:ext cx="7607160" cy="2793960"/>
            <a:chOff x="774720" y="3400560"/>
            <a:chExt cx="7607160" cy="2793960"/>
          </a:xfrm>
        </p:grpSpPr>
        <p:pic>
          <p:nvPicPr>
            <p:cNvPr id="324" name="12_24a" descr=""/>
            <p:cNvPicPr/>
            <p:nvPr/>
          </p:nvPicPr>
          <p:blipFill>
            <a:blip r:embed="rId2"/>
            <a:stretch/>
          </p:blipFill>
          <p:spPr>
            <a:xfrm>
              <a:off x="5181480" y="3886200"/>
              <a:ext cx="3200400" cy="184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5" name="12_24b" descr=""/>
            <p:cNvPicPr/>
            <p:nvPr/>
          </p:nvPicPr>
          <p:blipFill>
            <a:blip r:embed="rId3"/>
            <a:stretch/>
          </p:blipFill>
          <p:spPr>
            <a:xfrm>
              <a:off x="774720" y="3400560"/>
              <a:ext cx="3873600" cy="2793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CD2B-7105-4B1D-B9AE-E686B1ABF1FB}" type="slidenum">
              <a:t>57</a:t>
            </a:fld>
          </a:p>
        </p:txBody>
      </p:sp>
    </p:spTree>
  </p:cSld>
  <p:transition>
    <p:fade thruBlk="true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ff"/>
                </a:solidFill>
                <a:latin typeface="Times New Roman"/>
              </a:rPr>
              <a:t>Hydrogen Bonding</a:t>
            </a:r>
            <a:endParaRPr b="0" lang="en-US" sz="4400" spc="-1" strike="noStrike">
              <a:solidFill>
                <a:srgbClr val="9900ff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a very electronegative atom is bonded to hydrogen, it strongly pulls the bonding electrons toward 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nce hydrogen has no other electrons, when it loses the electrons, the nucleus becomes deshield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osing the prot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xposed proton acts as a very strong center of positive charge, attracting all the electron clouds from neighboring molec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1DEC-BED5-48B5-ADB1-5E74666B3BFF}" type="slidenum">
              <a:t>58</a:t>
            </a:fld>
          </a:p>
        </p:txBody>
      </p:sp>
    </p:spTree>
  </p:cSld>
  <p:transition>
    <p:fade thruBlk="true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ff"/>
                </a:solidFill>
                <a:latin typeface="Times New Roman"/>
              </a:rPr>
              <a:t>H-Bonds vs. Chemical Bonds</a:t>
            </a:r>
            <a:endParaRPr b="0" lang="en-US" sz="4400" spc="-1" strike="noStrike">
              <a:solidFill>
                <a:srgbClr val="9900ff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ydrogen bonds are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hemical bo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ydrogen bonds are attractive forc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etwe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olec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mical bonds are attractive forces tha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olec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B03F-50C6-483F-BE9D-0D2AEDBEAB77}" type="slidenum">
              <a:t>59</a:t>
            </a:fld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ff"/>
                </a:solidFill>
                <a:latin typeface="Times New Roman"/>
              </a:rPr>
              <a:t>Properties of the States of Matter</a:t>
            </a:r>
            <a:br>
              <a:rPr sz="4400"/>
            </a:br>
            <a:r>
              <a:rPr b="0" lang="en-US" sz="4400" spc="-1" strike="noStrike">
                <a:solidFill>
                  <a:srgbClr val="9900ff"/>
                </a:solidFill>
                <a:latin typeface="Times New Roman"/>
              </a:rPr>
              <a:t>Liquids</a:t>
            </a:r>
            <a:endParaRPr b="0" lang="en-US" sz="4400" spc="-1" strike="noStrike">
              <a:solidFill>
                <a:srgbClr val="9900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79246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 densities compared to g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u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terial exhibits a smooth, continuous flow as it mo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ke the shape of their contain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ep their volume, do not expand to fill their contain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not be compressed into a smaller volu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001E-BBFC-4C55-9B35-826816147C69}" type="slidenum">
              <a:t>6</a:t>
            </a:fld>
          </a:p>
        </p:txBody>
      </p:sp>
    </p:spTree>
  </p:cSld>
  <p:transition>
    <p:fade thruBlk="true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0" name=""/>
          <p:cNvGraphicFramePr/>
          <p:nvPr/>
        </p:nvGraphicFramePr>
        <p:xfrm>
          <a:off x="65160" y="463680"/>
          <a:ext cx="8996400" cy="5495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160" y="463680"/>
                    <a:ext cx="8996400" cy="549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C17A-1087-41C9-94DB-087E9B6C948D}" type="slidenum">
              <a:t>60</a:t>
            </a:fld>
          </a:p>
        </p:txBody>
      </p:sp>
    </p:spTree>
  </p:cSld>
  <p:transition>
    <p:fade thruBlk="true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2" name=""/>
          <p:cNvGraphicFramePr/>
          <p:nvPr/>
        </p:nvGraphicFramePr>
        <p:xfrm>
          <a:off x="228600" y="2133720"/>
          <a:ext cx="8772480" cy="3635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133720"/>
                    <a:ext cx="8772480" cy="36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ff"/>
                </a:solidFill>
                <a:latin typeface="Times New Roman"/>
              </a:rPr>
              <a:t>Attractive Forces &amp; Properties</a:t>
            </a:r>
            <a:endParaRPr b="0" lang="en-US" sz="4400" spc="-1" strike="noStrike">
              <a:solidFill>
                <a:srgbClr val="99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DD91-03ED-49CE-A3B8-8056C3DA509E}" type="slidenum">
              <a:t>61</a:t>
            </a:fld>
          </a:p>
        </p:txBody>
      </p:sp>
    </p:spTree>
  </p:cSld>
  <p:transition>
    <p:fade thruBlk="true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12_24-03UN" descr=""/>
          <p:cNvPicPr/>
          <p:nvPr/>
        </p:nvPicPr>
        <p:blipFill>
          <a:blip r:embed="rId1"/>
          <a:srcRect l="0" t="0" r="0" b="6118"/>
          <a:stretch/>
        </p:blipFill>
        <p:spPr>
          <a:xfrm>
            <a:off x="5638680" y="3759120"/>
            <a:ext cx="3048120" cy="997200"/>
          </a:xfrm>
          <a:prstGeom prst="rect">
            <a:avLst/>
          </a:prstGeom>
          <a:ln w="0">
            <a:noFill/>
          </a:ln>
        </p:spPr>
      </p:pic>
      <p:pic>
        <p:nvPicPr>
          <p:cNvPr id="336" name="12_24-04UN" descr=""/>
          <p:cNvPicPr/>
          <p:nvPr/>
        </p:nvPicPr>
        <p:blipFill>
          <a:blip r:embed="rId2"/>
          <a:srcRect l="0" t="0" r="0" b="6637"/>
          <a:stretch/>
        </p:blipFill>
        <p:spPr>
          <a:xfrm>
            <a:off x="5627520" y="5240160"/>
            <a:ext cx="3048120" cy="101952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ff"/>
                </a:solidFill>
                <a:latin typeface="Times New Roman"/>
              </a:rPr>
              <a:t>Types of Intermolecular Forces</a:t>
            </a:r>
            <a:endParaRPr b="0" lang="en-US" sz="4400" spc="-1" strike="noStrike">
              <a:solidFill>
                <a:srgbClr val="9900ff"/>
              </a:solidFill>
              <a:latin typeface="Times New Roman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380880" y="990720"/>
          <a:ext cx="8382240" cy="5619600"/>
        </p:xfrm>
        <a:graphic>
          <a:graphicData uri="http://schemas.openxmlformats.org/drawingml/2006/table">
            <a:tbl>
              <a:tblPr/>
              <a:tblGrid>
                <a:gridCol w="1552680"/>
                <a:gridCol w="1571760"/>
                <a:gridCol w="1447560"/>
                <a:gridCol w="1371600"/>
                <a:gridCol w="2438640"/>
              </a:tblGrid>
              <a:tr h="825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ype of For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lative Strengt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sent 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amp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557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persionFor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ak, but increases with molar ma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l atoms and molecu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09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pole – Dipole For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dera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ly polar molecu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C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drogen Bo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ro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lecules having H bonded to F, O or 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39" name="12_24-02UN" descr=""/>
          <p:cNvPicPr/>
          <p:nvPr/>
        </p:nvPicPr>
        <p:blipFill>
          <a:blip r:embed="rId3"/>
          <a:srcRect l="0" t="0" r="0" b="7150"/>
          <a:stretch/>
        </p:blipFill>
        <p:spPr>
          <a:xfrm>
            <a:off x="5929200" y="2101680"/>
            <a:ext cx="2681280" cy="9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270A-10F5-4ECD-BC20-7BF74BAF32DE}" type="slidenum">
              <a:t>62</a:t>
            </a:fld>
          </a:p>
        </p:txBody>
      </p:sp>
    </p:spTree>
  </p:cSld>
  <p:transition>
    <p:fade thruBlk="true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0" name=""/>
          <p:cNvGraphicFramePr/>
          <p:nvPr/>
        </p:nvGraphicFramePr>
        <p:xfrm>
          <a:off x="92160" y="679320"/>
          <a:ext cx="8746920" cy="5475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160" y="679320"/>
                    <a:ext cx="8746920" cy="547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5FB1-0A12-4A88-81D5-990CBEE169D0}" type="slidenum">
              <a:t>63</a:t>
            </a:fld>
          </a:p>
        </p:txBody>
      </p:sp>
    </p:spTree>
  </p:cSld>
  <p:transition>
    <p:fade thruBlk="true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ff"/>
                </a:solidFill>
                <a:latin typeface="Times New Roman"/>
              </a:rPr>
              <a:t>Crystalline Solids</a:t>
            </a:r>
            <a:endParaRPr b="0" lang="en-US" sz="4400" spc="-1" strike="noStrike">
              <a:solidFill>
                <a:srgbClr val="9900ff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ff"/>
                </a:solidFill>
                <a:latin typeface="Times New Roman"/>
              </a:rPr>
              <a:t>Types of Crystalline Solids</a:t>
            </a:r>
            <a:endParaRPr b="0" lang="en-US" sz="4400" spc="-1" strike="noStrike">
              <a:solidFill>
                <a:srgbClr val="9900ff"/>
              </a:solidFill>
              <a:latin typeface="Times New Roman"/>
            </a:endParaRPr>
          </a:p>
        </p:txBody>
      </p:sp>
      <p:pic>
        <p:nvPicPr>
          <p:cNvPr id="345" name="12_25" descr=""/>
          <p:cNvPicPr/>
          <p:nvPr/>
        </p:nvPicPr>
        <p:blipFill>
          <a:blip r:embed="rId1"/>
          <a:srcRect l="0" t="0" r="0" b="3172"/>
          <a:stretch/>
        </p:blipFill>
        <p:spPr>
          <a:xfrm>
            <a:off x="1676520" y="1143000"/>
            <a:ext cx="5962680" cy="507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FA29-EE67-45FB-BC06-CEB1ECFD0C9E}" type="slidenum">
              <a:t>65</a:t>
            </a:fld>
          </a:p>
        </p:txBody>
      </p:sp>
    </p:spTree>
  </p:cSld>
  <p:transition>
    <p:fade thruBlk="true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ff"/>
                </a:solidFill>
                <a:latin typeface="Times New Roman"/>
              </a:rPr>
              <a:t>Molecular Crystalline Solids</a:t>
            </a:r>
            <a:endParaRPr b="0" lang="en-US" sz="4400" spc="-1" strike="noStrike">
              <a:solidFill>
                <a:srgbClr val="9900ff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648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lecular solids are solids whose composite units are molec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id held together by intermolecular attractive fo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persion, dipole-dipole, or H-bo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ly low melting points an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f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8" name="05_11" descr=""/>
          <p:cNvPicPr/>
          <p:nvPr/>
        </p:nvPicPr>
        <p:blipFill>
          <a:blip r:embed="rId1"/>
          <a:stretch/>
        </p:blipFill>
        <p:spPr>
          <a:xfrm>
            <a:off x="5943600" y="1752480"/>
            <a:ext cx="2762280" cy="3962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B4B6-70A8-40F1-BD20-C7C30032DDFA}" type="slidenum">
              <a:t>66</a:t>
            </a:fld>
          </a:p>
        </p:txBody>
      </p:sp>
    </p:spTree>
  </p:cSld>
  <p:transition>
    <p:fade thruBlk="true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ff"/>
                </a:solidFill>
                <a:latin typeface="Times New Roman"/>
              </a:rPr>
              <a:t>Ionic Crystalline Solids</a:t>
            </a:r>
            <a:endParaRPr b="0" lang="en-US" sz="4400" spc="-1" strike="noStrike">
              <a:solidFill>
                <a:srgbClr val="9900ff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5715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onic solids are solids whose composite units are formula un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id held together by electrostatic attractive forces between cations and an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tions and anions arranged in a geometric pattern called a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rystal latt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 attr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ly higher melting points an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fus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n molecular sol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ionic bonds are stronger than intermolecular fo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1" name="03_06" descr=""/>
          <p:cNvPicPr/>
          <p:nvPr/>
        </p:nvPicPr>
        <p:blipFill>
          <a:blip r:embed="rId1"/>
          <a:stretch/>
        </p:blipFill>
        <p:spPr>
          <a:xfrm>
            <a:off x="6172200" y="2057400"/>
            <a:ext cx="2755800" cy="2927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E693-444D-447B-AC0B-E9B179CAE9CD}" type="slidenum">
              <a:t>67</a:t>
            </a:fld>
          </a:p>
        </p:txBody>
      </p:sp>
    </p:spTree>
  </p:cSld>
  <p:transition>
    <p:fade thruBlk="true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ff"/>
                </a:solidFill>
                <a:latin typeface="Times New Roman"/>
              </a:rPr>
              <a:t>Atomic Crystalline Solids</a:t>
            </a:r>
            <a:endParaRPr b="0" lang="en-US" sz="4400" spc="-1" strike="noStrike">
              <a:solidFill>
                <a:srgbClr val="9900ff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omic solids are solids whose composite units are individual ato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id held together by either covalent bonds, dispersion forces or metallic b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lting points an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fus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vary depending on the attractive forces between the ato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4" name="Al%20can" descr=""/>
          <p:cNvPicPr/>
          <p:nvPr/>
        </p:nvPicPr>
        <p:blipFill>
          <a:blip r:embed="rId1"/>
          <a:stretch/>
        </p:blipFill>
        <p:spPr>
          <a:xfrm>
            <a:off x="6019920" y="2209680"/>
            <a:ext cx="2736720" cy="2667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4722-9EBD-489A-AD60-5E705ED76938}" type="slidenum">
              <a:t>68</a:t>
            </a:fld>
          </a:p>
        </p:txBody>
      </p:sp>
    </p:spTree>
  </p:cSld>
  <p:transition>
    <p:fade thruBlk="true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atomic%20solid%20chart" descr=""/>
          <p:cNvPicPr/>
          <p:nvPr/>
        </p:nvPicPr>
        <p:blipFill>
          <a:blip r:embed="rId1"/>
          <a:srcRect l="0" t="0" r="0" b="4112"/>
          <a:stretch/>
        </p:blipFill>
        <p:spPr>
          <a:xfrm>
            <a:off x="1600200" y="914400"/>
            <a:ext cx="6099120" cy="525780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ff"/>
                </a:solidFill>
                <a:latin typeface="Times New Roman"/>
              </a:rPr>
              <a:t>Types of Atomic Solids</a:t>
            </a:r>
            <a:endParaRPr b="0" lang="en-US" sz="4400" spc="-1" strike="noStrike">
              <a:solidFill>
                <a:srgbClr val="99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1F44-2C6F-448B-A6BD-D3C956E2204D}" type="slidenum">
              <a:t>69</a:t>
            </a:fld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ff"/>
                </a:solidFill>
                <a:latin typeface="Times New Roman"/>
              </a:rPr>
              <a:t>Properties of the States of Matter</a:t>
            </a:r>
            <a:br>
              <a:rPr sz="4400"/>
            </a:br>
            <a:r>
              <a:rPr b="0" lang="en-US" sz="4400" spc="-1" strike="noStrike">
                <a:solidFill>
                  <a:srgbClr val="9900ff"/>
                </a:solidFill>
                <a:latin typeface="Times New Roman"/>
              </a:rPr>
              <a:t>Solids</a:t>
            </a:r>
            <a:endParaRPr b="0" lang="en-US" sz="4400" spc="-1" strike="noStrike">
              <a:solidFill>
                <a:srgbClr val="9900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gh densities compared to g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nflui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y move as entire “block” rather than a smooth, continuous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ep their own shape, do not take the shape of their contai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ep their own volume, do not expand to fill their contai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not be compressed into a smaller volu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7405-F61E-4E5E-83D8-1C286C46C73B}" type="slidenum">
              <a:t>7</a:t>
            </a:fld>
          </a:p>
        </p:txBody>
      </p:sp>
    </p:spTree>
  </p:cSld>
  <p:transition>
    <p:fade thruBlk="true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ff"/>
                </a:solidFill>
                <a:latin typeface="Times New Roman"/>
              </a:rPr>
              <a:t>Types of Atomic Solids</a:t>
            </a:r>
            <a:br>
              <a:rPr sz="4400"/>
            </a:br>
            <a:r>
              <a:rPr b="0" lang="en-US" sz="4400" spc="-1" strike="noStrike">
                <a:solidFill>
                  <a:srgbClr val="9900ff"/>
                </a:solidFill>
                <a:latin typeface="Times New Roman"/>
              </a:rPr>
              <a:t>Covalent</a:t>
            </a:r>
            <a:endParaRPr b="0" lang="en-US" sz="4400" spc="-1" strike="noStrike">
              <a:solidFill>
                <a:srgbClr val="9900ff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533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valent Atomic Solids have their atoms attached by covalent b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fectively, the entire solid is one, giant molec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covalent bonds are strong, these solids have very high melting points an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fus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covalent bonds are directional, these substances tend to be very h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9" name="12_29" descr=""/>
          <p:cNvPicPr/>
          <p:nvPr/>
        </p:nvPicPr>
        <p:blipFill>
          <a:blip r:embed="rId1"/>
          <a:stretch/>
        </p:blipFill>
        <p:spPr>
          <a:xfrm>
            <a:off x="5718240" y="2133720"/>
            <a:ext cx="3025800" cy="3076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22DA-0B06-4BE8-B1AE-65303E9D0C6D}" type="slidenum">
              <a:t>70</a:t>
            </a:fld>
          </a:p>
        </p:txBody>
      </p:sp>
    </p:spTree>
  </p:cSld>
  <p:transition>
    <p:fade thruBlk="true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ff"/>
                </a:solidFill>
                <a:latin typeface="Times New Roman"/>
              </a:rPr>
              <a:t>Types of Atomic Solids</a:t>
            </a:r>
            <a:br>
              <a:rPr sz="4400"/>
            </a:br>
            <a:r>
              <a:rPr b="0" lang="en-US" sz="4400" spc="-1" strike="noStrike">
                <a:solidFill>
                  <a:srgbClr val="9900ff"/>
                </a:solidFill>
                <a:latin typeface="Times New Roman"/>
              </a:rPr>
              <a:t>Nonbonding</a:t>
            </a:r>
            <a:endParaRPr b="0" lang="en-US" sz="4400" spc="-1" strike="noStrike">
              <a:solidFill>
                <a:srgbClr val="9900ff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5486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nbonding Atomic Solids are held together by dispersion for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cause dispersion forces are relatively weak, these solids have very low melting points and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fus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2" name="Xe" descr=""/>
          <p:cNvPicPr/>
          <p:nvPr/>
        </p:nvPicPr>
        <p:blipFill>
          <a:blip r:embed="rId1"/>
          <a:stretch/>
        </p:blipFill>
        <p:spPr>
          <a:xfrm>
            <a:off x="6095880" y="2057400"/>
            <a:ext cx="2737080" cy="3211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F734-28C3-4CBA-B7F9-7FE74E96688A}" type="slidenum">
              <a:t>71</a:t>
            </a:fld>
          </a:p>
        </p:txBody>
      </p:sp>
    </p:spTree>
  </p:cSld>
  <p:transition>
    <p:fade thruBlk="true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ff"/>
                </a:solidFill>
                <a:latin typeface="Times New Roman"/>
              </a:rPr>
              <a:t>Types of Atomic Solids</a:t>
            </a:r>
            <a:br>
              <a:rPr sz="4400"/>
            </a:br>
            <a:r>
              <a:rPr b="0" lang="en-US" sz="4400" spc="-1" strike="noStrike">
                <a:solidFill>
                  <a:srgbClr val="9900ff"/>
                </a:solidFill>
                <a:latin typeface="Times New Roman"/>
              </a:rPr>
              <a:t>Metallic</a:t>
            </a:r>
            <a:endParaRPr b="0" lang="en-US" sz="4400" spc="-1" strike="noStrike">
              <a:solidFill>
                <a:srgbClr val="9900ff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5105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tallic solids are held together by metallic b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tal atoms release some of their electrons to be shared by all the other atoms in the crys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etallic bond is the attraction of the metal cations for the mobile electr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described as islands of cations in a sea of electr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5" name="Al%20can" descr=""/>
          <p:cNvPicPr/>
          <p:nvPr/>
        </p:nvPicPr>
        <p:blipFill>
          <a:blip r:embed="rId1"/>
          <a:stretch/>
        </p:blipFill>
        <p:spPr>
          <a:xfrm>
            <a:off x="6019920" y="2209680"/>
            <a:ext cx="2736720" cy="2667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1C4F-8B55-454C-BDFF-E8E0FAF4BC5F}" type="slidenum">
              <a:t>72</a:t>
            </a:fld>
          </a:p>
        </p:txBody>
      </p:sp>
    </p:spTree>
  </p:cSld>
  <p:transition>
    <p:fade thruBlk="true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ff"/>
                </a:solidFill>
                <a:latin typeface="Times New Roman"/>
              </a:rPr>
              <a:t>Metallic Bonding</a:t>
            </a:r>
            <a:endParaRPr b="0" lang="en-US" sz="4400" spc="-1" strike="noStrike">
              <a:solidFill>
                <a:srgbClr val="9900ff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5486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odel of metallic bonding can be used to explain the properties of met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luster, malleability, ductility, electrical and thermal conductivity are all related to the mobility of the electrons in the sol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trength of the metallic bond varies, depending on the charge and size of the cations – so the melting points an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fus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metals vary as 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8" name="12_30" descr=""/>
          <p:cNvPicPr/>
          <p:nvPr/>
        </p:nvPicPr>
        <p:blipFill>
          <a:blip r:embed="rId1"/>
          <a:stretch/>
        </p:blipFill>
        <p:spPr>
          <a:xfrm>
            <a:off x="6172200" y="1905120"/>
            <a:ext cx="2768760" cy="2895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D87E-BC6B-4B96-8433-262EFD1235D1}" type="slidenum">
              <a:t>73</a:t>
            </a:fld>
          </a:p>
        </p:txBody>
      </p:sp>
    </p:spTree>
  </p:cSld>
  <p:transition>
    <p:fade thruBlk="true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ff"/>
                </a:solidFill>
                <a:latin typeface="Times New Roman"/>
              </a:rPr>
              <a:t>Water </a:t>
            </a:r>
            <a:br>
              <a:rPr sz="4400"/>
            </a:br>
            <a:r>
              <a:rPr b="0" lang="en-US" sz="4400" spc="-1" strike="noStrike">
                <a:solidFill>
                  <a:srgbClr val="9900ff"/>
                </a:solidFill>
                <a:latin typeface="Times New Roman"/>
              </a:rPr>
              <a:t>A Unique and Important Substance</a:t>
            </a:r>
            <a:endParaRPr b="0" lang="en-US" sz="4400" spc="-1" strike="noStrike">
              <a:solidFill>
                <a:srgbClr val="9900ff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ter is found in all 3 states on the ear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 a liquid, it is the most common solvent found in na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out water, life as we know it could not ex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earch for extraterrestrial life starts with the search for wa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56A9-DE69-4B21-B78C-55F1CED0659E}" type="slidenum">
              <a:t>74</a:t>
            </a:fld>
          </a:p>
        </p:txBody>
      </p:sp>
    </p:spTree>
  </p:cSld>
  <p:transition>
    <p:fade thruBlk="true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ff"/>
                </a:solidFill>
                <a:latin typeface="Times New Roman"/>
              </a:rPr>
              <a:t>Water</a:t>
            </a:r>
            <a:endParaRPr b="0" lang="en-US" sz="4400" spc="-1" strike="noStrike">
              <a:solidFill>
                <a:srgbClr val="9900ff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quid at room tempera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 molecular substances that have a molar mass (18.02 g/mol) similar to water’s are gaseou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tively high boiling po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ands as it freez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 substances contract as they free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uses ice to be less dense than liquid wa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3" name="water" descr=""/>
          <p:cNvPicPr/>
          <p:nvPr/>
        </p:nvPicPr>
        <p:blipFill>
          <a:blip r:embed="rId1"/>
          <a:stretch/>
        </p:blipFill>
        <p:spPr>
          <a:xfrm>
            <a:off x="5791320" y="304920"/>
            <a:ext cx="2882880" cy="1993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4A7F-E2E6-4450-8035-9B19F77A1657}" type="slidenum">
              <a:t>75</a:t>
            </a:fld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ff"/>
                </a:solidFill>
                <a:latin typeface="Times New Roman"/>
              </a:rPr>
              <a:t>The Structure of </a:t>
            </a:r>
            <a:br>
              <a:rPr sz="4400"/>
            </a:br>
            <a:r>
              <a:rPr b="0" lang="en-US" sz="4400" spc="-1" strike="noStrike">
                <a:solidFill>
                  <a:srgbClr val="9900ff"/>
                </a:solidFill>
                <a:latin typeface="Times New Roman"/>
              </a:rPr>
              <a:t>Solids, Liquid and Gases</a:t>
            </a:r>
            <a:endParaRPr b="0" lang="en-US" sz="4400" spc="-1" strike="noStrike">
              <a:solidFill>
                <a:srgbClr val="9900ff"/>
              </a:solidFill>
              <a:latin typeface="Times New Roman"/>
            </a:endParaRPr>
          </a:p>
        </p:txBody>
      </p:sp>
      <p:pic>
        <p:nvPicPr>
          <p:cNvPr id="63" name="12_01" descr=""/>
          <p:cNvPicPr/>
          <p:nvPr/>
        </p:nvPicPr>
        <p:blipFill>
          <a:blip r:embed="rId1"/>
          <a:stretch/>
        </p:blipFill>
        <p:spPr>
          <a:xfrm>
            <a:off x="914400" y="2514600"/>
            <a:ext cx="7315200" cy="3403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2FAA-A6B5-49B5-853E-A1220B74BB6F}" type="slidenum">
              <a:t>8</a:t>
            </a:fld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ff"/>
                </a:solidFill>
                <a:latin typeface="Times New Roman"/>
              </a:rPr>
              <a:t>Gases</a:t>
            </a:r>
            <a:endParaRPr b="0" lang="en-US" sz="4400" spc="-1" strike="noStrike">
              <a:solidFill>
                <a:srgbClr val="9900ff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e gas state, the particles have complete freedom from each o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articles are constantly flying around, bumping into each other and the contain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e gas state, there is a lot of empty space between the partic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averag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F619-77CB-4A81-8C9D-39E6D044B4CF}" type="slidenum">
              <a:t>9</a:t>
            </a:fld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7T14:53:03Z</dcterms:created>
  <dc:creator>Roy Kennedy</dc:creator>
  <dc:description/>
  <dc:language>en-US</dc:language>
  <cp:lastModifiedBy>WLCSC</cp:lastModifiedBy>
  <dcterms:modified xsi:type="dcterms:W3CDTF">2007-02-27T18:01:53Z</dcterms:modified>
  <cp:revision>46</cp:revision>
  <dc:subject/>
  <dc:title>Introductory Chemistry, 2nd Edition Nivaldo Tro</dc:title>
</cp:coreProperties>
</file>